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964996-308F-45FB-9589-5B42CEB0F2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2F343C-0A44-4831-A0FE-56544BE835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2A23C0-EFC3-4237-94E5-9B4B6C56A8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411-E98A-49D1-A018-16DE9EC7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EA9-A239-4999-A109-C1C2D544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401C8-E564-4C02-A173-0B248F8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65A91-1E94-4789-913E-518F41F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F497C-2CD9-476B-8D8F-059C163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A83B2-807D-47D3-80B0-D1B35A2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D43C8-79C5-466F-A1BD-1839D0F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2EDA-2217-4825-B8AC-78FA1AA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E5406-FBB0-4A45-8CE2-C06EFC54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F9548-5FC0-4B63-9628-2F3C0892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08134-A6A4-4AA8-8E2E-40FBD881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7396-9494-413B-9586-3AA0DC79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CA0-64C3-4C42-ACB4-6BBDF78B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EECC3-8A06-422F-B15A-90EB304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47315-A202-4C36-82E2-1D0860EF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50A03-6200-4AFC-B823-BEA74F86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BE8F6-EB83-4D5D-90B9-04061D3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FED5B-C9EB-46A7-8DCE-CC7B250F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83061-B585-4490-B3F9-04FA43A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662FC-F3DC-47EF-ABE7-3D82837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0637E-125B-4320-B7AB-3AF1FA8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1C87D-E481-42EA-B98A-A83F375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DAB6F-A3D8-4B00-872F-FD811F6B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D13-B6D0-4611-BDD3-512E3AFD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BC148-E3E2-4B47-9904-40A58B19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8752-C625-4217-8497-5071C580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FA296-B673-4836-9490-7EDAB05B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50AEE-E239-418C-85EC-5264A67C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C112-1686-4250-A638-82C4A87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372F1-CD57-49CB-AA0B-3FBFBFFF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76433-1240-4675-B822-89680DE7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58D7B-31FE-47BE-AFD7-243DB71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C9CC4-345B-4585-9988-6864E7E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0AF56-CBE7-4588-8D83-2EAAAEA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075-7A79-4741-80E3-A117BBF1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D7995-6245-4032-B2AA-9B09EFD2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9367E-0246-48D8-BD7A-0154DBEE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2158F-1C72-4549-ABBA-E9256251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81AA3-EBDF-4B64-8B3C-B9B8DEA0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9DBC0-2464-452B-BD03-42540474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397F1-E468-43EE-8AC7-3329C00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BC090-07CE-4C4A-B034-8B8D1DC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D2871-00AD-4210-861B-AEA3E0E6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705C2-89A1-4A5D-A155-C46A758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DE861-027C-438E-A02F-95891CC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3695-915A-44FD-8EC6-B55DB1E7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D2C62-ABAE-4765-A857-2804B09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443EA-221A-4120-A9F9-8E3169B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DB086-899C-47D7-AB6B-5C79D475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DDD1B-957D-46D8-B7E0-D023788F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F66D6-B3A0-4128-9462-B03C0A53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7983-A182-48A4-A555-6E1031A9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F41-7C25-495F-9B28-897F353E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2F7-45B9-4799-9F9E-2DCEED0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C88D-3DC2-417E-AC8A-F275332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3405-4550-45FC-A916-46AAEC5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AC6-D0F1-4D39-87A9-B56BD982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0535-3170-4402-9FAB-5A867D8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FC0-ECA9-4367-8536-F023581E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A492-8ACD-4B0C-98FD-0F08E49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872-149D-4B0D-ADD3-FC626DC8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81C8-3E0D-4245-A93F-9CEE5F85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B9B6-B39E-4638-B6B2-73EE8E1F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CDC6-D30C-4A56-AAA2-0490BDD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5C8A-21BE-4571-A9E0-C9FFDBD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C587-AF3D-48FB-91BA-B3870776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2541-7F1B-438E-B397-F02FE771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A7A-105D-4765-8B45-83540D0B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C02A-4D47-4208-8BF7-B2C23ED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3988-CAA4-49D5-A620-FA0E74D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1E91-3136-43B3-B9B3-ACF7445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26A1-FA05-4E6E-8645-64CB6CC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41F4-AC58-413F-9F50-4A06D7A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C8A7-C1F7-4870-8A39-3B7058AA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AF02D-945E-442E-AC94-58DB52BE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BCC5-657A-4D46-A155-28B3D01A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8E62-ABD0-4235-A24C-E241FC0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B449-E8FF-4107-B1A5-0BA6FF3D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D0F-5671-4E57-B749-D0CF896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6991-4110-4556-935F-0E3B93B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D4BC-0425-4E09-B826-45D6964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B1859-F5BE-4CA1-BEFB-5E6D7EC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8BB1-A2A6-4DE3-AF3A-2862295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53FFF-1524-4EA3-914D-5C10FB4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2DC35-B9C5-4A76-B461-4888ACA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B0A9-DD81-47FA-AA6A-B108EDB9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0211-0895-4DD9-BEA0-FA4BBC48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A038-C6D3-48DD-98CF-40C44994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1A77-1045-4720-BE2C-17DBABD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46D-7E74-4510-8348-36D2528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E3E6-67EC-4119-A2F1-59DF0AE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14BF-16DF-417D-B37C-BF4886F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AC31-1F6B-4AFE-97BF-E1FA7274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819C-1731-49D0-9828-DF153CB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B23B-34D8-4606-A672-65A0FC27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017B8-4B31-421F-8731-D3BD84C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0C4C-D242-437E-BFB6-2DA502C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DE85-D8AA-4C8C-B2BF-6C626483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39A81-E94D-4FC2-BE23-EE0C51F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8E65B-8D4E-42DF-B519-534FE95E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1CC-DAC4-4D70-A998-5801411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82B9-7C1F-4444-B23C-E1A325D5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2BA5-617F-4EEA-8BCD-E6CE8A08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B3F0-06CF-44C1-92CF-5C95F26E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3996B-901C-4D78-A2CF-D2FF4296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5E0A0-249D-4FDB-B4C1-2AB0AD0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04BE-7754-4CF6-8FCE-DA942049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89FD-67E2-475A-A210-3F64E7E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9F42-55B9-4924-9702-BE58CC7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7832-A063-48BC-B592-E5E5ED0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9FD1-8109-4D40-BC02-32AB203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434-D00A-4E22-939E-D2A941E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A78A1-9C80-4A90-8E43-070A28A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88A91-DC65-4E6B-A969-1967B759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36DE-4591-4071-8FD9-F2A175A0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1DF6-3CA0-4EC9-AE77-A777829F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2249-EAE4-4B0B-8B30-05A127A9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BC670-11CA-430D-A73A-51ECFABA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638B-A119-4BAC-A8B4-39C3965E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DF77-C32C-4FE1-A059-B555F800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7840-0D84-439E-AE5A-E5D3A5C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D818-A4BB-40D2-A3F6-1C6DB22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A10-A289-4136-838B-4D0D9A3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3EE3-9FEE-4103-AF93-64A6B49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D10B-F886-4C49-9742-FF78077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F1E1E-F918-4B76-844F-FF35BFB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0518D-8E74-4157-8F8C-8E777CF4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AD3F9-2B22-48CB-96C5-A1BFD64F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1326-FC0B-4253-B79A-B0BD9B7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6786-F513-46A6-96B4-0CD8B846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C76CB-4231-468B-9B1A-14640009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B2A9-5EC4-45B3-AD3E-979601C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FDBBB-57FF-4114-82DF-3A7C63F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5E3-AF7E-421E-804B-B149FCC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921A-E7B2-41D3-8471-2756E7D0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94C4-D449-41A2-88BB-300EACA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AF73A-8BFD-4F57-92A7-617D48E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C9108-C583-4E9D-83A2-56F8396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404E4-C03F-4891-857F-585EF626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B7814-A37E-4A75-8B06-B4911E6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3C71-0BF8-4CD4-AE5E-F588C18B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C403-DC9D-47F2-B900-1A9363B5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71930-8A62-4DF8-976B-4517994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11A13-AB42-48A0-8CA5-22E4B26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977C23A-66FB-4DA2-BB28-7A11850C888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6F54-E8E3-40DF-BF28-4D2898F6CB4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B12E-2142-4A19-AEB9-D6F8A74E33E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B90-2874-4D3E-8B3A-86214A8AB2A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C3EC-B5E2-4AD2-B9A8-794F5DA567B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58A-4BCC-4C7D-9FE9-187EEAC8E26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1EC-A409-4E51-9BBD-BB4C53F0C46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1B0-1D8C-4508-A75A-054238A96CE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F9F6-0CA4-4971-A8D1-A862EF92C3E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4DF0-EC75-4119-9C27-4A3E90E4919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9AAC-6A4C-4ACE-AE68-C784E887A66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540-AFF9-48F3-90C9-42CEC7A8D8C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An Example of a “Plain Vanilla” Interest Rate Swap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46000" y="2138400"/>
            <a:ext cx="75758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by Microsoft to receive 6-month LIBOR &amp; pay a fixed rate of 5% per annum every 6 months for 3 years on a notional principal of $10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illustrates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A58A-081B-4724-A61A-253466DA121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Value of Floating Rate Bond (</a:t>
            </a:r>
            <a:r>
              <a:rPr b="1" i="1" lang="en-CA" sz="3900" spc="-1" strike="noStrike">
                <a:solidFill>
                  <a:srgbClr val="7c1302"/>
                </a:solidFill>
                <a:latin typeface="Times New Roman"/>
              </a:rPr>
              <a:t>L</a:t>
            </a: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=Principal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457200" y="2071800"/>
            <a:ext cx="7162920" cy="3720600"/>
            <a:chOff x="457200" y="2071800"/>
            <a:chExt cx="7162920" cy="3720600"/>
          </a:xfrm>
        </p:grpSpPr>
        <p:sp>
          <p:nvSpPr>
            <p:cNvPr id="1036" name="Straight Connector 7"/>
            <p:cNvSpPr/>
            <p:nvPr/>
          </p:nvSpPr>
          <p:spPr>
            <a:xfrm>
              <a:off x="1143000" y="4516560"/>
              <a:ext cx="43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Straight Connector 8"/>
            <p:cNvSpPr/>
            <p:nvPr/>
          </p:nvSpPr>
          <p:spPr>
            <a:xfrm flipH="1">
              <a:off x="114120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Straight Connector 9"/>
            <p:cNvSpPr/>
            <p:nvPr/>
          </p:nvSpPr>
          <p:spPr>
            <a:xfrm flipH="1">
              <a:off x="213192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Straight Connector 10"/>
            <p:cNvSpPr/>
            <p:nvPr/>
          </p:nvSpPr>
          <p:spPr>
            <a:xfrm flipH="1">
              <a:off x="403704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Straight Connector 11"/>
            <p:cNvSpPr/>
            <p:nvPr/>
          </p:nvSpPr>
          <p:spPr>
            <a:xfrm>
              <a:off x="5410440" y="4516560"/>
              <a:ext cx="1523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17"/>
            <p:cNvSpPr/>
            <p:nvPr/>
          </p:nvSpPr>
          <p:spPr>
            <a:xfrm>
              <a:off x="99036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18"/>
            <p:cNvSpPr/>
            <p:nvPr/>
          </p:nvSpPr>
          <p:spPr>
            <a:xfrm>
              <a:off x="198108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0"/>
            <p:cNvSpPr/>
            <p:nvPr/>
          </p:nvSpPr>
          <p:spPr>
            <a:xfrm>
              <a:off x="457200" y="46011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ation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Box 22"/>
            <p:cNvSpPr/>
            <p:nvPr/>
          </p:nvSpPr>
          <p:spPr>
            <a:xfrm>
              <a:off x="1676160" y="460116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loating Pmt 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23"/>
            <p:cNvSpPr/>
            <p:nvPr/>
          </p:nvSpPr>
          <p:spPr>
            <a:xfrm>
              <a:off x="3429000" y="4601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mt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4"/>
            <p:cNvSpPr/>
            <p:nvPr/>
          </p:nvSpPr>
          <p:spPr>
            <a:xfrm>
              <a:off x="6477120" y="4854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turity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18"/>
            <p:cNvSpPr/>
            <p:nvPr/>
          </p:nvSpPr>
          <p:spPr>
            <a:xfrm flipH="1">
              <a:off x="7009200" y="4433760"/>
              <a:ext cx="2880" cy="16956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29"/>
            <p:cNvSpPr/>
            <p:nvPr/>
          </p:nvSpPr>
          <p:spPr>
            <a:xfrm>
              <a:off x="3809880" y="3167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9" name="Straight Arrow Connector 20"/>
            <p:cNvCxnSpPr>
              <a:endCxn id="1042" idx="2"/>
            </p:cNvCxnSpPr>
            <p:nvPr/>
          </p:nvCxnSpPr>
          <p:spPr>
            <a:xfrm flipH="1">
              <a:off x="2170800" y="3505320"/>
              <a:ext cx="2019960" cy="100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0" name="TextBox 34"/>
            <p:cNvSpPr/>
            <p:nvPr/>
          </p:nvSpPr>
          <p:spPr>
            <a:xfrm>
              <a:off x="1447560" y="3083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Straight Arrow Connector 22"/>
            <p:cNvCxnSpPr/>
            <p:nvPr/>
          </p:nvCxnSpPr>
          <p:spPr>
            <a:xfrm>
              <a:off x="1903680" y="3757320"/>
              <a:ext cx="153000" cy="75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2" name="TextBox 45"/>
            <p:cNvSpPr/>
            <p:nvPr/>
          </p:nvSpPr>
          <p:spPr>
            <a:xfrm>
              <a:off x="1295280" y="20718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PV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3" name="Straight Arrow Connector 24"/>
            <p:cNvCxnSpPr>
              <a:endCxn id="1041" idx="2"/>
            </p:cNvCxnSpPr>
            <p:nvPr/>
          </p:nvCxnSpPr>
          <p:spPr>
            <a:xfrm flipH="1">
              <a:off x="1180440" y="2746440"/>
              <a:ext cx="419760" cy="175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54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4D04-9C02-4606-B2C6-7496A3D3400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y six-month LIBOR, receive 8% (semi-annual compounding) on a principal of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ining life 1.25 years  ((15 month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BOR rates for 3-months, 9-months and 15-months are 10%, 10.5%, and 11% (cont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-month LIBOR on last payment date was 10.2% (s.a. compo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7A02-9978-44F3-9485-13E88B75913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ED3E-8F2B-4125-BC58-56BD188B8B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826920" y="1483920"/>
            <a:ext cx="2449800" cy="403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55640" y="5734080"/>
            <a:ext cx="6696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 = 2 Log (  1  +  .102/2)  = 0.09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 Payment  =  100 x Exp (0.5 x  .09948)  =  10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74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4A19-6DCE-4E2A-9723-51384BB5DB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916360" y="1628280"/>
            <a:ext cx="1150920" cy="374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76360" y="5373720"/>
            <a:ext cx="36003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-.25 x.1) = .9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.75 x .105) =  .9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1.25 x .11)  =  .8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40A-3193-4D25-A8EF-572626C6DE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4360" y="544500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ixed Leg = 4  x .97   + 4 x .92  +  104 x .87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98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1D0-9492-48F1-9E3F-EBE5353653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9280" y="4869000"/>
            <a:ext cx="84250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loating Leg  = 105.1  x  .9753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10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WAP  = $ 4.3 mill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rom the viewpoint of the FIXED L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FRA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229536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change of payments in an interest rate swap is an 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s can be valued on the assumption that today’s forward rates ar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88DD-B370-4AA3-9D94-1B97D30DB3C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5C3C-F78B-4B02-A31F-272D2DF590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042920" y="3141360"/>
            <a:ext cx="244944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79280" y="4005360"/>
            <a:ext cx="84963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rate  = 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 /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.105   x .75 -      .10   x .25)/.5   = .1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.5  x  .1075) = 1.055 implies  an interest  payment of  5.5 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1F82-1B5B-46E3-920F-2DA10282E59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6000" y="4869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 value as 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08360" y="3644640"/>
            <a:ext cx="3527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n Example of a 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164960" y="1901880"/>
            <a:ext cx="739620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to pay 5% on a sterling principal of £1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6% on a US$ principal of $18,000,000 every year for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B09B-DD39-4319-BCED-8B48FD1A1A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57"/>
          <p:cNvGrpSpPr/>
          <p:nvPr/>
        </p:nvGrpSpPr>
        <p:grpSpPr>
          <a:xfrm>
            <a:off x="1065240" y="1214280"/>
            <a:ext cx="7081200" cy="4737960"/>
            <a:chOff x="1065240" y="1214280"/>
            <a:chExt cx="7081200" cy="4737960"/>
          </a:xfrm>
        </p:grpSpPr>
        <p:sp>
          <p:nvSpPr>
            <p:cNvPr id="900" name="Rectangle 2"/>
            <p:cNvSpPr/>
            <p:nvPr/>
          </p:nvSpPr>
          <p:spPr>
            <a:xfrm>
              <a:off x="1065240" y="1214280"/>
              <a:ext cx="298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"/>
            <p:cNvSpPr/>
            <p:nvPr/>
          </p:nvSpPr>
          <p:spPr>
            <a:xfrm>
              <a:off x="3875040" y="3306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4"/>
            <p:cNvSpPr/>
            <p:nvPr/>
          </p:nvSpPr>
          <p:spPr>
            <a:xfrm>
              <a:off x="3875040" y="370692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"/>
            <p:cNvSpPr/>
            <p:nvPr/>
          </p:nvSpPr>
          <p:spPr>
            <a:xfrm>
              <a:off x="3875040" y="41324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3875040" y="4557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"/>
            <p:cNvSpPr/>
            <p:nvPr/>
          </p:nvSpPr>
          <p:spPr>
            <a:xfrm>
              <a:off x="3875040" y="498312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8"/>
            <p:cNvSpPr/>
            <p:nvPr/>
          </p:nvSpPr>
          <p:spPr>
            <a:xfrm>
              <a:off x="3875040" y="53960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9"/>
            <p:cNvSpPr/>
            <p:nvPr/>
          </p:nvSpPr>
          <p:spPr>
            <a:xfrm>
              <a:off x="1220760" y="17017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1220760" y="17017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1"/>
            <p:cNvSpPr/>
            <p:nvPr/>
          </p:nvSpPr>
          <p:spPr>
            <a:xfrm>
              <a:off x="1220760" y="29671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2"/>
            <p:cNvSpPr/>
            <p:nvPr/>
          </p:nvSpPr>
          <p:spPr>
            <a:xfrm>
              <a:off x="1220760" y="29671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3"/>
            <p:cNvSpPr/>
            <p:nvPr/>
          </p:nvSpPr>
          <p:spPr>
            <a:xfrm>
              <a:off x="1220760" y="591660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4"/>
            <p:cNvSpPr/>
            <p:nvPr/>
          </p:nvSpPr>
          <p:spPr>
            <a:xfrm>
              <a:off x="1220760" y="591660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5"/>
            <p:cNvSpPr/>
            <p:nvPr/>
          </p:nvSpPr>
          <p:spPr>
            <a:xfrm>
              <a:off x="4167360" y="1762200"/>
              <a:ext cx="371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--------Millions of Dollars--------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6"/>
            <p:cNvSpPr/>
            <p:nvPr/>
          </p:nvSpPr>
          <p:spPr>
            <a:xfrm>
              <a:off x="3108960" y="218448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"/>
            <p:cNvSpPr/>
            <p:nvPr/>
          </p:nvSpPr>
          <p:spPr>
            <a:xfrm>
              <a:off x="4121640" y="2184480"/>
              <a:ext cx="152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8"/>
            <p:cNvSpPr/>
            <p:nvPr/>
          </p:nvSpPr>
          <p:spPr>
            <a:xfrm>
              <a:off x="5645160" y="218448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9"/>
            <p:cNvSpPr/>
            <p:nvPr/>
          </p:nvSpPr>
          <p:spPr>
            <a:xfrm>
              <a:off x="7149240" y="218448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0"/>
            <p:cNvSpPr/>
            <p:nvPr/>
          </p:nvSpPr>
          <p:spPr>
            <a:xfrm>
              <a:off x="17182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32230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2"/>
            <p:cNvSpPr/>
            <p:nvPr/>
          </p:nvSpPr>
          <p:spPr>
            <a:xfrm>
              <a:off x="41889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547164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67575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5"/>
            <p:cNvSpPr/>
            <p:nvPr/>
          </p:nvSpPr>
          <p:spPr>
            <a:xfrm>
              <a:off x="1326600" y="302724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6"/>
            <p:cNvSpPr/>
            <p:nvPr/>
          </p:nvSpPr>
          <p:spPr>
            <a:xfrm>
              <a:off x="3166560" y="30272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1210680" y="344808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3166560" y="34480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4403880" y="34480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67216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695808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1316880" y="386856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3166560" y="38685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4403880" y="38685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67216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695808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1201320" y="429084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8"/>
            <p:cNvSpPr/>
            <p:nvPr/>
          </p:nvSpPr>
          <p:spPr>
            <a:xfrm>
              <a:off x="3166560" y="42908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440388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5672160" y="429084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697104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1326600" y="471168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3166560" y="47116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40388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672160" y="47116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697104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210680" y="513396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3166560" y="5133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440388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5672160" y="51339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697104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52"/>
            <p:cNvSpPr/>
            <p:nvPr/>
          </p:nvSpPr>
          <p:spPr>
            <a:xfrm>
              <a:off x="1326600" y="555480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53"/>
            <p:cNvSpPr/>
            <p:nvPr/>
          </p:nvSpPr>
          <p:spPr>
            <a:xfrm>
              <a:off x="3166560" y="555480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.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54"/>
            <p:cNvSpPr/>
            <p:nvPr/>
          </p:nvSpPr>
          <p:spPr>
            <a:xfrm>
              <a:off x="440388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55"/>
            <p:cNvSpPr/>
            <p:nvPr/>
          </p:nvSpPr>
          <p:spPr>
            <a:xfrm>
              <a:off x="5672160" y="555480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6"/>
            <p:cNvSpPr/>
            <p:nvPr/>
          </p:nvSpPr>
          <p:spPr>
            <a:xfrm>
              <a:off x="697104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74480" y="210600"/>
            <a:ext cx="820404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Cash Flows to Microsoft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6" name="Slide Number Placeholder 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CAB8-5F92-451B-9DC5-598CCC7952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change of Principal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607760" y="206676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interest rate swap the principal is not ex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urrency swap the principal is exchanged at the beginning and the end of th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C22F-0F5A-4954-9790-798AD9F030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ash Flows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2975400" y="23446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2990880" y="1501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2990880" y="273060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"/>
          <p:cNvSpPr/>
          <p:nvPr/>
        </p:nvSpPr>
        <p:spPr>
          <a:xfrm>
            <a:off x="3124080" y="541008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2990880" y="5722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3921480" y="1579680"/>
            <a:ext cx="113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5123880" y="157968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0"/>
          <p:cNvSpPr/>
          <p:nvPr/>
        </p:nvSpPr>
        <p:spPr>
          <a:xfrm>
            <a:off x="4232160" y="194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3868920" y="2344680"/>
            <a:ext cx="24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millions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895480" y="2787480"/>
            <a:ext cx="119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3733920" y="2787480"/>
            <a:ext cx="14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016600" y="2787480"/>
            <a:ext cx="138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2895480" y="320976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7"/>
          <p:cNvSpPr/>
          <p:nvPr/>
        </p:nvSpPr>
        <p:spPr>
          <a:xfrm>
            <a:off x="4080600" y="3189240"/>
            <a:ext cx="104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8"/>
          <p:cNvSpPr/>
          <p:nvPr/>
        </p:nvSpPr>
        <p:spPr>
          <a:xfrm>
            <a:off x="5153400" y="32097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819520" y="36576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3973680" y="363060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5153400" y="36306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2819520" y="405144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3973680" y="405144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5153400" y="40514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5"/>
          <p:cNvSpPr/>
          <p:nvPr/>
        </p:nvSpPr>
        <p:spPr>
          <a:xfrm>
            <a:off x="2895480" y="44956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6"/>
          <p:cNvSpPr/>
          <p:nvPr/>
        </p:nvSpPr>
        <p:spPr>
          <a:xfrm>
            <a:off x="3973320" y="4473720"/>
            <a:ext cx="121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27"/>
          <p:cNvSpPr/>
          <p:nvPr/>
        </p:nvSpPr>
        <p:spPr>
          <a:xfrm>
            <a:off x="5153400" y="447372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8"/>
          <p:cNvSpPr/>
          <p:nvPr/>
        </p:nvSpPr>
        <p:spPr>
          <a:xfrm>
            <a:off x="2819520" y="489420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9"/>
          <p:cNvSpPr/>
          <p:nvPr/>
        </p:nvSpPr>
        <p:spPr>
          <a:xfrm>
            <a:off x="3975120" y="489420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5154480" y="489420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4"/>
          <p:cNvSpPr/>
          <p:nvPr/>
        </p:nvSpPr>
        <p:spPr>
          <a:xfrm>
            <a:off x="5439600" y="19461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05E2-B909-4BC2-B52E-7918AA7358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ypical Uses of a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9560" y="2205000"/>
            <a:ext cx="719280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 liability in one currency to a liability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n investment in one currency to an investment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059-8049-4CA5-9B5B-FBB0F7A643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omparative Advantage Arguments for Currency Swap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104840" y="1774800"/>
            <a:ext cx="7345440" cy="14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otors wants to borrow 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ntas wants to borrow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8"/>
          <p:cNvGrpSpPr/>
          <p:nvPr/>
        </p:nvGrpSpPr>
        <p:grpSpPr>
          <a:xfrm>
            <a:off x="1618920" y="3267000"/>
            <a:ext cx="5184720" cy="1671120"/>
            <a:chOff x="1618920" y="3267000"/>
            <a:chExt cx="5184720" cy="1671120"/>
          </a:xfrm>
        </p:grpSpPr>
        <p:sp>
          <p:nvSpPr>
            <p:cNvPr id="1173" name="Line 4"/>
            <p:cNvSpPr/>
            <p:nvPr/>
          </p:nvSpPr>
          <p:spPr>
            <a:xfrm>
              <a:off x="1631880" y="32670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1631880" y="32670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1631880" y="392436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"/>
            <p:cNvSpPr/>
            <p:nvPr/>
          </p:nvSpPr>
          <p:spPr>
            <a:xfrm>
              <a:off x="1631880" y="392436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1631880" y="48816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9"/>
            <p:cNvSpPr/>
            <p:nvPr/>
          </p:nvSpPr>
          <p:spPr>
            <a:xfrm>
              <a:off x="1631880" y="48816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3935520" y="3405240"/>
              <a:ext cx="90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5617440" y="3405240"/>
              <a:ext cx="82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"/>
            <p:cNvSpPr/>
            <p:nvPr/>
          </p:nvSpPr>
          <p:spPr>
            <a:xfrm>
              <a:off x="1618920" y="400212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eral Mo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3"/>
            <p:cNvSpPr/>
            <p:nvPr/>
          </p:nvSpPr>
          <p:spPr>
            <a:xfrm>
              <a:off x="3840840" y="400212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4"/>
            <p:cNvSpPr/>
            <p:nvPr/>
          </p:nvSpPr>
          <p:spPr>
            <a:xfrm>
              <a:off x="5455440" y="400212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5"/>
            <p:cNvSpPr/>
            <p:nvPr/>
          </p:nvSpPr>
          <p:spPr>
            <a:xfrm>
              <a:off x="1622880" y="44798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6"/>
            <p:cNvSpPr/>
            <p:nvPr/>
          </p:nvSpPr>
          <p:spPr>
            <a:xfrm>
              <a:off x="3840840" y="447984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7"/>
            <p:cNvSpPr/>
            <p:nvPr/>
          </p:nvSpPr>
          <p:spPr>
            <a:xfrm>
              <a:off x="5455440" y="447984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682-3C8E-4ED9-B592-92BCBAF43D6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95280" y="544500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GM wants to borrow 20 million AUD and Qantas needs 12 million USD  (1 USD  =  1.666   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116000" y="2565360"/>
            <a:ext cx="1224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2565360"/>
            <a:ext cx="1008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2565360"/>
            <a:ext cx="115236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03280" y="2924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                                 arranger                                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50920" y="2997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885080" y="306864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58920" y="558972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2637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812000" y="32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84360" y="306864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3640" y="299736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11280" y="3213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1.9%                       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3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55564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55600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USD                      6.3%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90760" y="5032440"/>
            <a:ext cx="69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 = 6.3  + 11.9  -  5  -13  =   20  basis points   WHY 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Why The Swap?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For example….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2133720" y="32767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4724280" y="32767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5"/>
          <p:cNvSpPr/>
          <p:nvPr/>
        </p:nvSpPr>
        <p:spPr>
          <a:xfrm>
            <a:off x="3075120" y="3859200"/>
            <a:ext cx="2189160" cy="368280"/>
          </a:xfrm>
          <a:prstGeom prst="rightArrow">
            <a:avLst>
              <a:gd name="adj1" fmla="val 50000"/>
              <a:gd name="adj2" fmla="val 2972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6"/>
          <p:cNvSpPr/>
          <p:nvPr/>
        </p:nvSpPr>
        <p:spPr>
          <a:xfrm>
            <a:off x="2906640" y="2820960"/>
            <a:ext cx="2210040" cy="347760"/>
          </a:xfrm>
          <a:prstGeom prst="leftArrow">
            <a:avLst>
              <a:gd name="adj1" fmla="val 50000"/>
              <a:gd name="adj2" fmla="val 31454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7"/>
          <p:cNvSpPr/>
          <p:nvPr/>
        </p:nvSpPr>
        <p:spPr>
          <a:xfrm>
            <a:off x="6272280" y="3435480"/>
            <a:ext cx="1638360" cy="304560"/>
          </a:xfrm>
          <a:prstGeom prst="rightArrow">
            <a:avLst>
              <a:gd name="adj1" fmla="val 50000"/>
              <a:gd name="adj2" fmla="val 2829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8"/>
          <p:cNvSpPr/>
          <p:nvPr/>
        </p:nvSpPr>
        <p:spPr>
          <a:xfrm>
            <a:off x="493560" y="3478320"/>
            <a:ext cx="1659240" cy="282600"/>
          </a:xfrm>
          <a:prstGeom prst="leftArrow">
            <a:avLst>
              <a:gd name="adj1" fmla="val 50000"/>
              <a:gd name="adj2" fmla="val 29353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557880" y="444168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3661920" y="223992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6180120" y="3890880"/>
            <a:ext cx="190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732960" y="293832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140C-5A13-4D79-AB46-688E596C7F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5229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has transformed a Floating Rate loan (L + 1%) into a Fixed Rate loan (5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 more realistic situation…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780000" y="3573360"/>
            <a:ext cx="14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7"/>
          <p:cNvSpPr/>
          <p:nvPr/>
        </p:nvSpPr>
        <p:spPr>
          <a:xfrm>
            <a:off x="4979880" y="3963960"/>
            <a:ext cx="1363680" cy="411120"/>
          </a:xfrm>
          <a:prstGeom prst="rightArrow">
            <a:avLst>
              <a:gd name="adj1" fmla="val 50000"/>
              <a:gd name="adj2" fmla="val 1658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8"/>
          <p:cNvSpPr/>
          <p:nvPr/>
        </p:nvSpPr>
        <p:spPr>
          <a:xfrm>
            <a:off x="2589120" y="3986280"/>
            <a:ext cx="1405080" cy="368280"/>
          </a:xfrm>
          <a:prstGeom prst="rightArrow">
            <a:avLst>
              <a:gd name="adj1" fmla="val 50000"/>
              <a:gd name="adj2" fmla="val 19078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9"/>
          <p:cNvSpPr/>
          <p:nvPr/>
        </p:nvSpPr>
        <p:spPr>
          <a:xfrm>
            <a:off x="2567160" y="3075120"/>
            <a:ext cx="1342800" cy="347400"/>
          </a:xfrm>
          <a:prstGeom prst="leftArrow">
            <a:avLst>
              <a:gd name="adj1" fmla="val 50000"/>
              <a:gd name="adj2" fmla="val 1871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0"/>
          <p:cNvSpPr/>
          <p:nvPr/>
        </p:nvSpPr>
        <p:spPr>
          <a:xfrm>
            <a:off x="4979880" y="3097080"/>
            <a:ext cx="1363680" cy="368280"/>
          </a:xfrm>
          <a:prstGeom prst="leftArrow">
            <a:avLst>
              <a:gd name="adj1" fmla="val 50000"/>
              <a:gd name="adj2" fmla="val 1851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1"/>
          <p:cNvSpPr/>
          <p:nvPr/>
        </p:nvSpPr>
        <p:spPr>
          <a:xfrm>
            <a:off x="7391520" y="3733920"/>
            <a:ext cx="1257120" cy="274680"/>
          </a:xfrm>
          <a:prstGeom prst="rightArrow">
            <a:avLst>
              <a:gd name="adj1" fmla="val 50000"/>
              <a:gd name="adj2" fmla="val 2288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2"/>
          <p:cNvSpPr/>
          <p:nvPr/>
        </p:nvSpPr>
        <p:spPr>
          <a:xfrm>
            <a:off x="684360" y="3695760"/>
            <a:ext cx="960120" cy="295200"/>
          </a:xfrm>
          <a:prstGeom prst="leftArrow">
            <a:avLst>
              <a:gd name="adj1" fmla="val 50000"/>
              <a:gd name="adj2" fmla="val 1626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2562480" y="450540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4996080" y="448452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6794640" y="414504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2675880" y="24526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9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4961880" y="24940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8"/>
          <p:cNvSpPr/>
          <p:nvPr/>
        </p:nvSpPr>
        <p:spPr>
          <a:xfrm>
            <a:off x="563040" y="319248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9"/>
          <p:cNvSpPr/>
          <p:nvPr/>
        </p:nvSpPr>
        <p:spPr>
          <a:xfrm>
            <a:off x="167652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609588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93F-6103-40CE-9B95-7710DE467B9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39640" y="5589720"/>
            <a:ext cx="60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ranger gets involved in the middle…  arranger gets a fee [3  basis  points], MS pays  5.1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924360" y="3141720"/>
            <a:ext cx="1008000" cy="1152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140360" y="155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427280" y="1844640"/>
            <a:ext cx="215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Quotes By a Swap Market Maker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85800" y="1773360"/>
          <a:ext cx="7989840" cy="3755880"/>
        </p:xfrm>
        <a:graphic>
          <a:graphicData uri="http://schemas.openxmlformats.org/drawingml/2006/table">
            <a:tbl>
              <a:tblPr/>
              <a:tblGrid>
                <a:gridCol w="1996920"/>
                <a:gridCol w="1602000"/>
                <a:gridCol w="1800000"/>
                <a:gridCol w="2590920"/>
              </a:tblGrid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 Rat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5500-8E25-4DAF-B8AD-E9A1A888142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omparative Advantage Argument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643896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Corp wants to borrow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BCorp wants to borrow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 loan (5 years, US$ 1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19"/>
          <p:cNvGrpSpPr/>
          <p:nvPr/>
        </p:nvGrpSpPr>
        <p:grpSpPr>
          <a:xfrm>
            <a:off x="611280" y="2492280"/>
            <a:ext cx="5092920" cy="2527200"/>
            <a:chOff x="611280" y="2492280"/>
            <a:chExt cx="5092920" cy="2527200"/>
          </a:xfrm>
        </p:grpSpPr>
        <p:sp>
          <p:nvSpPr>
            <p:cNvPr id="998" name="Line 4"/>
            <p:cNvSpPr/>
            <p:nvPr/>
          </p:nvSpPr>
          <p:spPr>
            <a:xfrm>
              <a:off x="731160" y="299484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5"/>
            <p:cNvSpPr/>
            <p:nvPr/>
          </p:nvSpPr>
          <p:spPr>
            <a:xfrm>
              <a:off x="731160" y="299484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1160" y="381960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731160" y="381960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731160" y="501552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"/>
            <p:cNvSpPr/>
            <p:nvPr/>
          </p:nvSpPr>
          <p:spPr>
            <a:xfrm>
              <a:off x="731160" y="501552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0"/>
            <p:cNvSpPr/>
            <p:nvPr/>
          </p:nvSpPr>
          <p:spPr>
            <a:xfrm>
              <a:off x="611280" y="2492280"/>
              <a:ext cx="34488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1"/>
            <p:cNvSpPr/>
            <p:nvPr/>
          </p:nvSpPr>
          <p:spPr>
            <a:xfrm>
              <a:off x="1970280" y="322524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2"/>
            <p:cNvSpPr/>
            <p:nvPr/>
          </p:nvSpPr>
          <p:spPr>
            <a:xfrm>
              <a:off x="3591720" y="322524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3"/>
            <p:cNvSpPr/>
            <p:nvPr/>
          </p:nvSpPr>
          <p:spPr>
            <a:xfrm>
              <a:off x="723240" y="397224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AA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4"/>
            <p:cNvSpPr/>
            <p:nvPr/>
          </p:nvSpPr>
          <p:spPr>
            <a:xfrm>
              <a:off x="1957680" y="397224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15"/>
            <p:cNvSpPr/>
            <p:nvPr/>
          </p:nvSpPr>
          <p:spPr>
            <a:xfrm>
              <a:off x="2882520" y="397224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− 0.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16"/>
            <p:cNvSpPr/>
            <p:nvPr/>
          </p:nvSpPr>
          <p:spPr>
            <a:xfrm>
              <a:off x="724320" y="457272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BB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7"/>
            <p:cNvSpPr/>
            <p:nvPr/>
          </p:nvSpPr>
          <p:spPr>
            <a:xfrm>
              <a:off x="1957680" y="457272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18"/>
            <p:cNvSpPr/>
            <p:nvPr/>
          </p:nvSpPr>
          <p:spPr>
            <a:xfrm>
              <a:off x="2882520" y="457272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+ 0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539640" y="5805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ating rate difference is 120 basis pts, the fixed rate difference is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693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2071800" y="3357720"/>
            <a:ext cx="16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5429160" y="3357720"/>
            <a:ext cx="178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BB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3429000" y="4000680"/>
            <a:ext cx="2400480" cy="452160"/>
          </a:xfrm>
          <a:prstGeom prst="rightArrow">
            <a:avLst>
              <a:gd name="adj1" fmla="val 50000"/>
              <a:gd name="adj2" fmla="val 26547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3357720" y="2786040"/>
            <a:ext cx="2214360" cy="495360"/>
          </a:xfrm>
          <a:prstGeom prst="leftArrow">
            <a:avLst>
              <a:gd name="adj1" fmla="val 50000"/>
              <a:gd name="adj2" fmla="val 240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"/>
          <p:cNvSpPr/>
          <p:nvPr/>
        </p:nvSpPr>
        <p:spPr>
          <a:xfrm>
            <a:off x="7215120" y="3429000"/>
            <a:ext cx="1509840" cy="351000"/>
          </a:xfrm>
          <a:prstGeom prst="rightArrow">
            <a:avLst>
              <a:gd name="adj1" fmla="val 50000"/>
              <a:gd name="adj2" fmla="val 28346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"/>
          <p:cNvSpPr/>
          <p:nvPr/>
        </p:nvSpPr>
        <p:spPr>
          <a:xfrm>
            <a:off x="285840" y="3500280"/>
            <a:ext cx="1428840" cy="285840"/>
          </a:xfrm>
          <a:prstGeom prst="leftArrow">
            <a:avLst>
              <a:gd name="adj1" fmla="val 50000"/>
              <a:gd name="adj2" fmla="val 29427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0"/>
          <p:cNvSpPr/>
          <p:nvPr/>
        </p:nvSpPr>
        <p:spPr>
          <a:xfrm>
            <a:off x="3929040" y="4632480"/>
            <a:ext cx="133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"/>
          <p:cNvSpPr/>
          <p:nvPr/>
        </p:nvSpPr>
        <p:spPr>
          <a:xfrm>
            <a:off x="7000920" y="3849840"/>
            <a:ext cx="21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2"/>
          <p:cNvSpPr/>
          <p:nvPr/>
        </p:nvSpPr>
        <p:spPr>
          <a:xfrm>
            <a:off x="4149000" y="219852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1164600" y="285444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C3BA-083E-4410-B8BA-4B656FE6C71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84360" y="5516640"/>
            <a:ext cx="748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 pays 4.35% + 0.6% =  4.95%  (lower than  5.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 pays  LIBOR - .35% (better than L  -  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of an Interest Rat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swaps can be valued as the difference between the value of a fixed-rate bond and the value of a floating-rat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they can be valued as a portfolio of forward rate agreements (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277E-C9C1-4A06-935C-573868ED65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Bond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xed rate bond is valued in the usu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ating rate bond is valued by noting that it is worth par immediately after the next paymen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721A-CC2A-4D15-9BE4-1AB13FC926C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09:26:34Z</dcterms:created>
  <dc:creator>John C. Hull</dc:creator>
  <dc:description>Copyright 2010 by John C. Hull.
All rights reserved. Published 2010.</dc:description>
  <cp:keywords>Chapter 7</cp:keywords>
  <dc:language>en-US</dc:language>
  <cp:lastModifiedBy>VCHARLIN</cp:lastModifiedBy>
  <cp:lastPrinted>2001-05-03T11:40:36Z</cp:lastPrinted>
  <dcterms:modified xsi:type="dcterms:W3CDTF">2010-10-05T13:29:57Z</dcterms:modified>
  <cp:revision>71</cp:revision>
  <dc:subject>Fundamentals of Futures and Options Markets, 7E</dc:subject>
  <dc:title>Swaps</dc:title>
</cp:coreProperties>
</file>