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dt" idx="3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ftr" idx="38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sldNum" idx="39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AC1F86-D2F2-473A-B8A7-2722E0ECB8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 type="sldImg"/>
          </p:nvPr>
        </p:nvSpPr>
        <p:spPr>
          <a:xfrm>
            <a:off x="1127160" y="69228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move the slid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Slide Number Placeholder 3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B58B56-A88C-4B59-932E-7427E649DD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Slide Number Placeholder 3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318CB6-8633-4F41-9021-BCEB400580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706-B9BD-4DB8-9040-8B2EDF61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DE4-0B6E-46CB-9CC0-B424F99E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1FB14-AF72-45B1-B540-552787CC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77D16-D64D-4791-A4DF-9C7F1A29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522C7-632E-42B2-8A71-5CA10624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51B1C-2DD0-4F81-82C1-350DA633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908ED-066D-4055-A9C2-8B1DA366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362AC-C382-45B6-B9F3-7C80DDFF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B3724-6DD5-490A-9869-D1D1FEFB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5CE6D-8769-4CC7-AC90-317D72A8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21A6A-51DB-42DB-8B72-4200036C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1C704-B8C6-4016-8DD7-B756DEB3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C1F-DFB7-425C-BE25-CC6B553C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0B230-3C0A-451A-B28A-28D2CE52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10509-C581-449F-A5F4-4BF34480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D17BA-07FB-426B-8207-161AD79E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68F44-46B0-4EAB-AF4E-47D4B23A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CC725-A7FD-40A6-BE6C-8A512553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A0A9C-DDF0-4171-8F81-A5744818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76047-6648-4385-BC85-9175C471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AB6A3-986D-43B3-ABBB-E446483B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6D1CA-7CCA-4AF4-BD66-1C077946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89409-E71C-4A17-9CBD-615CDB04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937-B20A-49F2-A854-871689CD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E248C-CBA5-4690-8B1E-304B3A98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AC04B-B969-4F12-8BB5-0BA3207D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553F0-177F-41D1-8DE5-DA088B37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3D74F-B214-4E18-AE1F-3AFCDA21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A3C16-12DF-418D-AC91-2CCFBC14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8D11C-9099-49A1-A492-08EEB13E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F7B5B-1513-4ADB-969E-22D1C7B2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D1639-3867-485C-88F8-D25A0F8A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79E19-C38A-4496-B2FF-E7EF7C4B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70F85-7FEF-4952-92EB-928AD07D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C87E-9F9C-4392-A0F9-FFB562AB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6407C-B634-4C4E-86C5-97D6C7FC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2434C-1A04-4C16-BF2D-186CECDC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C7CD9-26BC-4280-B88A-15E423FD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975D4-DC12-4BB9-9F8D-A09D8B50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29EE0-7F13-481E-928B-6A22953A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87A9C-409F-4E2E-8C35-7B7E724D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171D5-4817-4B9A-BA98-0BC8A64F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FF6B6-721F-47EE-A682-F6582F51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E19ED-89A7-49D1-9232-B7081951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71D7E-8455-4AF0-A670-A086EB19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07AC-4B96-4233-9376-F6D2DB42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66FBE-3806-4701-943E-CA31DEE8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5F187-8333-40B5-91F7-FF04544A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9E263-8A3F-42B7-88CE-B211DC3A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3E81D-3F1E-4C5E-B688-02DDFF77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C91FD-DE6F-4015-8CDD-0F8FAA27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A327-DE1B-404C-BC91-77541415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001B-BB91-4468-8C9C-0F47BBFD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6F43-D4D6-413B-974C-C565E8F7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6225-EF3C-4CC1-AADC-DA7C43BB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E99C-E623-4553-B90B-42896EA9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C02-0C42-4DAA-BD9B-395EA7D5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13D4-4839-4465-9FC2-A03D87BC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6932-906F-4267-AB48-313C6383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2E04-8410-408A-9A3D-A33FF903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8F46-D8ED-45FC-8016-1483F8F3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163F-AC11-4D36-8634-AC92C340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E1A1D-DD9D-4E0F-A63F-B3B7D124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C910B-5613-4C92-ADA1-CC35CF80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A8664-3890-4F1E-9B1C-867A0825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E95A-4C0A-4751-92B3-39E3A4BE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74CDA-9B74-4B33-812E-44BEF7F2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6FB-F5A3-4584-9720-18110F11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B2D8-5512-49C3-8F3E-1C3E64BF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25457-C429-436E-9B4B-7AEB585F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23E7D-D25F-4A3D-A58C-39D25E7F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6C61-FCB8-4B63-881D-728777FB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6D90B-DB19-4F36-9CAC-4E974606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902B3-A8F4-4113-A3C8-90A2D8DB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9A58D-557B-4683-9021-3C20497E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12AAF-38F6-4DDD-B37F-6AA72AB3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CFE99-FBA7-4DE3-83BD-FFEBFF96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2FFAE-BD9B-4B73-9ED3-FB43326C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89C-6F81-40F5-97F3-7855653F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63BF1-8929-405E-9A90-C3E94574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5CB6B-2975-46B7-807F-F080E54B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5064D-DD86-4882-B43E-232D2CB3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2C873-6EE2-4915-8154-424EC94B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5BFFF-5544-461C-9337-AF1D8E32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48B27-73B0-404C-AF17-3BE32FCC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08CD5-600E-4DD2-99F1-B8E0916B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BA236-655A-4E30-A4EC-114398C4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2D0B7-AF2C-49AD-A7A2-D1DA9E73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6C5D4-FA60-4E08-925B-01262478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6FD-1FC1-4143-8559-A836EF9A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1EEBC-9C20-4C34-B47F-CB6084EF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13498-000C-47B0-B067-A9C25DE3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E0877-BECD-4B1F-8C69-B8C6B730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34FDD-DC72-469A-A34E-0023EFE0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71605-F79D-4AD6-9137-F09C27BD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2CA22-B20E-4E05-B18F-FED57899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ABC72-3518-4EE9-B16B-E1D08EB0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AF611-B67D-4AAE-8364-475D171D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F0B92-FA46-4BB5-8B6D-E058B6A4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EF2EC-035E-4A4C-93F7-511904DA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357B-094B-4228-911B-F5728052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84587-A6EF-4530-8146-0F0AE6DC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833A5-5F71-43E0-87B0-DB3B2A1D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2C7A9-7DD0-48D2-B52C-749A490C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B5591-7D60-4DA0-8464-6E86CEA5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E4032-C3E3-49B5-9144-6E7E17E3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99EDF-47B0-4FF1-BA40-258F0C9C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993EE-5BC1-48D6-88E6-C1774DC1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31FD1-FD39-4669-B9F5-C4175F48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932E7-3D04-43F5-876D-1C6471AE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2B9FB-1CB5-4813-8C02-9D0CEA59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75E-A823-4431-B2E5-F12F7435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B7199-6CE5-4938-8859-C4D79895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643CB-D229-47DF-B05A-0CD10586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A5636-EE3F-4788-8345-48372AD6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7A4BC-3D6E-44A9-A21D-7E1D1D49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E78BD-9C80-4C85-ACF7-47B4CFEA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745E4-F83A-437B-BE6C-C891D645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494DE-AB0C-4C85-9CB0-718AAFB0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684F2-12D6-4F42-8F0C-D3CCDC89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CE772-8605-4BAE-82E5-36DB09BF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F7455-4128-4317-B256-C1E252BB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6AD-7015-444D-888E-08B00D82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B9042-BCAF-4868-B365-A1398B90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AFA32-16B2-443C-B52B-81D11DA8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42A71-9C93-4C0A-8EC3-75B32154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0CEE2-5EDC-4424-988E-6F8023E6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E201A-D5D3-409D-8949-FAD4B7A0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A4A41-281C-4939-9923-3C5AAA32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F4BD8-819A-4536-BC74-59E554BE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59EA3-D069-4168-87E6-062335A2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F8EE0-A878-4710-B5A1-87744F9E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54092-E9D0-4663-A16E-B47557BF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CC3-A1FC-4A4E-A09F-59235582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C1806-170B-4658-9F57-5D9077EC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56DDE-538B-4F63-880F-F789ED1D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2C563-2ABE-4091-B3A2-6DD85C8A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764C8-9C4F-419C-A433-AA943D30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DBD92-3667-4BC8-8A70-734265B3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F68CA-8FA9-4775-9AF6-B70019EA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6E7CE-3AF7-4211-9A65-8D7E6928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F07E3-0848-463C-AA4E-168A2D7B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EDCD0-164C-4C91-BECE-AC01B14E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5EEF2-FC36-44D2-AE27-D63F90D2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BD1853A4-A34E-4A3D-91B4-7A5B270E152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29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10CE-7A8D-4D97-86F2-4CF35E2BACD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3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219C-A1D1-4323-B84B-0464B45A99A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3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1C4F-3FE3-4F2E-BA9C-20C3EEC3E99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05A1-9647-4A1D-ABF4-4982AFE593A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8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9628-511C-438A-9FF0-E20D18EEEB2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413D-6BF2-4110-B393-CB274970884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EAA8-7D38-4AB4-9175-D7BE4395D5B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7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96AC-6160-4D0C-AC2F-950C878EA91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0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A563-43F7-48C4-8FF5-2207DD11DEB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3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5B0C-4C6D-4C29-858D-186CCC6FE076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DDBF-D996-4950-BFE4-E9D3A9F40AE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5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An Example of a “Plain Vanilla” Interest Rate Swap</a:t>
            </a: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46000" y="2138400"/>
            <a:ext cx="7575840" cy="41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greement by Microsoft to receive 6-month LIBOR &amp; pay a fixed rate of 5% per annum every 6 months for 3 years on a notional principal of $100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lide illustrates cash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F520-772E-4023-B6FF-37A2ED0D48A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7c1302"/>
                </a:solidFill>
                <a:latin typeface="Times New Roman"/>
              </a:rPr>
              <a:t>Value of Floating Rate Bond (</a:t>
            </a:r>
            <a:r>
              <a:rPr b="1" i="1" lang="en-CA" sz="3900" spc="-1" strike="noStrike">
                <a:solidFill>
                  <a:srgbClr val="7c1302"/>
                </a:solidFill>
                <a:latin typeface="Times New Roman"/>
              </a:rPr>
              <a:t>L</a:t>
            </a:r>
            <a:r>
              <a:rPr b="1" lang="en-CA" sz="3900" spc="-1" strike="noStrike">
                <a:solidFill>
                  <a:srgbClr val="7c1302"/>
                </a:solidFill>
                <a:latin typeface="Times New Roman"/>
              </a:rPr>
              <a:t>=Principal)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grpSp>
        <p:nvGrpSpPr>
          <p:cNvPr id="1035" name="Group 6"/>
          <p:cNvGrpSpPr/>
          <p:nvPr/>
        </p:nvGrpSpPr>
        <p:grpSpPr>
          <a:xfrm>
            <a:off x="457200" y="2071800"/>
            <a:ext cx="7162920" cy="3720600"/>
            <a:chOff x="457200" y="2071800"/>
            <a:chExt cx="7162920" cy="3720600"/>
          </a:xfrm>
        </p:grpSpPr>
        <p:sp>
          <p:nvSpPr>
            <p:cNvPr id="1036" name="Straight Connector 7"/>
            <p:cNvSpPr/>
            <p:nvPr/>
          </p:nvSpPr>
          <p:spPr>
            <a:xfrm>
              <a:off x="1143000" y="4516560"/>
              <a:ext cx="4343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Straight Connector 8"/>
            <p:cNvSpPr/>
            <p:nvPr/>
          </p:nvSpPr>
          <p:spPr>
            <a:xfrm flipH="1">
              <a:off x="1141200" y="4433760"/>
              <a:ext cx="288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Straight Connector 9"/>
            <p:cNvSpPr/>
            <p:nvPr/>
          </p:nvSpPr>
          <p:spPr>
            <a:xfrm flipH="1">
              <a:off x="2131920" y="4433760"/>
              <a:ext cx="288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Straight Connector 10"/>
            <p:cNvSpPr/>
            <p:nvPr/>
          </p:nvSpPr>
          <p:spPr>
            <a:xfrm flipH="1">
              <a:off x="4037040" y="4433760"/>
              <a:ext cx="288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Straight Connector 11"/>
            <p:cNvSpPr/>
            <p:nvPr/>
          </p:nvSpPr>
          <p:spPr>
            <a:xfrm>
              <a:off x="5410440" y="4516560"/>
              <a:ext cx="1523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Box 17"/>
            <p:cNvSpPr/>
            <p:nvPr/>
          </p:nvSpPr>
          <p:spPr>
            <a:xfrm>
              <a:off x="990360" y="4095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Box 18"/>
            <p:cNvSpPr/>
            <p:nvPr/>
          </p:nvSpPr>
          <p:spPr>
            <a:xfrm>
              <a:off x="1981080" y="4095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Box 20"/>
            <p:cNvSpPr/>
            <p:nvPr/>
          </p:nvSpPr>
          <p:spPr>
            <a:xfrm>
              <a:off x="457200" y="460116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ation 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Box 22"/>
            <p:cNvSpPr/>
            <p:nvPr/>
          </p:nvSpPr>
          <p:spPr>
            <a:xfrm>
              <a:off x="1676160" y="4601160"/>
              <a:ext cx="11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st Pm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loating Pmt 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Box 23"/>
            <p:cNvSpPr/>
            <p:nvPr/>
          </p:nvSpPr>
          <p:spPr>
            <a:xfrm>
              <a:off x="3429000" y="46011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c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mt 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Box 24"/>
            <p:cNvSpPr/>
            <p:nvPr/>
          </p:nvSpPr>
          <p:spPr>
            <a:xfrm>
              <a:off x="6477120" y="48542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aturity 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Straight Connector 18"/>
            <p:cNvSpPr/>
            <p:nvPr/>
          </p:nvSpPr>
          <p:spPr>
            <a:xfrm flipH="1">
              <a:off x="7009200" y="4433760"/>
              <a:ext cx="2880" cy="169560"/>
            </a:xfrm>
            <a:prstGeom prst="line">
              <a:avLst/>
            </a:prstGeom>
            <a:ln w="9360">
              <a:solidFill>
                <a:srgbClr val="cc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Box 29"/>
            <p:cNvSpPr/>
            <p:nvPr/>
          </p:nvSpPr>
          <p:spPr>
            <a:xfrm>
              <a:off x="3809880" y="31676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9" name="Straight Arrow Connector 20"/>
            <p:cNvCxnSpPr>
              <a:endCxn id="1042" idx="2"/>
            </p:cNvCxnSpPr>
            <p:nvPr/>
          </p:nvCxnSpPr>
          <p:spPr>
            <a:xfrm flipH="1">
              <a:off x="2170800" y="3505320"/>
              <a:ext cx="2019960" cy="100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50" name="TextBox 34"/>
            <p:cNvSpPr/>
            <p:nvPr/>
          </p:nvSpPr>
          <p:spPr>
            <a:xfrm>
              <a:off x="1447560" y="30834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1" name="Straight Arrow Connector 22"/>
            <p:cNvCxnSpPr/>
            <p:nvPr/>
          </p:nvCxnSpPr>
          <p:spPr>
            <a:xfrm>
              <a:off x="1903680" y="3757320"/>
              <a:ext cx="153000" cy="75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52" name="TextBox 45"/>
            <p:cNvSpPr/>
            <p:nvPr/>
          </p:nvSpPr>
          <p:spPr>
            <a:xfrm>
              <a:off x="1295280" y="207180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 = PV of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3" name="Straight Arrow Connector 24"/>
            <p:cNvCxnSpPr>
              <a:endCxn id="1041" idx="2"/>
            </p:cNvCxnSpPr>
            <p:nvPr/>
          </p:nvCxnSpPr>
          <p:spPr>
            <a:xfrm flipH="1">
              <a:off x="1180440" y="2746440"/>
              <a:ext cx="419760" cy="175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54" name="Slide Number Placeholder 2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56BA-1022-431E-9F6B-DCC32CE4114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7c1302"/>
                </a:solidFill>
                <a:latin typeface="Times New Roman"/>
              </a:rPr>
              <a:t>Examp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y six-month LIBOR, receive 8% (semi-annual compounding) on a principal of $10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maining life 1.25 years  ((15 months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BOR rates for 3-months, 9-months and 15-months are 10%, 10.5%, and 11% (cont co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-month LIBOR on last payment date was 10.2% (s.a. compou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80D2-3BFB-4F27-B78D-D77A4BF506C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59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0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CEEC-BA0C-4065-95AC-3EECABB78FC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826920" y="1483920"/>
            <a:ext cx="2449800" cy="403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55640" y="5734080"/>
            <a:ext cx="66960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 = 2 Log (  1  +  .102/2)  = 0.099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ing  Payment  =  100 x Exp (0.5 x  .09948)  =  10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74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07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4887-E167-49C1-8464-EA0AC0917BF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2916360" y="1628280"/>
            <a:ext cx="1150920" cy="374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476360" y="5373720"/>
            <a:ext cx="36003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(-.25 x.1) = .97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(-.75 x .105) =  .9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(-1.25 x .11)  =  .87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89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09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5FCA-FBD8-4638-927E-E7E92C7643D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84360" y="5445000"/>
            <a:ext cx="755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Fixed Leg = 4  x .97   + 4 x .92  +  104 x .87  =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  98.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103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10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541D-09E4-441E-A5C4-85933D9385C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79280" y="4869000"/>
            <a:ext cx="842508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Floating Leg  = 105.1  x  .9753  =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  10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SWAP  = $ 4.3 mill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rom the viewpoint of the FIXED L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aluation in Terms of FRA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2295360"/>
            <a:ext cx="822960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xchange of payments in an interest rate swap is an 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s can be valued on the assumption that today’s forward rates are re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F7D2-71C0-413E-BBD0-B01A3F723D7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Examp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120" name="Picture 4" descr=""/>
          <p:cNvPicPr/>
          <p:nvPr/>
        </p:nvPicPr>
        <p:blipFill>
          <a:blip r:embed="rId1"/>
          <a:stretch/>
        </p:blipFill>
        <p:spPr>
          <a:xfrm>
            <a:off x="-828720" y="1557360"/>
            <a:ext cx="10429920" cy="2486160"/>
          </a:xfrm>
          <a:prstGeom prst="rect">
            <a:avLst/>
          </a:prstGeom>
          <a:ln w="0">
            <a:noFill/>
          </a:ln>
        </p:spPr>
      </p:pic>
      <p:sp>
        <p:nvSpPr>
          <p:cNvPr id="1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E33E-8410-46CD-BFAE-58723180E4A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042920" y="3141360"/>
            <a:ext cx="244944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971640" y="537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79280" y="4005360"/>
            <a:ext cx="849636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rate  = 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) / 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.105   x .75 -      .10   x .25)/.5   = .1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(.5  x  .1075) = 1.055 implies  an interest  payment of  5.5 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Examp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-828720" y="1557360"/>
            <a:ext cx="10429920" cy="2486160"/>
          </a:xfrm>
          <a:prstGeom prst="rect">
            <a:avLst/>
          </a:prstGeom>
          <a:ln w="0">
            <a:noFill/>
          </a:ln>
        </p:spPr>
      </p:pic>
      <p:sp>
        <p:nvSpPr>
          <p:cNvPr id="11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FFA3-1E27-4DF4-8BEB-BDE95AC3A9E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971640" y="537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116000" y="486900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 value as 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3708360" y="3644640"/>
            <a:ext cx="352764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An Example of a Currency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164960" y="1901880"/>
            <a:ext cx="7396200" cy="347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greement to pay 5% on a sterling principal of £10,00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6% on a US$ principal of $18,000,000 every year for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D7DC-98D7-487D-9626-827B595D57D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57"/>
          <p:cNvGrpSpPr/>
          <p:nvPr/>
        </p:nvGrpSpPr>
        <p:grpSpPr>
          <a:xfrm>
            <a:off x="1065240" y="1214280"/>
            <a:ext cx="7081200" cy="4737960"/>
            <a:chOff x="1065240" y="1214280"/>
            <a:chExt cx="7081200" cy="4737960"/>
          </a:xfrm>
        </p:grpSpPr>
        <p:sp>
          <p:nvSpPr>
            <p:cNvPr id="900" name="Rectangle 2"/>
            <p:cNvSpPr/>
            <p:nvPr/>
          </p:nvSpPr>
          <p:spPr>
            <a:xfrm>
              <a:off x="1065240" y="1214280"/>
              <a:ext cx="2987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3"/>
            <p:cNvSpPr/>
            <p:nvPr/>
          </p:nvSpPr>
          <p:spPr>
            <a:xfrm>
              <a:off x="3875040" y="3306600"/>
              <a:ext cx="6350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4"/>
            <p:cNvSpPr/>
            <p:nvPr/>
          </p:nvSpPr>
          <p:spPr>
            <a:xfrm>
              <a:off x="3875040" y="3706920"/>
              <a:ext cx="6350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5"/>
            <p:cNvSpPr/>
            <p:nvPr/>
          </p:nvSpPr>
          <p:spPr>
            <a:xfrm>
              <a:off x="3875040" y="4132440"/>
              <a:ext cx="6350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6"/>
            <p:cNvSpPr/>
            <p:nvPr/>
          </p:nvSpPr>
          <p:spPr>
            <a:xfrm>
              <a:off x="3875040" y="4557600"/>
              <a:ext cx="6350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7"/>
            <p:cNvSpPr/>
            <p:nvPr/>
          </p:nvSpPr>
          <p:spPr>
            <a:xfrm>
              <a:off x="3875040" y="4983120"/>
              <a:ext cx="6350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8"/>
            <p:cNvSpPr/>
            <p:nvPr/>
          </p:nvSpPr>
          <p:spPr>
            <a:xfrm>
              <a:off x="3875040" y="5396040"/>
              <a:ext cx="6350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9"/>
            <p:cNvSpPr/>
            <p:nvPr/>
          </p:nvSpPr>
          <p:spPr>
            <a:xfrm>
              <a:off x="1220760" y="1701720"/>
              <a:ext cx="68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10"/>
            <p:cNvSpPr/>
            <p:nvPr/>
          </p:nvSpPr>
          <p:spPr>
            <a:xfrm>
              <a:off x="1220760" y="1701720"/>
              <a:ext cx="6850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11"/>
            <p:cNvSpPr/>
            <p:nvPr/>
          </p:nvSpPr>
          <p:spPr>
            <a:xfrm>
              <a:off x="1220760" y="2967120"/>
              <a:ext cx="68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12"/>
            <p:cNvSpPr/>
            <p:nvPr/>
          </p:nvSpPr>
          <p:spPr>
            <a:xfrm>
              <a:off x="1220760" y="2967120"/>
              <a:ext cx="6850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13"/>
            <p:cNvSpPr/>
            <p:nvPr/>
          </p:nvSpPr>
          <p:spPr>
            <a:xfrm>
              <a:off x="1220760" y="5916600"/>
              <a:ext cx="68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14"/>
            <p:cNvSpPr/>
            <p:nvPr/>
          </p:nvSpPr>
          <p:spPr>
            <a:xfrm>
              <a:off x="1220760" y="5916600"/>
              <a:ext cx="6850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15"/>
            <p:cNvSpPr/>
            <p:nvPr/>
          </p:nvSpPr>
          <p:spPr>
            <a:xfrm>
              <a:off x="4167360" y="1762200"/>
              <a:ext cx="3716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--------Millions of Dollars--------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16"/>
            <p:cNvSpPr/>
            <p:nvPr/>
          </p:nvSpPr>
          <p:spPr>
            <a:xfrm>
              <a:off x="3108960" y="2184480"/>
              <a:ext cx="94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7"/>
            <p:cNvSpPr/>
            <p:nvPr/>
          </p:nvSpPr>
          <p:spPr>
            <a:xfrm>
              <a:off x="4121640" y="2184480"/>
              <a:ext cx="152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LOAT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8"/>
            <p:cNvSpPr/>
            <p:nvPr/>
          </p:nvSpPr>
          <p:spPr>
            <a:xfrm>
              <a:off x="5645160" y="2184480"/>
              <a:ext cx="1003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IX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9"/>
            <p:cNvSpPr/>
            <p:nvPr/>
          </p:nvSpPr>
          <p:spPr>
            <a:xfrm>
              <a:off x="7149240" y="2184480"/>
              <a:ext cx="581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20"/>
            <p:cNvSpPr/>
            <p:nvPr/>
          </p:nvSpPr>
          <p:spPr>
            <a:xfrm>
              <a:off x="1718280" y="2604960"/>
              <a:ext cx="722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21"/>
            <p:cNvSpPr/>
            <p:nvPr/>
          </p:nvSpPr>
          <p:spPr>
            <a:xfrm>
              <a:off x="3223080" y="2604960"/>
              <a:ext cx="722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22"/>
            <p:cNvSpPr/>
            <p:nvPr/>
          </p:nvSpPr>
          <p:spPr>
            <a:xfrm>
              <a:off x="4188960" y="260496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23"/>
            <p:cNvSpPr/>
            <p:nvPr/>
          </p:nvSpPr>
          <p:spPr>
            <a:xfrm>
              <a:off x="5471640" y="260496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24"/>
            <p:cNvSpPr/>
            <p:nvPr/>
          </p:nvSpPr>
          <p:spPr>
            <a:xfrm>
              <a:off x="6757560" y="260496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25"/>
            <p:cNvSpPr/>
            <p:nvPr/>
          </p:nvSpPr>
          <p:spPr>
            <a:xfrm>
              <a:off x="1326600" y="302724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26"/>
            <p:cNvSpPr/>
            <p:nvPr/>
          </p:nvSpPr>
          <p:spPr>
            <a:xfrm>
              <a:off x="3166560" y="302724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27"/>
            <p:cNvSpPr/>
            <p:nvPr/>
          </p:nvSpPr>
          <p:spPr>
            <a:xfrm>
              <a:off x="1210680" y="3448080"/>
              <a:ext cx="169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pt. 5, 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28"/>
            <p:cNvSpPr/>
            <p:nvPr/>
          </p:nvSpPr>
          <p:spPr>
            <a:xfrm>
              <a:off x="3166560" y="344808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8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29"/>
            <p:cNvSpPr/>
            <p:nvPr/>
          </p:nvSpPr>
          <p:spPr>
            <a:xfrm>
              <a:off x="4403880" y="344808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30"/>
            <p:cNvSpPr/>
            <p:nvPr/>
          </p:nvSpPr>
          <p:spPr>
            <a:xfrm>
              <a:off x="5672160" y="344808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31"/>
            <p:cNvSpPr/>
            <p:nvPr/>
          </p:nvSpPr>
          <p:spPr>
            <a:xfrm>
              <a:off x="6958080" y="344808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32"/>
            <p:cNvSpPr/>
            <p:nvPr/>
          </p:nvSpPr>
          <p:spPr>
            <a:xfrm>
              <a:off x="1316880" y="386856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33"/>
            <p:cNvSpPr/>
            <p:nvPr/>
          </p:nvSpPr>
          <p:spPr>
            <a:xfrm>
              <a:off x="3166560" y="38685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34"/>
            <p:cNvSpPr/>
            <p:nvPr/>
          </p:nvSpPr>
          <p:spPr>
            <a:xfrm>
              <a:off x="4403880" y="386856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35"/>
            <p:cNvSpPr/>
            <p:nvPr/>
          </p:nvSpPr>
          <p:spPr>
            <a:xfrm>
              <a:off x="5672160" y="386856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36"/>
            <p:cNvSpPr/>
            <p:nvPr/>
          </p:nvSpPr>
          <p:spPr>
            <a:xfrm>
              <a:off x="6958080" y="386856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37"/>
            <p:cNvSpPr/>
            <p:nvPr/>
          </p:nvSpPr>
          <p:spPr>
            <a:xfrm>
              <a:off x="1201320" y="4290840"/>
              <a:ext cx="169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pt. 5, 20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38"/>
            <p:cNvSpPr/>
            <p:nvPr/>
          </p:nvSpPr>
          <p:spPr>
            <a:xfrm>
              <a:off x="3166560" y="429084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39"/>
            <p:cNvSpPr/>
            <p:nvPr/>
          </p:nvSpPr>
          <p:spPr>
            <a:xfrm>
              <a:off x="4403880" y="429084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6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40"/>
            <p:cNvSpPr/>
            <p:nvPr/>
          </p:nvSpPr>
          <p:spPr>
            <a:xfrm>
              <a:off x="5672160" y="429084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41"/>
            <p:cNvSpPr/>
            <p:nvPr/>
          </p:nvSpPr>
          <p:spPr>
            <a:xfrm>
              <a:off x="6971040" y="429084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42"/>
            <p:cNvSpPr/>
            <p:nvPr/>
          </p:nvSpPr>
          <p:spPr>
            <a:xfrm>
              <a:off x="1326600" y="471168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43"/>
            <p:cNvSpPr/>
            <p:nvPr/>
          </p:nvSpPr>
          <p:spPr>
            <a:xfrm>
              <a:off x="3166560" y="471168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44"/>
            <p:cNvSpPr/>
            <p:nvPr/>
          </p:nvSpPr>
          <p:spPr>
            <a:xfrm>
              <a:off x="4403880" y="471168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7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45"/>
            <p:cNvSpPr/>
            <p:nvPr/>
          </p:nvSpPr>
          <p:spPr>
            <a:xfrm>
              <a:off x="5672160" y="471168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46"/>
            <p:cNvSpPr/>
            <p:nvPr/>
          </p:nvSpPr>
          <p:spPr>
            <a:xfrm>
              <a:off x="6971040" y="471168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47"/>
            <p:cNvSpPr/>
            <p:nvPr/>
          </p:nvSpPr>
          <p:spPr>
            <a:xfrm>
              <a:off x="1210680" y="5133960"/>
              <a:ext cx="169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pt. 5, 20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8"/>
            <p:cNvSpPr/>
            <p:nvPr/>
          </p:nvSpPr>
          <p:spPr>
            <a:xfrm>
              <a:off x="3166560" y="5133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9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49"/>
            <p:cNvSpPr/>
            <p:nvPr/>
          </p:nvSpPr>
          <p:spPr>
            <a:xfrm>
              <a:off x="4403880" y="513396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50"/>
            <p:cNvSpPr/>
            <p:nvPr/>
          </p:nvSpPr>
          <p:spPr>
            <a:xfrm>
              <a:off x="5672160" y="513396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51"/>
            <p:cNvSpPr/>
            <p:nvPr/>
          </p:nvSpPr>
          <p:spPr>
            <a:xfrm>
              <a:off x="6971040" y="513396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52"/>
            <p:cNvSpPr/>
            <p:nvPr/>
          </p:nvSpPr>
          <p:spPr>
            <a:xfrm>
              <a:off x="1326600" y="555480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53"/>
            <p:cNvSpPr/>
            <p:nvPr/>
          </p:nvSpPr>
          <p:spPr>
            <a:xfrm>
              <a:off x="3166560" y="555480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.4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54"/>
            <p:cNvSpPr/>
            <p:nvPr/>
          </p:nvSpPr>
          <p:spPr>
            <a:xfrm>
              <a:off x="4403880" y="555480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55"/>
            <p:cNvSpPr/>
            <p:nvPr/>
          </p:nvSpPr>
          <p:spPr>
            <a:xfrm>
              <a:off x="5672160" y="555480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56"/>
            <p:cNvSpPr/>
            <p:nvPr/>
          </p:nvSpPr>
          <p:spPr>
            <a:xfrm>
              <a:off x="6971040" y="555480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74480" y="210600"/>
            <a:ext cx="8204040" cy="10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Cash Flows to Microsoft</a:t>
            </a:r>
            <a:br>
              <a:rPr sz="3500"/>
            </a:b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6" name="Slide Number Placeholder 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12D6-4FD6-4286-9DD0-614CE392FBE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Exchange of Principal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607760" y="2066760"/>
            <a:ext cx="611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 interest rate swap the principal is not ex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currency swap the principal is exchanged at the beginning and the end of the 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E8A1-E189-4099-A5DD-AE5DF841060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The Cash Flows</a:t>
            </a: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8" name="Rectangle 3"/>
          <p:cNvSpPr/>
          <p:nvPr/>
        </p:nvSpPr>
        <p:spPr>
          <a:xfrm>
            <a:off x="2975400" y="234468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4"/>
          <p:cNvSpPr/>
          <p:nvPr/>
        </p:nvSpPr>
        <p:spPr>
          <a:xfrm>
            <a:off x="2990880" y="1501920"/>
            <a:ext cx="31557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5"/>
          <p:cNvSpPr/>
          <p:nvPr/>
        </p:nvSpPr>
        <p:spPr>
          <a:xfrm>
            <a:off x="2990880" y="2730600"/>
            <a:ext cx="31557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6"/>
          <p:cNvSpPr/>
          <p:nvPr/>
        </p:nvSpPr>
        <p:spPr>
          <a:xfrm>
            <a:off x="3124080" y="5410080"/>
            <a:ext cx="316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7"/>
          <p:cNvSpPr/>
          <p:nvPr/>
        </p:nvSpPr>
        <p:spPr>
          <a:xfrm>
            <a:off x="2990880" y="5722920"/>
            <a:ext cx="31557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8"/>
          <p:cNvSpPr/>
          <p:nvPr/>
        </p:nvSpPr>
        <p:spPr>
          <a:xfrm>
            <a:off x="3921480" y="1579680"/>
            <a:ext cx="113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9"/>
          <p:cNvSpPr/>
          <p:nvPr/>
        </p:nvSpPr>
        <p:spPr>
          <a:xfrm>
            <a:off x="5123880" y="1579680"/>
            <a:ext cx="121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0"/>
          <p:cNvSpPr/>
          <p:nvPr/>
        </p:nvSpPr>
        <p:spPr>
          <a:xfrm>
            <a:off x="4232160" y="19461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2"/>
          <p:cNvSpPr/>
          <p:nvPr/>
        </p:nvSpPr>
        <p:spPr>
          <a:xfrm>
            <a:off x="3868920" y="2344680"/>
            <a:ext cx="24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-millions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13"/>
          <p:cNvSpPr/>
          <p:nvPr/>
        </p:nvSpPr>
        <p:spPr>
          <a:xfrm>
            <a:off x="2895480" y="2787480"/>
            <a:ext cx="119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14"/>
          <p:cNvSpPr/>
          <p:nvPr/>
        </p:nvSpPr>
        <p:spPr>
          <a:xfrm>
            <a:off x="3733920" y="2787480"/>
            <a:ext cx="144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5"/>
          <p:cNvSpPr/>
          <p:nvPr/>
        </p:nvSpPr>
        <p:spPr>
          <a:xfrm>
            <a:off x="5016600" y="2787480"/>
            <a:ext cx="138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6"/>
          <p:cNvSpPr/>
          <p:nvPr/>
        </p:nvSpPr>
        <p:spPr>
          <a:xfrm>
            <a:off x="2895480" y="3209760"/>
            <a:ext cx="115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17"/>
          <p:cNvSpPr/>
          <p:nvPr/>
        </p:nvSpPr>
        <p:spPr>
          <a:xfrm>
            <a:off x="4080600" y="3189240"/>
            <a:ext cx="104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8"/>
          <p:cNvSpPr/>
          <p:nvPr/>
        </p:nvSpPr>
        <p:spPr>
          <a:xfrm>
            <a:off x="5153400" y="320976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19"/>
          <p:cNvSpPr/>
          <p:nvPr/>
        </p:nvSpPr>
        <p:spPr>
          <a:xfrm>
            <a:off x="2819520" y="365760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20"/>
          <p:cNvSpPr/>
          <p:nvPr/>
        </p:nvSpPr>
        <p:spPr>
          <a:xfrm>
            <a:off x="3973680" y="3630600"/>
            <a:ext cx="112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21"/>
          <p:cNvSpPr/>
          <p:nvPr/>
        </p:nvSpPr>
        <p:spPr>
          <a:xfrm>
            <a:off x="5153400" y="363060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22"/>
          <p:cNvSpPr/>
          <p:nvPr/>
        </p:nvSpPr>
        <p:spPr>
          <a:xfrm>
            <a:off x="2819520" y="4051440"/>
            <a:ext cx="122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23"/>
          <p:cNvSpPr/>
          <p:nvPr/>
        </p:nvSpPr>
        <p:spPr>
          <a:xfrm>
            <a:off x="3973680" y="4051440"/>
            <a:ext cx="112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24"/>
          <p:cNvSpPr/>
          <p:nvPr/>
        </p:nvSpPr>
        <p:spPr>
          <a:xfrm>
            <a:off x="5153400" y="405144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5"/>
          <p:cNvSpPr/>
          <p:nvPr/>
        </p:nvSpPr>
        <p:spPr>
          <a:xfrm>
            <a:off x="2895480" y="449568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26"/>
          <p:cNvSpPr/>
          <p:nvPr/>
        </p:nvSpPr>
        <p:spPr>
          <a:xfrm>
            <a:off x="3973320" y="4473720"/>
            <a:ext cx="121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27"/>
          <p:cNvSpPr/>
          <p:nvPr/>
        </p:nvSpPr>
        <p:spPr>
          <a:xfrm>
            <a:off x="5153400" y="447372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28"/>
          <p:cNvSpPr/>
          <p:nvPr/>
        </p:nvSpPr>
        <p:spPr>
          <a:xfrm>
            <a:off x="2819520" y="4894200"/>
            <a:ext cx="122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29"/>
          <p:cNvSpPr/>
          <p:nvPr/>
        </p:nvSpPr>
        <p:spPr>
          <a:xfrm>
            <a:off x="3975120" y="4894200"/>
            <a:ext cx="112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9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30"/>
          <p:cNvSpPr/>
          <p:nvPr/>
        </p:nvSpPr>
        <p:spPr>
          <a:xfrm>
            <a:off x="5154480" y="489420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34"/>
          <p:cNvSpPr/>
          <p:nvPr/>
        </p:nvSpPr>
        <p:spPr>
          <a:xfrm>
            <a:off x="5439600" y="19461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lide Number Placeholder 3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396D-92F0-40BF-9051-02CBC00BD87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Typical Uses of a 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urrency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79560" y="2205000"/>
            <a:ext cx="7192800" cy="24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from a liability in one currency to a liability in another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from an investment in one currency to an investment in another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8144-C7A1-480F-89FE-B26E58062D7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omparative Advantage Arguments for Currency Swap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104840" y="1774800"/>
            <a:ext cx="7345440" cy="14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Motors wants to borrow 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antas wants to borrow U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18"/>
          <p:cNvGrpSpPr/>
          <p:nvPr/>
        </p:nvGrpSpPr>
        <p:grpSpPr>
          <a:xfrm>
            <a:off x="1618920" y="3267000"/>
            <a:ext cx="5184720" cy="1671120"/>
            <a:chOff x="1618920" y="3267000"/>
            <a:chExt cx="5184720" cy="1671120"/>
          </a:xfrm>
        </p:grpSpPr>
        <p:sp>
          <p:nvSpPr>
            <p:cNvPr id="1173" name="Line 4"/>
            <p:cNvSpPr/>
            <p:nvPr/>
          </p:nvSpPr>
          <p:spPr>
            <a:xfrm>
              <a:off x="1631880" y="3267000"/>
              <a:ext cx="51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5"/>
            <p:cNvSpPr/>
            <p:nvPr/>
          </p:nvSpPr>
          <p:spPr>
            <a:xfrm>
              <a:off x="1631880" y="3267000"/>
              <a:ext cx="51591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1631880" y="3924360"/>
              <a:ext cx="51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7"/>
            <p:cNvSpPr/>
            <p:nvPr/>
          </p:nvSpPr>
          <p:spPr>
            <a:xfrm>
              <a:off x="1631880" y="3924360"/>
              <a:ext cx="51591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8"/>
            <p:cNvSpPr/>
            <p:nvPr/>
          </p:nvSpPr>
          <p:spPr>
            <a:xfrm>
              <a:off x="1631880" y="4881600"/>
              <a:ext cx="51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9"/>
            <p:cNvSpPr/>
            <p:nvPr/>
          </p:nvSpPr>
          <p:spPr>
            <a:xfrm>
              <a:off x="1631880" y="4881600"/>
              <a:ext cx="51591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0"/>
            <p:cNvSpPr/>
            <p:nvPr/>
          </p:nvSpPr>
          <p:spPr>
            <a:xfrm>
              <a:off x="3935520" y="3405240"/>
              <a:ext cx="901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1"/>
            <p:cNvSpPr/>
            <p:nvPr/>
          </p:nvSpPr>
          <p:spPr>
            <a:xfrm>
              <a:off x="5617440" y="3405240"/>
              <a:ext cx="826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"/>
            <p:cNvSpPr/>
            <p:nvPr/>
          </p:nvSpPr>
          <p:spPr>
            <a:xfrm>
              <a:off x="1618920" y="400212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neral Mo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3"/>
            <p:cNvSpPr/>
            <p:nvPr/>
          </p:nvSpPr>
          <p:spPr>
            <a:xfrm>
              <a:off x="3840840" y="4002120"/>
              <a:ext cx="113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4"/>
            <p:cNvSpPr/>
            <p:nvPr/>
          </p:nvSpPr>
          <p:spPr>
            <a:xfrm>
              <a:off x="5455440" y="4002120"/>
              <a:ext cx="104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.6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5"/>
            <p:cNvSpPr/>
            <p:nvPr/>
          </p:nvSpPr>
          <p:spPr>
            <a:xfrm>
              <a:off x="1622880" y="4479840"/>
              <a:ext cx="1168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an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6"/>
            <p:cNvSpPr/>
            <p:nvPr/>
          </p:nvSpPr>
          <p:spPr>
            <a:xfrm>
              <a:off x="3840840" y="4479840"/>
              <a:ext cx="113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7"/>
            <p:cNvSpPr/>
            <p:nvPr/>
          </p:nvSpPr>
          <p:spPr>
            <a:xfrm>
              <a:off x="5455440" y="4479840"/>
              <a:ext cx="104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5E5D-E577-4D99-A8E6-1F86A90648C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95280" y="5445000"/>
            <a:ext cx="669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GM wants to borrow 20 million AUD and Qantas needs 12 million USD  (1 USD  =  1.666   A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1116000" y="2565360"/>
            <a:ext cx="1224000" cy="1008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851280" y="2565360"/>
            <a:ext cx="1008000" cy="1008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372360" y="2565360"/>
            <a:ext cx="1152360" cy="1008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403280" y="292428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                                 arranger                                 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250920" y="29973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885080" y="306864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258920" y="558972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2637000"/>
            <a:ext cx="14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D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812000" y="3284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 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484360" y="3068640"/>
            <a:ext cx="115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003640" y="2997360"/>
            <a:ext cx="115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411280" y="3213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 11.9%                       AUD 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003280" y="263700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2555640" y="263700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556000" y="22050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 USD                      6.3%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90760" y="5032440"/>
            <a:ext cx="69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r = 6.3  + 11.9  -  5  -13  =   20  basis points   WHY 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5326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Why The Swap?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For example….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8" name="Rectangle 3"/>
          <p:cNvSpPr/>
          <p:nvPr/>
        </p:nvSpPr>
        <p:spPr>
          <a:xfrm>
            <a:off x="2133720" y="32767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4724280" y="32767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utoShape 5"/>
          <p:cNvSpPr/>
          <p:nvPr/>
        </p:nvSpPr>
        <p:spPr>
          <a:xfrm>
            <a:off x="3075120" y="3859200"/>
            <a:ext cx="2189160" cy="368280"/>
          </a:xfrm>
          <a:prstGeom prst="rightArrow">
            <a:avLst>
              <a:gd name="adj1" fmla="val 50000"/>
              <a:gd name="adj2" fmla="val 2972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6"/>
          <p:cNvSpPr/>
          <p:nvPr/>
        </p:nvSpPr>
        <p:spPr>
          <a:xfrm>
            <a:off x="2906640" y="2820960"/>
            <a:ext cx="2210040" cy="347760"/>
          </a:xfrm>
          <a:prstGeom prst="leftArrow">
            <a:avLst>
              <a:gd name="adj1" fmla="val 50000"/>
              <a:gd name="adj2" fmla="val 31454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7"/>
          <p:cNvSpPr/>
          <p:nvPr/>
        </p:nvSpPr>
        <p:spPr>
          <a:xfrm>
            <a:off x="6272280" y="3435480"/>
            <a:ext cx="1638360" cy="304560"/>
          </a:xfrm>
          <a:prstGeom prst="rightArrow">
            <a:avLst>
              <a:gd name="adj1" fmla="val 50000"/>
              <a:gd name="adj2" fmla="val 28296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8"/>
          <p:cNvSpPr/>
          <p:nvPr/>
        </p:nvSpPr>
        <p:spPr>
          <a:xfrm>
            <a:off x="493560" y="3478320"/>
            <a:ext cx="1659240" cy="282600"/>
          </a:xfrm>
          <a:prstGeom prst="leftArrow">
            <a:avLst>
              <a:gd name="adj1" fmla="val 50000"/>
              <a:gd name="adj2" fmla="val 29353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3557880" y="4441680"/>
            <a:ext cx="109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3661920" y="2239920"/>
            <a:ext cx="59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1"/>
          <p:cNvSpPr/>
          <p:nvPr/>
        </p:nvSpPr>
        <p:spPr>
          <a:xfrm>
            <a:off x="6180120" y="3890880"/>
            <a:ext cx="190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+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2"/>
          <p:cNvSpPr/>
          <p:nvPr/>
        </p:nvSpPr>
        <p:spPr>
          <a:xfrm>
            <a:off x="732960" y="2938320"/>
            <a:ext cx="82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1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BB70-C6F0-4CB2-B370-064712BEB58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39640" y="5229360"/>
            <a:ext cx="79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 has transformed a Floating Rate loan (L + 1%) into a Fixed Rate loan (5.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A more realistic situation…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2068560"/>
            <a:ext cx="8229600" cy="40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780000" y="3573360"/>
            <a:ext cx="14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7"/>
          <p:cNvSpPr/>
          <p:nvPr/>
        </p:nvSpPr>
        <p:spPr>
          <a:xfrm>
            <a:off x="4979880" y="3963960"/>
            <a:ext cx="1363680" cy="411120"/>
          </a:xfrm>
          <a:prstGeom prst="rightArrow">
            <a:avLst>
              <a:gd name="adj1" fmla="val 50000"/>
              <a:gd name="adj2" fmla="val 16586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8"/>
          <p:cNvSpPr/>
          <p:nvPr/>
        </p:nvSpPr>
        <p:spPr>
          <a:xfrm>
            <a:off x="2589120" y="3986280"/>
            <a:ext cx="1405080" cy="368280"/>
          </a:xfrm>
          <a:prstGeom prst="rightArrow">
            <a:avLst>
              <a:gd name="adj1" fmla="val 50000"/>
              <a:gd name="adj2" fmla="val 19078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9"/>
          <p:cNvSpPr/>
          <p:nvPr/>
        </p:nvSpPr>
        <p:spPr>
          <a:xfrm>
            <a:off x="2567160" y="3075120"/>
            <a:ext cx="1342800" cy="347400"/>
          </a:xfrm>
          <a:prstGeom prst="leftArrow">
            <a:avLst>
              <a:gd name="adj1" fmla="val 50000"/>
              <a:gd name="adj2" fmla="val 18716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10"/>
          <p:cNvSpPr/>
          <p:nvPr/>
        </p:nvSpPr>
        <p:spPr>
          <a:xfrm>
            <a:off x="4979880" y="3097080"/>
            <a:ext cx="1363680" cy="368280"/>
          </a:xfrm>
          <a:prstGeom prst="leftArrow">
            <a:avLst>
              <a:gd name="adj1" fmla="val 50000"/>
              <a:gd name="adj2" fmla="val 18512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11"/>
          <p:cNvSpPr/>
          <p:nvPr/>
        </p:nvSpPr>
        <p:spPr>
          <a:xfrm>
            <a:off x="7391520" y="3733920"/>
            <a:ext cx="1257120" cy="274680"/>
          </a:xfrm>
          <a:prstGeom prst="rightArrow">
            <a:avLst>
              <a:gd name="adj1" fmla="val 50000"/>
              <a:gd name="adj2" fmla="val 22885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12"/>
          <p:cNvSpPr/>
          <p:nvPr/>
        </p:nvSpPr>
        <p:spPr>
          <a:xfrm>
            <a:off x="684360" y="3695760"/>
            <a:ext cx="960120" cy="295200"/>
          </a:xfrm>
          <a:prstGeom prst="leftArrow">
            <a:avLst>
              <a:gd name="adj1" fmla="val 50000"/>
              <a:gd name="adj2" fmla="val 16260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3"/>
          <p:cNvSpPr/>
          <p:nvPr/>
        </p:nvSpPr>
        <p:spPr>
          <a:xfrm>
            <a:off x="2562480" y="4505400"/>
            <a:ext cx="109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4"/>
          <p:cNvSpPr/>
          <p:nvPr/>
        </p:nvSpPr>
        <p:spPr>
          <a:xfrm>
            <a:off x="4996080" y="4484520"/>
            <a:ext cx="109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5"/>
          <p:cNvSpPr/>
          <p:nvPr/>
        </p:nvSpPr>
        <p:spPr>
          <a:xfrm>
            <a:off x="6794640" y="4145040"/>
            <a:ext cx="196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+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6"/>
          <p:cNvSpPr/>
          <p:nvPr/>
        </p:nvSpPr>
        <p:spPr>
          <a:xfrm>
            <a:off x="2675880" y="2452680"/>
            <a:ext cx="112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9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17"/>
          <p:cNvSpPr/>
          <p:nvPr/>
        </p:nvSpPr>
        <p:spPr>
          <a:xfrm>
            <a:off x="4961880" y="2494080"/>
            <a:ext cx="112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0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18"/>
          <p:cNvSpPr/>
          <p:nvPr/>
        </p:nvSpPr>
        <p:spPr>
          <a:xfrm>
            <a:off x="563040" y="3192480"/>
            <a:ext cx="82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9"/>
          <p:cNvSpPr/>
          <p:nvPr/>
        </p:nvSpPr>
        <p:spPr>
          <a:xfrm>
            <a:off x="1676520" y="35053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20"/>
          <p:cNvSpPr/>
          <p:nvPr/>
        </p:nvSpPr>
        <p:spPr>
          <a:xfrm>
            <a:off x="6095880" y="35053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9E8C-985A-4E18-A07D-8AD801E292F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39640" y="5589720"/>
            <a:ext cx="60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ranger gets involved in the middle…  arranger gets a fee [3  basis  points], MS pays  5.1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924360" y="3141720"/>
            <a:ext cx="1008000" cy="1152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140360" y="1557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4427280" y="1844640"/>
            <a:ext cx="21564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Quotes By a Swap Market Maker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685800" y="1773360"/>
          <a:ext cx="7989840" cy="3755880"/>
        </p:xfrm>
        <a:graphic>
          <a:graphicData uri="http://schemas.openxmlformats.org/drawingml/2006/table">
            <a:tbl>
              <a:tblPr/>
              <a:tblGrid>
                <a:gridCol w="1996920"/>
                <a:gridCol w="1602000"/>
                <a:gridCol w="1800000"/>
                <a:gridCol w="2590920"/>
              </a:tblGrid>
              <a:tr h="458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u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p Rate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7089-D2CA-4578-8A54-30CAE6C5F5B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The Comparative Advantage Argument</a:t>
            </a: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6438960" cy="14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ACorp wants to borrow flo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BCorp wants to borrow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need a loan (5 years, US$ 10 m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Group 19"/>
          <p:cNvGrpSpPr/>
          <p:nvPr/>
        </p:nvGrpSpPr>
        <p:grpSpPr>
          <a:xfrm>
            <a:off x="611280" y="2492280"/>
            <a:ext cx="5092920" cy="2527200"/>
            <a:chOff x="611280" y="2492280"/>
            <a:chExt cx="5092920" cy="2527200"/>
          </a:xfrm>
        </p:grpSpPr>
        <p:sp>
          <p:nvSpPr>
            <p:cNvPr id="998" name="Line 4"/>
            <p:cNvSpPr/>
            <p:nvPr/>
          </p:nvSpPr>
          <p:spPr>
            <a:xfrm>
              <a:off x="731160" y="2994840"/>
              <a:ext cx="464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5"/>
            <p:cNvSpPr/>
            <p:nvPr/>
          </p:nvSpPr>
          <p:spPr>
            <a:xfrm>
              <a:off x="731160" y="2994840"/>
              <a:ext cx="4634280" cy="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6"/>
            <p:cNvSpPr/>
            <p:nvPr/>
          </p:nvSpPr>
          <p:spPr>
            <a:xfrm>
              <a:off x="731160" y="3819600"/>
              <a:ext cx="464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7"/>
            <p:cNvSpPr/>
            <p:nvPr/>
          </p:nvSpPr>
          <p:spPr>
            <a:xfrm>
              <a:off x="731160" y="3819600"/>
              <a:ext cx="4634280" cy="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8"/>
            <p:cNvSpPr/>
            <p:nvPr/>
          </p:nvSpPr>
          <p:spPr>
            <a:xfrm>
              <a:off x="731160" y="5015520"/>
              <a:ext cx="464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9"/>
            <p:cNvSpPr/>
            <p:nvPr/>
          </p:nvSpPr>
          <p:spPr>
            <a:xfrm>
              <a:off x="731160" y="5015520"/>
              <a:ext cx="4634280" cy="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10"/>
            <p:cNvSpPr/>
            <p:nvPr/>
          </p:nvSpPr>
          <p:spPr>
            <a:xfrm>
              <a:off x="611280" y="2492280"/>
              <a:ext cx="344880" cy="5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11"/>
            <p:cNvSpPr/>
            <p:nvPr/>
          </p:nvSpPr>
          <p:spPr>
            <a:xfrm>
              <a:off x="1970280" y="322524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ix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12"/>
            <p:cNvSpPr/>
            <p:nvPr/>
          </p:nvSpPr>
          <p:spPr>
            <a:xfrm>
              <a:off x="3591720" y="3225240"/>
              <a:ext cx="116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loat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13"/>
            <p:cNvSpPr/>
            <p:nvPr/>
          </p:nvSpPr>
          <p:spPr>
            <a:xfrm>
              <a:off x="723240" y="3972240"/>
              <a:ext cx="1245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AACo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14"/>
            <p:cNvSpPr/>
            <p:nvPr/>
          </p:nvSpPr>
          <p:spPr>
            <a:xfrm>
              <a:off x="1957680" y="397224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15"/>
            <p:cNvSpPr/>
            <p:nvPr/>
          </p:nvSpPr>
          <p:spPr>
            <a:xfrm>
              <a:off x="2882520" y="3972240"/>
              <a:ext cx="28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-month LIBOR − 0.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16"/>
            <p:cNvSpPr/>
            <p:nvPr/>
          </p:nvSpPr>
          <p:spPr>
            <a:xfrm>
              <a:off x="724320" y="4572720"/>
              <a:ext cx="1245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BBCo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17"/>
            <p:cNvSpPr/>
            <p:nvPr/>
          </p:nvSpPr>
          <p:spPr>
            <a:xfrm>
              <a:off x="1957680" y="457272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2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18"/>
            <p:cNvSpPr/>
            <p:nvPr/>
          </p:nvSpPr>
          <p:spPr>
            <a:xfrm>
              <a:off x="2882520" y="4572720"/>
              <a:ext cx="28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-month LIBOR + 0.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539640" y="5805360"/>
            <a:ext cx="525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loating rate difference is 120 basis pts, the fixed rate difference is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The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6932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4"/>
          <p:cNvSpPr/>
          <p:nvPr/>
        </p:nvSpPr>
        <p:spPr>
          <a:xfrm>
            <a:off x="2071800" y="3357720"/>
            <a:ext cx="16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C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5"/>
          <p:cNvSpPr/>
          <p:nvPr/>
        </p:nvSpPr>
        <p:spPr>
          <a:xfrm>
            <a:off x="5429160" y="3357720"/>
            <a:ext cx="178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BBC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6"/>
          <p:cNvSpPr/>
          <p:nvPr/>
        </p:nvSpPr>
        <p:spPr>
          <a:xfrm>
            <a:off x="3429000" y="4000680"/>
            <a:ext cx="2400480" cy="452160"/>
          </a:xfrm>
          <a:prstGeom prst="rightArrow">
            <a:avLst>
              <a:gd name="adj1" fmla="val 50000"/>
              <a:gd name="adj2" fmla="val 26547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7"/>
          <p:cNvSpPr/>
          <p:nvPr/>
        </p:nvSpPr>
        <p:spPr>
          <a:xfrm>
            <a:off x="3357720" y="2786040"/>
            <a:ext cx="2214360" cy="495360"/>
          </a:xfrm>
          <a:prstGeom prst="leftArrow">
            <a:avLst>
              <a:gd name="adj1" fmla="val 50000"/>
              <a:gd name="adj2" fmla="val 2405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8"/>
          <p:cNvSpPr/>
          <p:nvPr/>
        </p:nvSpPr>
        <p:spPr>
          <a:xfrm>
            <a:off x="7215120" y="3429000"/>
            <a:ext cx="1509840" cy="351000"/>
          </a:xfrm>
          <a:prstGeom prst="rightArrow">
            <a:avLst>
              <a:gd name="adj1" fmla="val 50000"/>
              <a:gd name="adj2" fmla="val 28346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9"/>
          <p:cNvSpPr/>
          <p:nvPr/>
        </p:nvSpPr>
        <p:spPr>
          <a:xfrm>
            <a:off x="285840" y="3500280"/>
            <a:ext cx="1428840" cy="285840"/>
          </a:xfrm>
          <a:prstGeom prst="leftArrow">
            <a:avLst>
              <a:gd name="adj1" fmla="val 50000"/>
              <a:gd name="adj2" fmla="val 29427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0"/>
          <p:cNvSpPr/>
          <p:nvPr/>
        </p:nvSpPr>
        <p:spPr>
          <a:xfrm>
            <a:off x="3929040" y="4632480"/>
            <a:ext cx="133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1"/>
          <p:cNvSpPr/>
          <p:nvPr/>
        </p:nvSpPr>
        <p:spPr>
          <a:xfrm>
            <a:off x="7000920" y="3849840"/>
            <a:ext cx="214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+0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12"/>
          <p:cNvSpPr/>
          <p:nvPr/>
        </p:nvSpPr>
        <p:spPr>
          <a:xfrm>
            <a:off x="4149000" y="219852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3"/>
          <p:cNvSpPr/>
          <p:nvPr/>
        </p:nvSpPr>
        <p:spPr>
          <a:xfrm>
            <a:off x="1164600" y="2854440"/>
            <a:ext cx="59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1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F24E-3BF2-490B-9F24-2F718005EBE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84360" y="5516640"/>
            <a:ext cx="74880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B pays 4.35% + 0.6% =  4.95%  (lower than  5.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 pays  LIBOR - .35% (better than L  -  .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aluation of an Interest Rate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swaps can be valued as the difference between the value of a fixed-rate bond and the value of a floating-rat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ly, they can be valued as a portfolio of forward rate agreements (FR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2A7B-9254-4685-902E-17D48E5E9F5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aluation in Terms of Bond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xed rate bond is valued in the usual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oating rate bond is valued by noting that it is worth par immediately after the next payment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343E-AE98-423F-8378-5D0E9768A60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4T09:26:34Z</dcterms:created>
  <dc:creator>John C. Hull</dc:creator>
  <dc:description>Copyright 2010 by John C. Hull.
All rights reserved. Published 2010.</dc:description>
  <cp:keywords>Chapter 7</cp:keywords>
  <dc:language>en-US</dc:language>
  <cp:lastModifiedBy>VCHARLIN</cp:lastModifiedBy>
  <cp:lastPrinted>2001-05-03T11:40:36Z</cp:lastPrinted>
  <dcterms:modified xsi:type="dcterms:W3CDTF">2010-10-05T13:29:57Z</dcterms:modified>
  <cp:revision>71</cp:revision>
  <dc:subject>Fundamentals of Futures and Options Markets, 7E</dc:subject>
  <dc:title>Swaps</dc:title>
</cp:coreProperties>
</file>