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F1A36E-D409-46E8-9ED2-6B9213630C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D239F9-E071-45C4-B818-B379B8B926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385922-4E45-4E1A-82BB-804C8576B5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228-8588-4D17-BD00-4C4F0494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07B-B094-4785-8C7C-C4D10E7F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6A05B-3BF3-4537-A38A-B6296309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80B43-C8E3-4251-936F-E7D81A0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E3F01-042F-4A8D-A1D0-78CFAB3B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ED7C2-4153-45D2-8400-B923833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9CA4-D9BB-4388-A4BA-EBD9F8A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A3D43-4BE0-4152-A41D-3766125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8FEA-F52D-456F-96F6-40F3413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36272-95C8-46CB-B397-5BE865F1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A5EF5-CFE0-4BAA-92B9-02311DE4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DBC8-CBF9-4B7E-90F4-1D3E8661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A4E-B4A9-407C-8CDB-4946ACF0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E9749-BB3B-43E9-BEDC-16AEB365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14319-EC4A-49FC-994F-BBA8198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82A75-9D08-4FAF-BB29-FAACD828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E18AF-B8C7-434E-8629-7B0280C1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B8394-1291-47C0-80C6-C080C8B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5758D-36FA-473B-BC28-240EFE9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A56CB-9FCB-4D25-9545-D4160E4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DFB66-BE81-44E0-8776-B006420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A6CA5-2ABC-4D70-A517-3874DAF1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19E86-1D7E-4306-B31C-C57A0DE3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4D2-7F18-4608-981B-5036AB1B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C1A50-6851-4E9E-805E-9CAA0F5F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13E0-6C0A-4C18-9D7E-B378E68B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AB9A9-4EE7-47C4-8FD6-B8A9A6B2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9C53-F833-41A9-A0CA-5A43D01D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CDEF8-112A-4C3D-AAB0-1536783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1E60-6028-4C6C-A30C-9296CA70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F81E1-8792-4B8F-98CA-EAD1ED6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B0D08-2001-4292-925B-31510C7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6F36E-C120-4523-8701-6A5F896D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1267B-BDA7-4B24-8DA4-4BEF6A5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1958-2A99-4620-87F7-3D652F55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042C1-5C7D-4ECB-A3C7-4AD17D4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17407-1971-4F41-94F4-F041DB3B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0441B-9AD7-4767-9D4E-DC15BB0A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CEB4A-B3C0-40C0-90A0-6EA0C6DB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38E89-F30C-4DD7-9C33-525A54D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EC8F3-D656-4B2F-ACD3-8EF23C2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E6B34-6B2A-4EA3-90DB-FDFE3990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3313D-1783-4BC2-AF4C-8670A4F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F275A-1E5D-46DA-8966-512A70E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59809-4619-4051-AA63-BD8D7D1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672-676E-432F-ADD3-C3496ECD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0544A-55B6-472A-9D95-9084E18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843B7-7D6C-41F9-9F9E-9A64D45A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2D294-96AA-41E3-BA25-874A260B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8A607-F620-4EAD-A128-9570A2DC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81D2-4392-4CFB-B6E0-DBC47196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2F95-42B7-4B9B-9F14-6338AF5E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F66-EDD5-45EC-9DA2-986FB164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24F8-7CEF-4666-8A8B-C2A24DC3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CB9E-1813-4CCF-B67F-70F2E9B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ED2D-AB07-41C2-95F1-F32EE19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10E-D10C-4731-A082-B701601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B4D-23C8-4108-910B-C12114C3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564A-414E-4029-9E3F-205C21C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586C-F2DB-4060-91A5-F6DF705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FE2-1BC8-42C9-A64D-091A090D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9B8-78D0-4C1B-AFAA-A9480927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F7D9-D1FF-43C0-979B-DCAAFB05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4A35-EB25-4151-B830-36339BA6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4825-538E-486E-BBCF-4CA5019C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B703-D036-4FA6-A81D-972597D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2930-DE15-4C05-A197-0CDDB77A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6BF-2495-45A5-AAF9-FC4B831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47BF-117E-44FD-A8EE-0ADDBAE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09CE-4BC7-4659-9F06-F134EFC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8EE1-FDAC-4611-A7D8-E337EA3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ECF0-5719-4E62-9FEA-EEA805CC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1A15-01A2-483B-B247-949FA2DB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AAD2-DADA-4F05-A234-4175C137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A6EE-16CC-4F31-BCA7-BB636424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CE32-3374-43E5-A48C-50407652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31F2-759D-4BE2-8E59-1B613484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2A8B-AF47-40F1-BCB1-70EA516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91D-3A0D-4F16-804D-E41D7F1D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7F21-EA2D-41B9-AA28-8970026F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E780-2DB6-42BB-BC97-5767998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D793-7D6E-4483-B1DD-E51C0218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C4FD-0F40-47AE-BE0C-6F22F45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E544-91C5-49D3-8087-3E0787A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3D56-DE4A-4832-8D0E-FADEE76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59B4-EF56-41CD-96B1-18A3B63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1475-C836-46E4-A08C-ABBF2721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7693-57B6-4104-8639-748F1647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19EA-DAE4-4494-B8D6-E47B200A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38E-7AEC-4910-B1E4-3540ACF8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6D1B-7326-43D3-B117-2EDCFC7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EBC6-9E8E-491A-99C5-1A2FB66B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0DD5B-4629-4435-9FB3-0866071F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636C-D19B-4BDB-A99C-87D7CCA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557B3-7596-4593-9542-09C6AA1C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7A5C-C251-4F96-8FD7-1BE7D5C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5AB5-D675-46D6-8E24-D3CDC47C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3EDB-88B0-4174-BACB-B06A05A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6C24-732B-441F-9ED1-CFF4555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95DC-1203-4CF3-8888-D98C8E0C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EB4-F80B-43CA-BA4C-E730935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FA55-1755-4C4C-9375-6F74A9AE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8ED9-A32B-4290-9711-89CD62E5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57C0-FEB9-492C-9DF9-457EC8CA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833B-43C9-4FE7-ADF3-A1375FE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A17B-8487-4710-95E5-CDA58601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D293-1298-44E1-B40C-45DBFD9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95675-AA6E-4242-B7A9-DC005E0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E828D-B60E-4F2C-A4B0-F53F685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A313B-15D2-4961-85EB-D62FF61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972D-A264-4B4F-9FA0-4FA2834C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DB1-9B22-40F0-94E4-9E3AF3C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6E18D-442E-41CC-977E-F18BB37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74A2C-FB03-4DFA-8E52-9E5F59E7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CC7F-C7F8-4065-8BB5-AB29B485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83369-17CD-4CA4-AF2C-B5953EBE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93C1-9FC1-464F-A676-8D84569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97E1-4572-4A8C-986D-FDEA6F9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A240F-439A-4B37-92D5-E7632A3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22564-1483-421D-8106-A09AFC46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69C50-E800-4E6F-A81C-F35D31C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3E91-83F7-4780-859D-E146E62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3A2-E7D6-4733-B898-9D63EC14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F574-1AF5-4452-A789-E4E9F86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C389-969B-4937-BBC4-07D86D4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10EEE-A276-4A2D-B7C0-957A4DEA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6EF3E-09A5-4378-BF92-1A2539C6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54E61-DAAF-4F1F-BA4C-010F700F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4A09-4B34-4C1B-AB54-7090386D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6C5BF-825E-46AA-9A82-989840B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BF9A-1F93-450D-8860-2BE439D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FCE7-6C18-469D-BD56-C1F5B73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DB737-93B7-4F2B-B3EC-847A7075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541-BDF3-46DC-9988-A103053A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0CF9-9B4E-4397-AD1F-ABFFF73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753B-6F0F-4CB8-8DAF-1A92BE7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3358-D12B-4A4F-BEE7-51C8651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89400-8A6A-4473-B0DA-326551C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5D9E-3F44-47DA-B4EE-6FE55E7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41DD5-3692-42CE-9D0C-9287C3F0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14BE3-4D09-4BBD-8038-168C347D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213A-6350-42C0-8285-25944F17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44B9B-1FF3-4A35-8B92-387F2CE8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CEF35-BD53-498E-B329-57182B10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5526218D-B849-4469-8BEA-7B55BC95B9C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4A64-7C02-4878-BCD7-4DCA8D223EE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41EC-7493-4E68-A755-4EC189CEE6C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DA4-9466-4A45-8712-2543426EDCF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069F-AB6F-46E5-97BA-0804B304D6F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B944-5528-4E59-AFC4-A412EC54C51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C7D4-8082-442B-ADC7-A1B5DED293E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053-8BA6-419D-8D23-F5B1F6672BB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DDC1-05A0-4B13-983B-6647BC8B29E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16E-CCDF-4E4E-A27C-8409F835754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06D-CF02-4912-BEF0-30892A378FB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A511-DBEB-47D6-BE9B-FC5B61691AA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An Example of a “Plain Vanilla” Interest Rate Swap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46000" y="2138400"/>
            <a:ext cx="75758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by Microsoft to receive 6-month LIBOR &amp; pay a fixed rate of 5% per annum every 6 months for 3 years on a notional principal of $10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illustrates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B1D-762D-48FE-A3B4-36A7E27894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Value of Floating Rate Bond (</a:t>
            </a:r>
            <a:r>
              <a:rPr b="1" i="1" lang="en-CA" sz="3900" spc="-1" strike="noStrike">
                <a:solidFill>
                  <a:srgbClr val="7c1302"/>
                </a:solidFill>
                <a:latin typeface="Times New Roman"/>
              </a:rPr>
              <a:t>L</a:t>
            </a: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=Principal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457200" y="2071800"/>
            <a:ext cx="7162920" cy="3720600"/>
            <a:chOff x="457200" y="2071800"/>
            <a:chExt cx="7162920" cy="3720600"/>
          </a:xfrm>
        </p:grpSpPr>
        <p:sp>
          <p:nvSpPr>
            <p:cNvPr id="1036" name="Straight Connector 7"/>
            <p:cNvSpPr/>
            <p:nvPr/>
          </p:nvSpPr>
          <p:spPr>
            <a:xfrm>
              <a:off x="1143000" y="4516560"/>
              <a:ext cx="43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Straight Connector 8"/>
            <p:cNvSpPr/>
            <p:nvPr/>
          </p:nvSpPr>
          <p:spPr>
            <a:xfrm flipH="1">
              <a:off x="114120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Straight Connector 9"/>
            <p:cNvSpPr/>
            <p:nvPr/>
          </p:nvSpPr>
          <p:spPr>
            <a:xfrm flipH="1">
              <a:off x="213192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Straight Connector 10"/>
            <p:cNvSpPr/>
            <p:nvPr/>
          </p:nvSpPr>
          <p:spPr>
            <a:xfrm flipH="1">
              <a:off x="403704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Straight Connector 11"/>
            <p:cNvSpPr/>
            <p:nvPr/>
          </p:nvSpPr>
          <p:spPr>
            <a:xfrm>
              <a:off x="5410440" y="4516560"/>
              <a:ext cx="1523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17"/>
            <p:cNvSpPr/>
            <p:nvPr/>
          </p:nvSpPr>
          <p:spPr>
            <a:xfrm>
              <a:off x="99036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18"/>
            <p:cNvSpPr/>
            <p:nvPr/>
          </p:nvSpPr>
          <p:spPr>
            <a:xfrm>
              <a:off x="198108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0"/>
            <p:cNvSpPr/>
            <p:nvPr/>
          </p:nvSpPr>
          <p:spPr>
            <a:xfrm>
              <a:off x="457200" y="46011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ation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Box 22"/>
            <p:cNvSpPr/>
            <p:nvPr/>
          </p:nvSpPr>
          <p:spPr>
            <a:xfrm>
              <a:off x="1676160" y="460116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loating Pmt 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23"/>
            <p:cNvSpPr/>
            <p:nvPr/>
          </p:nvSpPr>
          <p:spPr>
            <a:xfrm>
              <a:off x="3429000" y="4601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mt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4"/>
            <p:cNvSpPr/>
            <p:nvPr/>
          </p:nvSpPr>
          <p:spPr>
            <a:xfrm>
              <a:off x="6477120" y="4854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turity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18"/>
            <p:cNvSpPr/>
            <p:nvPr/>
          </p:nvSpPr>
          <p:spPr>
            <a:xfrm flipH="1">
              <a:off x="7009200" y="4433760"/>
              <a:ext cx="2880" cy="16956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29"/>
            <p:cNvSpPr/>
            <p:nvPr/>
          </p:nvSpPr>
          <p:spPr>
            <a:xfrm>
              <a:off x="3809880" y="3167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9" name="Straight Arrow Connector 20"/>
            <p:cNvCxnSpPr>
              <a:endCxn id="1042" idx="2"/>
            </p:cNvCxnSpPr>
            <p:nvPr/>
          </p:nvCxnSpPr>
          <p:spPr>
            <a:xfrm flipH="1">
              <a:off x="2170800" y="3505320"/>
              <a:ext cx="2019960" cy="100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0" name="TextBox 34"/>
            <p:cNvSpPr/>
            <p:nvPr/>
          </p:nvSpPr>
          <p:spPr>
            <a:xfrm>
              <a:off x="1447560" y="3083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Straight Arrow Connector 22"/>
            <p:cNvCxnSpPr/>
            <p:nvPr/>
          </p:nvCxnSpPr>
          <p:spPr>
            <a:xfrm>
              <a:off x="1903680" y="3757320"/>
              <a:ext cx="153000" cy="75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2" name="TextBox 45"/>
            <p:cNvSpPr/>
            <p:nvPr/>
          </p:nvSpPr>
          <p:spPr>
            <a:xfrm>
              <a:off x="1295280" y="20718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PV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3" name="Straight Arrow Connector 24"/>
            <p:cNvCxnSpPr>
              <a:endCxn id="1041" idx="2"/>
            </p:cNvCxnSpPr>
            <p:nvPr/>
          </p:nvCxnSpPr>
          <p:spPr>
            <a:xfrm flipH="1">
              <a:off x="1180440" y="2746440"/>
              <a:ext cx="419760" cy="175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54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1586-00DF-4EA0-8524-445EAE11B4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y six-month LIBOR, receive 8% (semi-annual compounding) on a principal of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ining life 1.25 years  ((15 month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BOR rates for 3-months, 9-months and 15-months are 10%, 10.5%, and 11% (cont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-month LIBOR on last payment date was 10.2% (s.a. compo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184-E592-4F92-A22C-CF7066C2DE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B98-F997-47CB-B45E-2CC80BDD1D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826920" y="1483920"/>
            <a:ext cx="2449800" cy="403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55640" y="5734080"/>
            <a:ext cx="6696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 = 2 Log (  1  +  .102/2)  = 0.09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 Payment  =  100 x Exp (0.5 x  .09948)  =  10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74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2B5C-C65F-4CB3-B83B-BBA8B54B38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916360" y="1628280"/>
            <a:ext cx="1150920" cy="374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76360" y="5373720"/>
            <a:ext cx="36003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-.25 x.1) = .9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.75 x .105) =  .9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1.25 x .11)  =  .8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2607-0B90-4B30-AB7E-9583981FC91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4360" y="544500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ixed Leg = 4  x .97   + 4 x .92  +  104 x .87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98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8BAD-CF43-41D3-B0B0-8649D69CB1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9280" y="4869000"/>
            <a:ext cx="84250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loating Leg  = 105.1  x  .9753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10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WAP  = $ 4.3 mill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rom the viewpoint of the FIXED L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FRA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229536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change of payments in an interest rate swap is an 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s can be valued on the assumption that today’s forward rates ar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71F2-9B82-49BD-BEF8-339E536D03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1B1B-668C-4844-8166-2457936FC1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042920" y="3141360"/>
            <a:ext cx="244944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79280" y="4005360"/>
            <a:ext cx="84963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rate  = 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 /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.105   x .75 -      .10   x .25)/.5   = .1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.5  x  .1075) = 1.055 implies  an interest  payment of  5.5 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D69-B860-40D5-A8FE-A6E70C04966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6000" y="4869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 value as 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08360" y="3644640"/>
            <a:ext cx="3527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n Example of a 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164960" y="1901880"/>
            <a:ext cx="739620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to pay 5% on a sterling principal of £1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6% on a US$ principal of $18,000,000 every year for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7113-5E44-4EFE-AF0A-249683A005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57"/>
          <p:cNvGrpSpPr/>
          <p:nvPr/>
        </p:nvGrpSpPr>
        <p:grpSpPr>
          <a:xfrm>
            <a:off x="1065240" y="1214280"/>
            <a:ext cx="7081200" cy="4737960"/>
            <a:chOff x="1065240" y="1214280"/>
            <a:chExt cx="7081200" cy="4737960"/>
          </a:xfrm>
        </p:grpSpPr>
        <p:sp>
          <p:nvSpPr>
            <p:cNvPr id="900" name="Rectangle 2"/>
            <p:cNvSpPr/>
            <p:nvPr/>
          </p:nvSpPr>
          <p:spPr>
            <a:xfrm>
              <a:off x="1065240" y="1214280"/>
              <a:ext cx="298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"/>
            <p:cNvSpPr/>
            <p:nvPr/>
          </p:nvSpPr>
          <p:spPr>
            <a:xfrm>
              <a:off x="3875040" y="3306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4"/>
            <p:cNvSpPr/>
            <p:nvPr/>
          </p:nvSpPr>
          <p:spPr>
            <a:xfrm>
              <a:off x="3875040" y="370692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"/>
            <p:cNvSpPr/>
            <p:nvPr/>
          </p:nvSpPr>
          <p:spPr>
            <a:xfrm>
              <a:off x="3875040" y="41324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3875040" y="4557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"/>
            <p:cNvSpPr/>
            <p:nvPr/>
          </p:nvSpPr>
          <p:spPr>
            <a:xfrm>
              <a:off x="3875040" y="498312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8"/>
            <p:cNvSpPr/>
            <p:nvPr/>
          </p:nvSpPr>
          <p:spPr>
            <a:xfrm>
              <a:off x="3875040" y="53960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9"/>
            <p:cNvSpPr/>
            <p:nvPr/>
          </p:nvSpPr>
          <p:spPr>
            <a:xfrm>
              <a:off x="1220760" y="17017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1220760" y="17017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1"/>
            <p:cNvSpPr/>
            <p:nvPr/>
          </p:nvSpPr>
          <p:spPr>
            <a:xfrm>
              <a:off x="1220760" y="29671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2"/>
            <p:cNvSpPr/>
            <p:nvPr/>
          </p:nvSpPr>
          <p:spPr>
            <a:xfrm>
              <a:off x="1220760" y="29671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3"/>
            <p:cNvSpPr/>
            <p:nvPr/>
          </p:nvSpPr>
          <p:spPr>
            <a:xfrm>
              <a:off x="1220760" y="591660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4"/>
            <p:cNvSpPr/>
            <p:nvPr/>
          </p:nvSpPr>
          <p:spPr>
            <a:xfrm>
              <a:off x="1220760" y="591660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5"/>
            <p:cNvSpPr/>
            <p:nvPr/>
          </p:nvSpPr>
          <p:spPr>
            <a:xfrm>
              <a:off x="4167360" y="1762200"/>
              <a:ext cx="371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--------Millions of Dollars--------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6"/>
            <p:cNvSpPr/>
            <p:nvPr/>
          </p:nvSpPr>
          <p:spPr>
            <a:xfrm>
              <a:off x="3108960" y="218448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"/>
            <p:cNvSpPr/>
            <p:nvPr/>
          </p:nvSpPr>
          <p:spPr>
            <a:xfrm>
              <a:off x="4121640" y="2184480"/>
              <a:ext cx="152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8"/>
            <p:cNvSpPr/>
            <p:nvPr/>
          </p:nvSpPr>
          <p:spPr>
            <a:xfrm>
              <a:off x="5645160" y="218448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9"/>
            <p:cNvSpPr/>
            <p:nvPr/>
          </p:nvSpPr>
          <p:spPr>
            <a:xfrm>
              <a:off x="7149240" y="218448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0"/>
            <p:cNvSpPr/>
            <p:nvPr/>
          </p:nvSpPr>
          <p:spPr>
            <a:xfrm>
              <a:off x="17182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32230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2"/>
            <p:cNvSpPr/>
            <p:nvPr/>
          </p:nvSpPr>
          <p:spPr>
            <a:xfrm>
              <a:off x="41889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547164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67575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5"/>
            <p:cNvSpPr/>
            <p:nvPr/>
          </p:nvSpPr>
          <p:spPr>
            <a:xfrm>
              <a:off x="1326600" y="302724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6"/>
            <p:cNvSpPr/>
            <p:nvPr/>
          </p:nvSpPr>
          <p:spPr>
            <a:xfrm>
              <a:off x="3166560" y="30272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1210680" y="344808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3166560" y="34480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4403880" y="34480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67216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695808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1316880" y="386856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3166560" y="38685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4403880" y="38685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67216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695808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1201320" y="429084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8"/>
            <p:cNvSpPr/>
            <p:nvPr/>
          </p:nvSpPr>
          <p:spPr>
            <a:xfrm>
              <a:off x="3166560" y="42908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440388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5672160" y="429084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697104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1326600" y="471168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3166560" y="47116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40388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672160" y="47116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697104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210680" y="513396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3166560" y="5133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440388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5672160" y="51339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697104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52"/>
            <p:cNvSpPr/>
            <p:nvPr/>
          </p:nvSpPr>
          <p:spPr>
            <a:xfrm>
              <a:off x="1326600" y="555480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53"/>
            <p:cNvSpPr/>
            <p:nvPr/>
          </p:nvSpPr>
          <p:spPr>
            <a:xfrm>
              <a:off x="3166560" y="555480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.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54"/>
            <p:cNvSpPr/>
            <p:nvPr/>
          </p:nvSpPr>
          <p:spPr>
            <a:xfrm>
              <a:off x="440388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55"/>
            <p:cNvSpPr/>
            <p:nvPr/>
          </p:nvSpPr>
          <p:spPr>
            <a:xfrm>
              <a:off x="5672160" y="555480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6"/>
            <p:cNvSpPr/>
            <p:nvPr/>
          </p:nvSpPr>
          <p:spPr>
            <a:xfrm>
              <a:off x="697104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74480" y="210600"/>
            <a:ext cx="820404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Cash Flows to Microsoft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6" name="Slide Number Placeholder 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7723-06FE-4975-8AA0-17FF667B77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change of Principal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607760" y="206676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interest rate swap the principal is not ex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urrency swap the principal is exchanged at the beginning and the end of th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448-BB69-406D-99CD-D0F9B74B42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ash Flows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2975400" y="23446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2990880" y="1501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2990880" y="273060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"/>
          <p:cNvSpPr/>
          <p:nvPr/>
        </p:nvSpPr>
        <p:spPr>
          <a:xfrm>
            <a:off x="3124080" y="541008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2990880" y="5722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3921480" y="1579680"/>
            <a:ext cx="113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5123880" y="157968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0"/>
          <p:cNvSpPr/>
          <p:nvPr/>
        </p:nvSpPr>
        <p:spPr>
          <a:xfrm>
            <a:off x="4232160" y="194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3868920" y="2344680"/>
            <a:ext cx="24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millions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895480" y="2787480"/>
            <a:ext cx="119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3733920" y="2787480"/>
            <a:ext cx="14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016600" y="2787480"/>
            <a:ext cx="138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2895480" y="320976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7"/>
          <p:cNvSpPr/>
          <p:nvPr/>
        </p:nvSpPr>
        <p:spPr>
          <a:xfrm>
            <a:off x="4080600" y="3189240"/>
            <a:ext cx="104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8"/>
          <p:cNvSpPr/>
          <p:nvPr/>
        </p:nvSpPr>
        <p:spPr>
          <a:xfrm>
            <a:off x="5153400" y="32097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819520" y="36576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3973680" y="363060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5153400" y="36306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2819520" y="405144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3973680" y="405144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5153400" y="40514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5"/>
          <p:cNvSpPr/>
          <p:nvPr/>
        </p:nvSpPr>
        <p:spPr>
          <a:xfrm>
            <a:off x="2895480" y="44956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6"/>
          <p:cNvSpPr/>
          <p:nvPr/>
        </p:nvSpPr>
        <p:spPr>
          <a:xfrm>
            <a:off x="3973320" y="4473720"/>
            <a:ext cx="121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27"/>
          <p:cNvSpPr/>
          <p:nvPr/>
        </p:nvSpPr>
        <p:spPr>
          <a:xfrm>
            <a:off x="5153400" y="447372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8"/>
          <p:cNvSpPr/>
          <p:nvPr/>
        </p:nvSpPr>
        <p:spPr>
          <a:xfrm>
            <a:off x="2819520" y="489420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9"/>
          <p:cNvSpPr/>
          <p:nvPr/>
        </p:nvSpPr>
        <p:spPr>
          <a:xfrm>
            <a:off x="3975120" y="489420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5154480" y="489420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4"/>
          <p:cNvSpPr/>
          <p:nvPr/>
        </p:nvSpPr>
        <p:spPr>
          <a:xfrm>
            <a:off x="5439600" y="19461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183-132B-418F-8DC8-8CC8A54D1DA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ypical Uses of a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9560" y="2205000"/>
            <a:ext cx="719280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 liability in one currency to a liability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n investment in one currency to an investment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B22-7D05-4492-BB4C-A3A2FD6E37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omparative Advantage Arguments for Currency Swap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104840" y="1774800"/>
            <a:ext cx="7345440" cy="14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otors wants to borrow 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ntas wants to borrow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8"/>
          <p:cNvGrpSpPr/>
          <p:nvPr/>
        </p:nvGrpSpPr>
        <p:grpSpPr>
          <a:xfrm>
            <a:off x="1618920" y="3267000"/>
            <a:ext cx="5184720" cy="1671120"/>
            <a:chOff x="1618920" y="3267000"/>
            <a:chExt cx="5184720" cy="1671120"/>
          </a:xfrm>
        </p:grpSpPr>
        <p:sp>
          <p:nvSpPr>
            <p:cNvPr id="1173" name="Line 4"/>
            <p:cNvSpPr/>
            <p:nvPr/>
          </p:nvSpPr>
          <p:spPr>
            <a:xfrm>
              <a:off x="1631880" y="32670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1631880" y="32670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1631880" y="392436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"/>
            <p:cNvSpPr/>
            <p:nvPr/>
          </p:nvSpPr>
          <p:spPr>
            <a:xfrm>
              <a:off x="1631880" y="392436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1631880" y="48816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9"/>
            <p:cNvSpPr/>
            <p:nvPr/>
          </p:nvSpPr>
          <p:spPr>
            <a:xfrm>
              <a:off x="1631880" y="48816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3935520" y="3405240"/>
              <a:ext cx="90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5617440" y="3405240"/>
              <a:ext cx="82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"/>
            <p:cNvSpPr/>
            <p:nvPr/>
          </p:nvSpPr>
          <p:spPr>
            <a:xfrm>
              <a:off x="1618920" y="400212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eral Mo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3"/>
            <p:cNvSpPr/>
            <p:nvPr/>
          </p:nvSpPr>
          <p:spPr>
            <a:xfrm>
              <a:off x="3840840" y="400212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4"/>
            <p:cNvSpPr/>
            <p:nvPr/>
          </p:nvSpPr>
          <p:spPr>
            <a:xfrm>
              <a:off x="5455440" y="400212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5"/>
            <p:cNvSpPr/>
            <p:nvPr/>
          </p:nvSpPr>
          <p:spPr>
            <a:xfrm>
              <a:off x="1622880" y="44798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6"/>
            <p:cNvSpPr/>
            <p:nvPr/>
          </p:nvSpPr>
          <p:spPr>
            <a:xfrm>
              <a:off x="3840840" y="447984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7"/>
            <p:cNvSpPr/>
            <p:nvPr/>
          </p:nvSpPr>
          <p:spPr>
            <a:xfrm>
              <a:off x="5455440" y="447984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0D2D-5677-494F-BCB3-46CCBFBD8A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95280" y="544500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GM wants to borrow 20 million AUD and Qantas needs 12 million USD  (1 USD  =  1.666   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116000" y="2565360"/>
            <a:ext cx="1224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2565360"/>
            <a:ext cx="1008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2565360"/>
            <a:ext cx="115236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03280" y="2924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                                 arranger                                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50920" y="2997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885080" y="306864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58920" y="558972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2637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812000" y="32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84360" y="306864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3640" y="299736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11280" y="3213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1.9%                       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3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55564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55600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USD                      6.3%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90760" y="5032440"/>
            <a:ext cx="69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 = 6.3  + 11.9  -  5  -13  =   20  basis points   WHY 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Why The Swap?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For example….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2133720" y="32767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4724280" y="32767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5"/>
          <p:cNvSpPr/>
          <p:nvPr/>
        </p:nvSpPr>
        <p:spPr>
          <a:xfrm>
            <a:off x="3075120" y="3859200"/>
            <a:ext cx="2189160" cy="368280"/>
          </a:xfrm>
          <a:prstGeom prst="rightArrow">
            <a:avLst>
              <a:gd name="adj1" fmla="val 50000"/>
              <a:gd name="adj2" fmla="val 2972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6"/>
          <p:cNvSpPr/>
          <p:nvPr/>
        </p:nvSpPr>
        <p:spPr>
          <a:xfrm>
            <a:off x="2906640" y="2820960"/>
            <a:ext cx="2210040" cy="347760"/>
          </a:xfrm>
          <a:prstGeom prst="leftArrow">
            <a:avLst>
              <a:gd name="adj1" fmla="val 50000"/>
              <a:gd name="adj2" fmla="val 31454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7"/>
          <p:cNvSpPr/>
          <p:nvPr/>
        </p:nvSpPr>
        <p:spPr>
          <a:xfrm>
            <a:off x="6272280" y="3435480"/>
            <a:ext cx="1638360" cy="304560"/>
          </a:xfrm>
          <a:prstGeom prst="rightArrow">
            <a:avLst>
              <a:gd name="adj1" fmla="val 50000"/>
              <a:gd name="adj2" fmla="val 2829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8"/>
          <p:cNvSpPr/>
          <p:nvPr/>
        </p:nvSpPr>
        <p:spPr>
          <a:xfrm>
            <a:off x="493560" y="3478320"/>
            <a:ext cx="1659240" cy="282600"/>
          </a:xfrm>
          <a:prstGeom prst="leftArrow">
            <a:avLst>
              <a:gd name="adj1" fmla="val 50000"/>
              <a:gd name="adj2" fmla="val 29353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557880" y="444168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3661920" y="223992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6180120" y="3890880"/>
            <a:ext cx="190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732960" y="293832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81B-C4F8-45CB-A869-C5986F91FE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5229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has transformed a Floating Rate loan (L + 1%) into a Fixed Rate loan (5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 more realistic situation…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780000" y="3573360"/>
            <a:ext cx="14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7"/>
          <p:cNvSpPr/>
          <p:nvPr/>
        </p:nvSpPr>
        <p:spPr>
          <a:xfrm>
            <a:off x="4979880" y="3963960"/>
            <a:ext cx="1363680" cy="411120"/>
          </a:xfrm>
          <a:prstGeom prst="rightArrow">
            <a:avLst>
              <a:gd name="adj1" fmla="val 50000"/>
              <a:gd name="adj2" fmla="val 1658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8"/>
          <p:cNvSpPr/>
          <p:nvPr/>
        </p:nvSpPr>
        <p:spPr>
          <a:xfrm>
            <a:off x="2589120" y="3986280"/>
            <a:ext cx="1405080" cy="368280"/>
          </a:xfrm>
          <a:prstGeom prst="rightArrow">
            <a:avLst>
              <a:gd name="adj1" fmla="val 50000"/>
              <a:gd name="adj2" fmla="val 19078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9"/>
          <p:cNvSpPr/>
          <p:nvPr/>
        </p:nvSpPr>
        <p:spPr>
          <a:xfrm>
            <a:off x="2567160" y="3075120"/>
            <a:ext cx="1342800" cy="347400"/>
          </a:xfrm>
          <a:prstGeom prst="leftArrow">
            <a:avLst>
              <a:gd name="adj1" fmla="val 50000"/>
              <a:gd name="adj2" fmla="val 1871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0"/>
          <p:cNvSpPr/>
          <p:nvPr/>
        </p:nvSpPr>
        <p:spPr>
          <a:xfrm>
            <a:off x="4979880" y="3097080"/>
            <a:ext cx="1363680" cy="368280"/>
          </a:xfrm>
          <a:prstGeom prst="leftArrow">
            <a:avLst>
              <a:gd name="adj1" fmla="val 50000"/>
              <a:gd name="adj2" fmla="val 1851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1"/>
          <p:cNvSpPr/>
          <p:nvPr/>
        </p:nvSpPr>
        <p:spPr>
          <a:xfrm>
            <a:off x="7391520" y="3733920"/>
            <a:ext cx="1257120" cy="274680"/>
          </a:xfrm>
          <a:prstGeom prst="rightArrow">
            <a:avLst>
              <a:gd name="adj1" fmla="val 50000"/>
              <a:gd name="adj2" fmla="val 2288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2"/>
          <p:cNvSpPr/>
          <p:nvPr/>
        </p:nvSpPr>
        <p:spPr>
          <a:xfrm>
            <a:off x="684360" y="3695760"/>
            <a:ext cx="960120" cy="295200"/>
          </a:xfrm>
          <a:prstGeom prst="leftArrow">
            <a:avLst>
              <a:gd name="adj1" fmla="val 50000"/>
              <a:gd name="adj2" fmla="val 1626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2562480" y="450540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4996080" y="448452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6794640" y="414504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2675880" y="24526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9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4961880" y="24940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8"/>
          <p:cNvSpPr/>
          <p:nvPr/>
        </p:nvSpPr>
        <p:spPr>
          <a:xfrm>
            <a:off x="563040" y="319248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9"/>
          <p:cNvSpPr/>
          <p:nvPr/>
        </p:nvSpPr>
        <p:spPr>
          <a:xfrm>
            <a:off x="167652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609588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FF32-B1A8-4871-9919-A7125D7DC3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39640" y="5589720"/>
            <a:ext cx="60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ranger gets involved in the middle…  arranger gets a fee [3  basis  points], MS pays  5.1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924360" y="3141720"/>
            <a:ext cx="1008000" cy="1152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140360" y="155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427280" y="1844640"/>
            <a:ext cx="215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Quotes By a Swap Market Maker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85800" y="1773360"/>
          <a:ext cx="7989840" cy="3755880"/>
        </p:xfrm>
        <a:graphic>
          <a:graphicData uri="http://schemas.openxmlformats.org/drawingml/2006/table">
            <a:tbl>
              <a:tblPr/>
              <a:tblGrid>
                <a:gridCol w="1996920"/>
                <a:gridCol w="1602000"/>
                <a:gridCol w="1800000"/>
                <a:gridCol w="2590920"/>
              </a:tblGrid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 Rat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9CD-1A6E-41F6-A182-2F870A452D2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omparative Advantage Argument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643896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Corp wants to borrow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BCorp wants to borrow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 loan (5 years, US$ 1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19"/>
          <p:cNvGrpSpPr/>
          <p:nvPr/>
        </p:nvGrpSpPr>
        <p:grpSpPr>
          <a:xfrm>
            <a:off x="611280" y="2492280"/>
            <a:ext cx="5092920" cy="2527200"/>
            <a:chOff x="611280" y="2492280"/>
            <a:chExt cx="5092920" cy="2527200"/>
          </a:xfrm>
        </p:grpSpPr>
        <p:sp>
          <p:nvSpPr>
            <p:cNvPr id="998" name="Line 4"/>
            <p:cNvSpPr/>
            <p:nvPr/>
          </p:nvSpPr>
          <p:spPr>
            <a:xfrm>
              <a:off x="731160" y="299484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5"/>
            <p:cNvSpPr/>
            <p:nvPr/>
          </p:nvSpPr>
          <p:spPr>
            <a:xfrm>
              <a:off x="731160" y="299484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1160" y="381960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731160" y="381960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731160" y="501552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"/>
            <p:cNvSpPr/>
            <p:nvPr/>
          </p:nvSpPr>
          <p:spPr>
            <a:xfrm>
              <a:off x="731160" y="501552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0"/>
            <p:cNvSpPr/>
            <p:nvPr/>
          </p:nvSpPr>
          <p:spPr>
            <a:xfrm>
              <a:off x="611280" y="2492280"/>
              <a:ext cx="34488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1"/>
            <p:cNvSpPr/>
            <p:nvPr/>
          </p:nvSpPr>
          <p:spPr>
            <a:xfrm>
              <a:off x="1970280" y="322524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2"/>
            <p:cNvSpPr/>
            <p:nvPr/>
          </p:nvSpPr>
          <p:spPr>
            <a:xfrm>
              <a:off x="3591720" y="322524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3"/>
            <p:cNvSpPr/>
            <p:nvPr/>
          </p:nvSpPr>
          <p:spPr>
            <a:xfrm>
              <a:off x="723240" y="397224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AA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4"/>
            <p:cNvSpPr/>
            <p:nvPr/>
          </p:nvSpPr>
          <p:spPr>
            <a:xfrm>
              <a:off x="1957680" y="397224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15"/>
            <p:cNvSpPr/>
            <p:nvPr/>
          </p:nvSpPr>
          <p:spPr>
            <a:xfrm>
              <a:off x="2882520" y="397224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− 0.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16"/>
            <p:cNvSpPr/>
            <p:nvPr/>
          </p:nvSpPr>
          <p:spPr>
            <a:xfrm>
              <a:off x="724320" y="457272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BB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7"/>
            <p:cNvSpPr/>
            <p:nvPr/>
          </p:nvSpPr>
          <p:spPr>
            <a:xfrm>
              <a:off x="1957680" y="457272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18"/>
            <p:cNvSpPr/>
            <p:nvPr/>
          </p:nvSpPr>
          <p:spPr>
            <a:xfrm>
              <a:off x="2882520" y="457272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+ 0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539640" y="5805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ating rate difference is 120 basis pts, the fixed rate difference is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693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2071800" y="3357720"/>
            <a:ext cx="16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5429160" y="3357720"/>
            <a:ext cx="178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BB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3429000" y="4000680"/>
            <a:ext cx="2400480" cy="452160"/>
          </a:xfrm>
          <a:prstGeom prst="rightArrow">
            <a:avLst>
              <a:gd name="adj1" fmla="val 50000"/>
              <a:gd name="adj2" fmla="val 26547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3357720" y="2786040"/>
            <a:ext cx="2214360" cy="495360"/>
          </a:xfrm>
          <a:prstGeom prst="leftArrow">
            <a:avLst>
              <a:gd name="adj1" fmla="val 50000"/>
              <a:gd name="adj2" fmla="val 240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"/>
          <p:cNvSpPr/>
          <p:nvPr/>
        </p:nvSpPr>
        <p:spPr>
          <a:xfrm>
            <a:off x="7215120" y="3429000"/>
            <a:ext cx="1509840" cy="351000"/>
          </a:xfrm>
          <a:prstGeom prst="rightArrow">
            <a:avLst>
              <a:gd name="adj1" fmla="val 50000"/>
              <a:gd name="adj2" fmla="val 28346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"/>
          <p:cNvSpPr/>
          <p:nvPr/>
        </p:nvSpPr>
        <p:spPr>
          <a:xfrm>
            <a:off x="285840" y="3500280"/>
            <a:ext cx="1428840" cy="285840"/>
          </a:xfrm>
          <a:prstGeom prst="leftArrow">
            <a:avLst>
              <a:gd name="adj1" fmla="val 50000"/>
              <a:gd name="adj2" fmla="val 29427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0"/>
          <p:cNvSpPr/>
          <p:nvPr/>
        </p:nvSpPr>
        <p:spPr>
          <a:xfrm>
            <a:off x="3929040" y="4632480"/>
            <a:ext cx="133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"/>
          <p:cNvSpPr/>
          <p:nvPr/>
        </p:nvSpPr>
        <p:spPr>
          <a:xfrm>
            <a:off x="7000920" y="3849840"/>
            <a:ext cx="21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2"/>
          <p:cNvSpPr/>
          <p:nvPr/>
        </p:nvSpPr>
        <p:spPr>
          <a:xfrm>
            <a:off x="4149000" y="219852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1164600" y="285444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4C3A-D014-4F36-9276-AA888BD769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84360" y="5516640"/>
            <a:ext cx="748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 pays 4.35% + 0.6% =  4.95%  (lower than  5.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 pays  LIBOR - .35% (better than L  -  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of an Interest Rat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swaps can be valued as the difference between the value of a fixed-rate bond and the value of a floating-rat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they can be valued as a portfolio of forward rate agreements (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54D4-6695-4E5D-BB2E-8BD9B928FA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Bond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xed rate bond is valued in the usu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ating rate bond is valued by noting that it is worth par immediately after the next paymen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7B54-CE9C-4F71-9A80-066F1C0602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09:26:34Z</dcterms:created>
  <dc:creator>John C. Hull</dc:creator>
  <dc:description>Copyright 2010 by John C. Hull.
All rights reserved. Published 2010.</dc:description>
  <cp:keywords>Chapter 7</cp:keywords>
  <dc:language>en-US</dc:language>
  <cp:lastModifiedBy>VCHARLIN</cp:lastModifiedBy>
  <cp:lastPrinted>2001-05-03T11:40:36Z</cp:lastPrinted>
  <dcterms:modified xsi:type="dcterms:W3CDTF">2010-10-05T13:29:57Z</dcterms:modified>
  <cp:revision>71</cp:revision>
  <dc:subject>Fundamentals of Futures and Options Markets, 7E</dc:subject>
  <dc:title>Swaps</dc:title>
</cp:coreProperties>
</file>