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463FFA-BBE0-489B-878E-3C9E5A99E1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 type="sldImg"/>
          </p:nvPr>
        </p:nvSpPr>
        <p:spPr>
          <a:xfrm>
            <a:off x="1127160" y="69228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CB8AC5-86AD-4B13-9316-CBCC15360C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9AABAA-74EE-4CD4-96BA-24F9CCC137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FE7-4B45-4C39-A123-0399600A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5AD-460A-4A4A-8832-5C5B4680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3B312-8D5D-437B-A751-E592DB72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257A0-FF3E-467D-914E-4D71E1E9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C266A-6E15-4AF0-9B2F-7F14D8CE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2D910-8DCC-4326-82BD-70CF7F2B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99921-3BC8-4747-AAA0-F1A3B643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9DDF7-E8D9-4893-9742-06F79D4A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9F77E-CE53-4AD0-8636-2EFBAA5A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C5EBA-744C-4C2F-95CE-E0DDB995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60625-2758-487A-8C90-ED765A5B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8EC19-C6C6-4232-A679-B3EDCB14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AB6-FF27-433C-9902-0B245280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7DC53-A547-403B-80B3-522FD076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20747-94DB-40D9-A444-E8DC2E72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0DFA1-828A-4EFF-9570-1BF41806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ED514-37A0-4D06-83F4-84FE09F3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1BB8C-DEE2-4278-8E12-41068FF5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AB2CC-B8EA-4275-9A6A-9DBDF25B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9D4C2-F7F6-43DA-9EDE-C72AF6A8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81263-FC6A-45DE-8FA5-A1A920A2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0BEB3-9C20-4514-9ECE-8C4A1607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0BCAD-DDE5-4F29-BA87-96896D77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03C-BC67-46C7-A5B2-43ED650B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01D19-3E94-42C7-A87E-A13BBB58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1D559-E9AA-4E1E-B62F-51938BFE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D78E2-E35D-426E-9742-CB7C276F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08066-E015-4FA7-A737-822EF694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9DB36-B5FC-48CA-88F3-0E62BE7B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2AD1D-A6CD-4031-BAFA-525F4CE0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B25B5-E5C9-4A60-92C1-68B46610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CFD9C-58ED-49C4-A9EE-0F18FA3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4551D-8FCC-444C-AD22-F4516428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E1981-77DD-4073-9755-646B734D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C5A8-B3CC-49AE-98DF-ADDCA4F6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BDAD9-86AB-4CCB-85F7-96DB961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11645-3E4A-4B54-833B-AEF9AB92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4FF0E-DBF8-4DB1-A3BD-49CBC6CA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29700-AF54-470C-BE78-7A1BCC2A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16911-5F12-44BF-8227-2CC72FA0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CC07F-B2AF-45B7-8D72-DA72B782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C743A-A1F2-4BE3-AB9F-5F475F9E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4DDFF-51B4-44BB-AAD9-DB4DE951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2E2C3-9644-4B88-BB37-38A45668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387AD-450D-474F-9001-59890FA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E95-6CCE-48A5-BC7B-9DBC4F29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58775-FCAC-4270-B1EC-31F4CD14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32974-E52D-49CB-896D-0BE111C8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2B00B-BA17-4645-8A80-0CB50FED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AC8ED-B3CB-442B-A0A2-2CE61F18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75FF8-8B1E-4251-9329-2E5A6554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0750-8E8F-4959-B97A-E35F3908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A860-08CE-412B-BE19-0B0C4CB5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CC49-6FFF-4DDB-8535-EEEEA30E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E222-F67B-48B5-B615-3C3B6228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05A8-593E-451E-8284-B88F940D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777-9884-4FE4-9481-7457F7F2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58FA-EED0-4BB7-AEB0-23A903FA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0DFC-1995-4239-867A-6A6D5B2A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0E0D-E17E-4E98-A977-9754B9C8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D151-9EC8-4CA0-A53E-44841325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CD87-ACAE-4DAA-966D-CAAEB3C8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0734-2907-4B44-8F96-2C761A2E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3D20-8B92-476E-A5CC-6361549A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5CBE-0B34-416F-B123-4C93AA6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2813D-FD4F-4AC3-B20B-1A57302E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94F9-907A-402B-933F-D4649E94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08B-786E-4BC5-86BD-5BBF84C6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2416-20E1-4AC9-9963-FCB3F82E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D820-D9E8-40E0-B705-2F05A27C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34BB-D0BA-477C-86E8-36A3E1F9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A3AF-5F3F-408D-969E-521CF669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7172-53A6-4E28-A97B-D036F439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4128-43BA-496E-BB38-BB04DC4F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2AF8-013F-42D2-A172-045CB675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D062C-ADB5-43A9-B8E8-BC1A422B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0503-822B-4749-BA0E-2F567E04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FB60E-03A0-470D-BE12-989CC105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311-88F7-489F-A049-F28FE83F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7D545-D697-4D13-B0F9-7616A839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8767-C258-4A5E-849E-2C00B148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2173-1FD4-4B6B-96A0-8FD15BAC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F38A2-5C6F-4A39-8335-BEC6D0F4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731C1-E1A3-4CFC-88DC-6BA9A759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DEC3E-4C04-4B65-A677-F9196F2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595AD-067F-417D-A141-C9538958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68C9-3A09-472C-A889-DC176F05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C9971-3328-4D4C-B179-0A549458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4E963-D891-4DF0-8A56-AC728642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2A6-A8D6-4A12-9927-3998F42D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8205A-286B-4AE4-A3C0-F0C778C6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4B79B-DAE4-400F-8A25-F113F5D4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226E-FB62-4060-AC1F-E3CDE111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5F058-A7E2-4562-B990-8879760D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7439-086C-4E21-8F1C-F2451133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D5018-FAF3-4FA3-B6D3-B2D0ACDC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F450-9181-40E8-BEEF-C73389E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B2D1-CE38-486D-9F46-762E5957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2130F-3BC9-437E-BB8F-0D23557A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C1848-CFF5-4446-A05E-9C56A46A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243-20FE-4249-A880-9D7F74DE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50461-AF91-4913-95C0-F4124745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6601C-DB2F-4F0B-BD38-BACCB742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EB2C8-927A-4DC8-86C2-419F7493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621AA-A2D0-4C9A-A856-27C3B4AE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51EAA-F88D-4DAC-A6EB-E32C647B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C2D5A-B772-4D72-860E-CEE2C2E1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FCB70-2B78-44C6-B382-EBBFE59F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982DA-F2EC-49FB-8F42-2C8F5858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58750-C71A-4A76-830D-8A13F33F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F0F23-AEF5-4C13-BA02-26E1B0AF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674-5933-421D-ADF9-7ADB9884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149EA-401E-428D-95F8-339F3E34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A6002-FB89-47E9-890E-640295F0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5435C-73EE-4DF2-AE4E-EA5A2580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88862-F209-424B-AA59-7932D485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983AE-6768-4F23-9A28-D217D93F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E500C-5D6A-4704-855A-91511067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A5C0A-24AC-47F9-A70F-D57A506F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7D449-6007-436B-9EA4-C8B7780A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D7ECD-35C6-4395-8862-7890B275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4D509-E75A-4C0E-8740-DC0AB9B5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D88-A646-4218-8BB9-8BDB0473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F98E9-BCC7-4590-A5FF-48C5D814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3AAC4-07C8-447E-BDDB-0B268F35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637EF-3031-43BE-87E1-D28F0F0A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B881A-C2CC-4CD3-A7C8-8D03A356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BA8BE-9B45-4F63-8AB2-A5373C10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2B970-46B1-49ED-9087-7DFA90B6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A030B-5D5B-4502-A807-02C99DA0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F9D5A-5B21-4D17-86B3-8AED7130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1A504-1543-4AD9-8FCD-090D53E7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B82FB-52A9-4E45-81DB-48655B6D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7A4-D6F8-4BC2-9FE7-F54627E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7A525-879F-4EC8-BCBF-22115E2D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9AF48-F1FE-4244-A732-D2B1F64E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0CCB2-F5FA-4F64-8337-CFC6AA3E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B8EF7-0787-4CC8-B9DC-19FD9B80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8A3A8-DF24-4D78-A9C9-6FD38792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A5821-02EF-465D-ADF8-4930329E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11497-C252-4162-AF32-419920E9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304CE-FAD9-490A-8453-B2FEC897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2F216-A608-453B-9E51-4DE6CDA1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185FA-B59D-4659-AB14-42743BE1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5110E4E8-3D77-4FCA-A8F7-1A8A4E95ACB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29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4A5A-17B7-4B3D-9D1C-AD718B80DAD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3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A6F4-3D8E-497B-83AA-2BC37CF7753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309D-E8DE-4A3C-B9FC-E341B7F0483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98FE-58DC-4A34-A3B5-8E50021EE00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DF75-AAFD-49A2-A814-000739AE7AE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A58B-4018-467F-88B8-0F69D524FD5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FF4B-3122-4A26-9E4B-416D3562FDF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8BC9-2C60-4A53-AD74-E5CB6B43882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9A28-6F87-48D6-96AC-3ED2DEAA911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3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2CAF-9DB3-4BBE-9069-E58A9957D28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E23B-53D8-4CD5-BB41-7621D02DC37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tions, Futures, and Other Derivatives, 7th Ed, Ch 7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5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An Example of a “Plain Vanilla” Interest Rate Swap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46000" y="2138400"/>
            <a:ext cx="7575840" cy="41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reement by Microsoft to receive 6-month LIBOR &amp; pay a fixed rate of 5% per annum every 6 months for 3 years on a notional principal of $100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lide illustrates cash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1B09-919C-4CBA-9FCF-351194D94DA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Value of Floating Rate Bond (</a:t>
            </a:r>
            <a:r>
              <a:rPr b="1" i="1" lang="en-CA" sz="3900" spc="-1" strike="noStrike">
                <a:solidFill>
                  <a:srgbClr val="7c1302"/>
                </a:solidFill>
                <a:latin typeface="Times New Roman"/>
              </a:rPr>
              <a:t>L</a:t>
            </a: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=Principal)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pSp>
        <p:nvGrpSpPr>
          <p:cNvPr id="1035" name="Group 6"/>
          <p:cNvGrpSpPr/>
          <p:nvPr/>
        </p:nvGrpSpPr>
        <p:grpSpPr>
          <a:xfrm>
            <a:off x="457200" y="2071800"/>
            <a:ext cx="7162920" cy="3720600"/>
            <a:chOff x="457200" y="2071800"/>
            <a:chExt cx="7162920" cy="3720600"/>
          </a:xfrm>
        </p:grpSpPr>
        <p:sp>
          <p:nvSpPr>
            <p:cNvPr id="1036" name="Straight Connector 7"/>
            <p:cNvSpPr/>
            <p:nvPr/>
          </p:nvSpPr>
          <p:spPr>
            <a:xfrm>
              <a:off x="1143000" y="4516560"/>
              <a:ext cx="434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Straight Connector 8"/>
            <p:cNvSpPr/>
            <p:nvPr/>
          </p:nvSpPr>
          <p:spPr>
            <a:xfrm flipH="1">
              <a:off x="114120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Straight Connector 9"/>
            <p:cNvSpPr/>
            <p:nvPr/>
          </p:nvSpPr>
          <p:spPr>
            <a:xfrm flipH="1">
              <a:off x="213192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Straight Connector 10"/>
            <p:cNvSpPr/>
            <p:nvPr/>
          </p:nvSpPr>
          <p:spPr>
            <a:xfrm flipH="1">
              <a:off x="4037040" y="4433760"/>
              <a:ext cx="288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Straight Connector 11"/>
            <p:cNvSpPr/>
            <p:nvPr/>
          </p:nvSpPr>
          <p:spPr>
            <a:xfrm>
              <a:off x="5410440" y="4516560"/>
              <a:ext cx="1523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Box 17"/>
            <p:cNvSpPr/>
            <p:nvPr/>
          </p:nvSpPr>
          <p:spPr>
            <a:xfrm>
              <a:off x="990360" y="4095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Box 18"/>
            <p:cNvSpPr/>
            <p:nvPr/>
          </p:nvSpPr>
          <p:spPr>
            <a:xfrm>
              <a:off x="1981080" y="4095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Box 20"/>
            <p:cNvSpPr/>
            <p:nvPr/>
          </p:nvSpPr>
          <p:spPr>
            <a:xfrm>
              <a:off x="457200" y="460116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ation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Box 22"/>
            <p:cNvSpPr/>
            <p:nvPr/>
          </p:nvSpPr>
          <p:spPr>
            <a:xfrm>
              <a:off x="1676160" y="460116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 P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loating Pmt 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Box 23"/>
            <p:cNvSpPr/>
            <p:nvPr/>
          </p:nvSpPr>
          <p:spPr>
            <a:xfrm>
              <a:off x="3429000" y="46011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mt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Box 24"/>
            <p:cNvSpPr/>
            <p:nvPr/>
          </p:nvSpPr>
          <p:spPr>
            <a:xfrm>
              <a:off x="6477120" y="4854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aturity 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18"/>
            <p:cNvSpPr/>
            <p:nvPr/>
          </p:nvSpPr>
          <p:spPr>
            <a:xfrm flipH="1">
              <a:off x="7009200" y="4433760"/>
              <a:ext cx="2880" cy="169560"/>
            </a:xfrm>
            <a:prstGeom prst="line">
              <a:avLst/>
            </a:prstGeom>
            <a:ln w="9360">
              <a:solidFill>
                <a:srgbClr val="c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Box 29"/>
            <p:cNvSpPr/>
            <p:nvPr/>
          </p:nvSpPr>
          <p:spPr>
            <a:xfrm>
              <a:off x="3809880" y="31676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9" name="Straight Arrow Connector 20"/>
            <p:cNvCxnSpPr>
              <a:endCxn id="1042" idx="2"/>
            </p:cNvCxnSpPr>
            <p:nvPr/>
          </p:nvCxnSpPr>
          <p:spPr>
            <a:xfrm flipH="1">
              <a:off x="2170800" y="3505320"/>
              <a:ext cx="2019960" cy="100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50" name="TextBox 34"/>
            <p:cNvSpPr/>
            <p:nvPr/>
          </p:nvSpPr>
          <p:spPr>
            <a:xfrm>
              <a:off x="1447560" y="30834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1" name="Straight Arrow Connector 22"/>
            <p:cNvCxnSpPr/>
            <p:nvPr/>
          </p:nvCxnSpPr>
          <p:spPr>
            <a:xfrm>
              <a:off x="1903680" y="3757320"/>
              <a:ext cx="153000" cy="75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52" name="TextBox 45"/>
            <p:cNvSpPr/>
            <p:nvPr/>
          </p:nvSpPr>
          <p:spPr>
            <a:xfrm>
              <a:off x="1295280" y="20718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 = PV of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3" name="Straight Arrow Connector 24"/>
            <p:cNvCxnSpPr>
              <a:endCxn id="1041" idx="2"/>
            </p:cNvCxnSpPr>
            <p:nvPr/>
          </p:nvCxnSpPr>
          <p:spPr>
            <a:xfrm flipH="1">
              <a:off x="1180440" y="2746440"/>
              <a:ext cx="419760" cy="175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54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451D-29DA-4665-A5F3-5DF4D5E168C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y six-month LIBOR, receive 8% (semi-annual compounding) on a principal of $1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maining life 1.25 years  ((15 month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BOR rates for 3-months, 9-months and 15-months are 10%, 10.5%, and 11% (cont co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-month LIBOR on last payment date was 10.2% (s.a. compou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7C37-4517-4742-AE9A-9C7C4D7706B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59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7A02-9158-4663-A953-EE027204CB7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826920" y="1483920"/>
            <a:ext cx="2449800" cy="403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55640" y="5734080"/>
            <a:ext cx="6696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 = 2 Log (  1  +  .102/2)  = 0.099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 Payment  =  100 x Exp (0.5 x  .09948)  =  10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74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7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2E0C-EDC7-4349-BC74-CCB72B3575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2916360" y="1628280"/>
            <a:ext cx="1150920" cy="374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476360" y="5373720"/>
            <a:ext cx="36003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(-.25 x.1) = .9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-.75 x .105) =  .9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-1.25 x .11)  =  .8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89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09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EE5C-2144-412D-8566-EE4B141C36B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84360" y="544500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ixed Leg = 4  x .97   + 4 x .92  +  104 x .87  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  98.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24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03" name="Picture 4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9682200" cy="2449440"/>
          </a:xfrm>
          <a:prstGeom prst="rect">
            <a:avLst/>
          </a:prstGeom>
          <a:ln w="0">
            <a:noFill/>
          </a:ln>
        </p:spPr>
      </p:pic>
      <p:sp>
        <p:nvSpPr>
          <p:cNvPr id="110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F5C9-C1CB-4003-B714-FA0047ABDD1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95280" y="3500280"/>
            <a:ext cx="770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0000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195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65964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500720" y="33577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164360" y="36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(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900000" y="3645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0.25                              .75                            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763640" y="4149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nths                      9 months                 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97164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39640" y="5661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79280" y="4869000"/>
            <a:ext cx="842508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loating Leg  = 105.1  x  .9753  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  10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SWAP  = $ 4.3 mill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rom the viewpoint of the FIXED L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in Terms of FRA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2295360"/>
            <a:ext cx="822960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xchange of payments in an interest rate swap is an 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s can be valued on the assumption that today’s forward rates are re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95A7-66F1-4BFA-AE1F-CB3B3314657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20" name="Picture 4" descr=""/>
          <p:cNvPicPr/>
          <p:nvPr/>
        </p:nvPicPr>
        <p:blipFill>
          <a:blip r:embed="rId1"/>
          <a:stretch/>
        </p:blipFill>
        <p:spPr>
          <a:xfrm>
            <a:off x="-828720" y="1557360"/>
            <a:ext cx="10429920" cy="2486160"/>
          </a:xfrm>
          <a:prstGeom prst="rect">
            <a:avLst/>
          </a:prstGeom>
          <a:ln w="0">
            <a:noFill/>
          </a:ln>
        </p:spPr>
      </p:pic>
      <p:sp>
        <p:nvSpPr>
          <p:cNvPr id="1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F2A0-C8EB-4B42-BDCD-16810BDF8DD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042920" y="3141360"/>
            <a:ext cx="244944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97164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79280" y="4005360"/>
            <a:ext cx="849636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rate  = 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) / 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.105   x .75 -      .10   x .25)/.5   = .1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(.5  x  .1075) = 1.055 implies  an interest  payment of  5.5 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amp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-828720" y="1557360"/>
            <a:ext cx="10429920" cy="2486160"/>
          </a:xfrm>
          <a:prstGeom prst="rect">
            <a:avLst/>
          </a:prstGeom>
          <a:ln w="0">
            <a:noFill/>
          </a:ln>
        </p:spPr>
      </p:pic>
      <p:sp>
        <p:nvSpPr>
          <p:cNvPr id="11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B945-5107-4AD7-97F9-3BF68E26999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97164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116000" y="48690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 value as 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3708360" y="3644640"/>
            <a:ext cx="352764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An Example of a Currency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164960" y="1901880"/>
            <a:ext cx="739620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greement to pay 5% on a sterling principal of £10,00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6% on a US$ principal of $18,000,000 every year for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9A1F-F345-498E-9CD5-6B8F59DF7AA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57"/>
          <p:cNvGrpSpPr/>
          <p:nvPr/>
        </p:nvGrpSpPr>
        <p:grpSpPr>
          <a:xfrm>
            <a:off x="1065240" y="1214280"/>
            <a:ext cx="7081200" cy="4737960"/>
            <a:chOff x="1065240" y="1214280"/>
            <a:chExt cx="7081200" cy="4737960"/>
          </a:xfrm>
        </p:grpSpPr>
        <p:sp>
          <p:nvSpPr>
            <p:cNvPr id="900" name="Rectangle 2"/>
            <p:cNvSpPr/>
            <p:nvPr/>
          </p:nvSpPr>
          <p:spPr>
            <a:xfrm>
              <a:off x="1065240" y="1214280"/>
              <a:ext cx="2987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3"/>
            <p:cNvSpPr/>
            <p:nvPr/>
          </p:nvSpPr>
          <p:spPr>
            <a:xfrm>
              <a:off x="3875040" y="330660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4"/>
            <p:cNvSpPr/>
            <p:nvPr/>
          </p:nvSpPr>
          <p:spPr>
            <a:xfrm>
              <a:off x="3875040" y="370692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5"/>
            <p:cNvSpPr/>
            <p:nvPr/>
          </p:nvSpPr>
          <p:spPr>
            <a:xfrm>
              <a:off x="3875040" y="413244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"/>
            <p:cNvSpPr/>
            <p:nvPr/>
          </p:nvSpPr>
          <p:spPr>
            <a:xfrm>
              <a:off x="3875040" y="455760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7"/>
            <p:cNvSpPr/>
            <p:nvPr/>
          </p:nvSpPr>
          <p:spPr>
            <a:xfrm>
              <a:off x="3875040" y="4983120"/>
              <a:ext cx="6350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8"/>
            <p:cNvSpPr/>
            <p:nvPr/>
          </p:nvSpPr>
          <p:spPr>
            <a:xfrm>
              <a:off x="3875040" y="5396040"/>
              <a:ext cx="6350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9"/>
            <p:cNvSpPr/>
            <p:nvPr/>
          </p:nvSpPr>
          <p:spPr>
            <a:xfrm>
              <a:off x="1220760" y="170172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0"/>
            <p:cNvSpPr/>
            <p:nvPr/>
          </p:nvSpPr>
          <p:spPr>
            <a:xfrm>
              <a:off x="1220760" y="170172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11"/>
            <p:cNvSpPr/>
            <p:nvPr/>
          </p:nvSpPr>
          <p:spPr>
            <a:xfrm>
              <a:off x="1220760" y="296712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2"/>
            <p:cNvSpPr/>
            <p:nvPr/>
          </p:nvSpPr>
          <p:spPr>
            <a:xfrm>
              <a:off x="1220760" y="296712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13"/>
            <p:cNvSpPr/>
            <p:nvPr/>
          </p:nvSpPr>
          <p:spPr>
            <a:xfrm>
              <a:off x="1220760" y="5916600"/>
              <a:ext cx="68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4"/>
            <p:cNvSpPr/>
            <p:nvPr/>
          </p:nvSpPr>
          <p:spPr>
            <a:xfrm>
              <a:off x="1220760" y="5916600"/>
              <a:ext cx="685008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5"/>
            <p:cNvSpPr/>
            <p:nvPr/>
          </p:nvSpPr>
          <p:spPr>
            <a:xfrm>
              <a:off x="4167360" y="1762200"/>
              <a:ext cx="3716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--------Millions of Dollars--------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6"/>
            <p:cNvSpPr/>
            <p:nvPr/>
          </p:nvSpPr>
          <p:spPr>
            <a:xfrm>
              <a:off x="3108960" y="2184480"/>
              <a:ext cx="94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7"/>
            <p:cNvSpPr/>
            <p:nvPr/>
          </p:nvSpPr>
          <p:spPr>
            <a:xfrm>
              <a:off x="4121640" y="2184480"/>
              <a:ext cx="152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LOA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8"/>
            <p:cNvSpPr/>
            <p:nvPr/>
          </p:nvSpPr>
          <p:spPr>
            <a:xfrm>
              <a:off x="5645160" y="2184480"/>
              <a:ext cx="1003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IX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9"/>
            <p:cNvSpPr/>
            <p:nvPr/>
          </p:nvSpPr>
          <p:spPr>
            <a:xfrm>
              <a:off x="7149240" y="2184480"/>
              <a:ext cx="58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20"/>
            <p:cNvSpPr/>
            <p:nvPr/>
          </p:nvSpPr>
          <p:spPr>
            <a:xfrm>
              <a:off x="1718280" y="260496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1"/>
            <p:cNvSpPr/>
            <p:nvPr/>
          </p:nvSpPr>
          <p:spPr>
            <a:xfrm>
              <a:off x="3223080" y="2604960"/>
              <a:ext cx="72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22"/>
            <p:cNvSpPr/>
            <p:nvPr/>
          </p:nvSpPr>
          <p:spPr>
            <a:xfrm>
              <a:off x="418896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3"/>
            <p:cNvSpPr/>
            <p:nvPr/>
          </p:nvSpPr>
          <p:spPr>
            <a:xfrm>
              <a:off x="547164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24"/>
            <p:cNvSpPr/>
            <p:nvPr/>
          </p:nvSpPr>
          <p:spPr>
            <a:xfrm>
              <a:off x="6757560" y="2604960"/>
              <a:ext cx="1388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5"/>
            <p:cNvSpPr/>
            <p:nvPr/>
          </p:nvSpPr>
          <p:spPr>
            <a:xfrm>
              <a:off x="1326600" y="302724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26"/>
            <p:cNvSpPr/>
            <p:nvPr/>
          </p:nvSpPr>
          <p:spPr>
            <a:xfrm>
              <a:off x="3166560" y="30272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27"/>
            <p:cNvSpPr/>
            <p:nvPr/>
          </p:nvSpPr>
          <p:spPr>
            <a:xfrm>
              <a:off x="1210680" y="344808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28"/>
            <p:cNvSpPr/>
            <p:nvPr/>
          </p:nvSpPr>
          <p:spPr>
            <a:xfrm>
              <a:off x="3166560" y="344808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29"/>
            <p:cNvSpPr/>
            <p:nvPr/>
          </p:nvSpPr>
          <p:spPr>
            <a:xfrm>
              <a:off x="4403880" y="34480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30"/>
            <p:cNvSpPr/>
            <p:nvPr/>
          </p:nvSpPr>
          <p:spPr>
            <a:xfrm>
              <a:off x="5672160" y="34480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31"/>
            <p:cNvSpPr/>
            <p:nvPr/>
          </p:nvSpPr>
          <p:spPr>
            <a:xfrm>
              <a:off x="6958080" y="34480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32"/>
            <p:cNvSpPr/>
            <p:nvPr/>
          </p:nvSpPr>
          <p:spPr>
            <a:xfrm>
              <a:off x="1316880" y="386856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33"/>
            <p:cNvSpPr/>
            <p:nvPr/>
          </p:nvSpPr>
          <p:spPr>
            <a:xfrm>
              <a:off x="3166560" y="38685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34"/>
            <p:cNvSpPr/>
            <p:nvPr/>
          </p:nvSpPr>
          <p:spPr>
            <a:xfrm>
              <a:off x="4403880" y="38685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35"/>
            <p:cNvSpPr/>
            <p:nvPr/>
          </p:nvSpPr>
          <p:spPr>
            <a:xfrm>
              <a:off x="5672160" y="38685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36"/>
            <p:cNvSpPr/>
            <p:nvPr/>
          </p:nvSpPr>
          <p:spPr>
            <a:xfrm>
              <a:off x="6958080" y="38685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37"/>
            <p:cNvSpPr/>
            <p:nvPr/>
          </p:nvSpPr>
          <p:spPr>
            <a:xfrm>
              <a:off x="1201320" y="429084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38"/>
            <p:cNvSpPr/>
            <p:nvPr/>
          </p:nvSpPr>
          <p:spPr>
            <a:xfrm>
              <a:off x="3166560" y="42908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39"/>
            <p:cNvSpPr/>
            <p:nvPr/>
          </p:nvSpPr>
          <p:spPr>
            <a:xfrm>
              <a:off x="4403880" y="429084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6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40"/>
            <p:cNvSpPr/>
            <p:nvPr/>
          </p:nvSpPr>
          <p:spPr>
            <a:xfrm>
              <a:off x="5672160" y="429084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41"/>
            <p:cNvSpPr/>
            <p:nvPr/>
          </p:nvSpPr>
          <p:spPr>
            <a:xfrm>
              <a:off x="6971040" y="429084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42"/>
            <p:cNvSpPr/>
            <p:nvPr/>
          </p:nvSpPr>
          <p:spPr>
            <a:xfrm>
              <a:off x="1326600" y="471168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43"/>
            <p:cNvSpPr/>
            <p:nvPr/>
          </p:nvSpPr>
          <p:spPr>
            <a:xfrm>
              <a:off x="3166560" y="471168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44"/>
            <p:cNvSpPr/>
            <p:nvPr/>
          </p:nvSpPr>
          <p:spPr>
            <a:xfrm>
              <a:off x="4403880" y="47116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45"/>
            <p:cNvSpPr/>
            <p:nvPr/>
          </p:nvSpPr>
          <p:spPr>
            <a:xfrm>
              <a:off x="5672160" y="471168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46"/>
            <p:cNvSpPr/>
            <p:nvPr/>
          </p:nvSpPr>
          <p:spPr>
            <a:xfrm>
              <a:off x="6971040" y="471168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47"/>
            <p:cNvSpPr/>
            <p:nvPr/>
          </p:nvSpPr>
          <p:spPr>
            <a:xfrm>
              <a:off x="1210680" y="5133960"/>
              <a:ext cx="169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pt. 5, 20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8"/>
            <p:cNvSpPr/>
            <p:nvPr/>
          </p:nvSpPr>
          <p:spPr>
            <a:xfrm>
              <a:off x="3166560" y="5133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49"/>
            <p:cNvSpPr/>
            <p:nvPr/>
          </p:nvSpPr>
          <p:spPr>
            <a:xfrm>
              <a:off x="4403880" y="51339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50"/>
            <p:cNvSpPr/>
            <p:nvPr/>
          </p:nvSpPr>
          <p:spPr>
            <a:xfrm>
              <a:off x="5672160" y="513396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51"/>
            <p:cNvSpPr/>
            <p:nvPr/>
          </p:nvSpPr>
          <p:spPr>
            <a:xfrm>
              <a:off x="6971040" y="513396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52"/>
            <p:cNvSpPr/>
            <p:nvPr/>
          </p:nvSpPr>
          <p:spPr>
            <a:xfrm>
              <a:off x="1326600" y="5554800"/>
              <a:ext cx="1542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.5, 20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53"/>
            <p:cNvSpPr/>
            <p:nvPr/>
          </p:nvSpPr>
          <p:spPr>
            <a:xfrm>
              <a:off x="3166560" y="555480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.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54"/>
            <p:cNvSpPr/>
            <p:nvPr/>
          </p:nvSpPr>
          <p:spPr>
            <a:xfrm>
              <a:off x="4403880" y="555480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2.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55"/>
            <p:cNvSpPr/>
            <p:nvPr/>
          </p:nvSpPr>
          <p:spPr>
            <a:xfrm>
              <a:off x="5672160" y="5554800"/>
              <a:ext cx="82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56"/>
            <p:cNvSpPr/>
            <p:nvPr/>
          </p:nvSpPr>
          <p:spPr>
            <a:xfrm>
              <a:off x="6971040" y="5554800"/>
              <a:ext cx="82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0.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74480" y="210600"/>
            <a:ext cx="820404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Cash Flows to Microsoft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6" name="Slide Number Placeholder 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C0AD-3C62-4077-A18A-5CC7E30486C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Exchange of Principal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607760" y="206676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interest rate swap the principal is not ex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currency swap the principal is exchanged at the beginning and the end of the 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A78A-F60D-4053-8360-8F14F626497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The Cash Flows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8" name="Rectangle 3"/>
          <p:cNvSpPr/>
          <p:nvPr/>
        </p:nvSpPr>
        <p:spPr>
          <a:xfrm>
            <a:off x="2975400" y="234468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4"/>
          <p:cNvSpPr/>
          <p:nvPr/>
        </p:nvSpPr>
        <p:spPr>
          <a:xfrm>
            <a:off x="2990880" y="150192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"/>
          <p:cNvSpPr/>
          <p:nvPr/>
        </p:nvSpPr>
        <p:spPr>
          <a:xfrm>
            <a:off x="2990880" y="273060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6"/>
          <p:cNvSpPr/>
          <p:nvPr/>
        </p:nvSpPr>
        <p:spPr>
          <a:xfrm>
            <a:off x="3124080" y="5410080"/>
            <a:ext cx="316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7"/>
          <p:cNvSpPr/>
          <p:nvPr/>
        </p:nvSpPr>
        <p:spPr>
          <a:xfrm>
            <a:off x="2990880" y="5722920"/>
            <a:ext cx="31557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8"/>
          <p:cNvSpPr/>
          <p:nvPr/>
        </p:nvSpPr>
        <p:spPr>
          <a:xfrm>
            <a:off x="3921480" y="1579680"/>
            <a:ext cx="113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9"/>
          <p:cNvSpPr/>
          <p:nvPr/>
        </p:nvSpPr>
        <p:spPr>
          <a:xfrm>
            <a:off x="5123880" y="1579680"/>
            <a:ext cx="12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0"/>
          <p:cNvSpPr/>
          <p:nvPr/>
        </p:nvSpPr>
        <p:spPr>
          <a:xfrm>
            <a:off x="4232160" y="19461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2"/>
          <p:cNvSpPr/>
          <p:nvPr/>
        </p:nvSpPr>
        <p:spPr>
          <a:xfrm>
            <a:off x="3868920" y="2344680"/>
            <a:ext cx="24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millions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3"/>
          <p:cNvSpPr/>
          <p:nvPr/>
        </p:nvSpPr>
        <p:spPr>
          <a:xfrm>
            <a:off x="2895480" y="2787480"/>
            <a:ext cx="119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4"/>
          <p:cNvSpPr/>
          <p:nvPr/>
        </p:nvSpPr>
        <p:spPr>
          <a:xfrm>
            <a:off x="3733920" y="2787480"/>
            <a:ext cx="144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5"/>
          <p:cNvSpPr/>
          <p:nvPr/>
        </p:nvSpPr>
        <p:spPr>
          <a:xfrm>
            <a:off x="5016600" y="2787480"/>
            <a:ext cx="138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6"/>
          <p:cNvSpPr/>
          <p:nvPr/>
        </p:nvSpPr>
        <p:spPr>
          <a:xfrm>
            <a:off x="2895480" y="320976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7"/>
          <p:cNvSpPr/>
          <p:nvPr/>
        </p:nvSpPr>
        <p:spPr>
          <a:xfrm>
            <a:off x="4080600" y="3189240"/>
            <a:ext cx="104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8"/>
          <p:cNvSpPr/>
          <p:nvPr/>
        </p:nvSpPr>
        <p:spPr>
          <a:xfrm>
            <a:off x="5153400" y="320976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9"/>
          <p:cNvSpPr/>
          <p:nvPr/>
        </p:nvSpPr>
        <p:spPr>
          <a:xfrm>
            <a:off x="2819520" y="365760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3973680" y="3630600"/>
            <a:ext cx="112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5153400" y="363060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22"/>
          <p:cNvSpPr/>
          <p:nvPr/>
        </p:nvSpPr>
        <p:spPr>
          <a:xfrm>
            <a:off x="2819520" y="4051440"/>
            <a:ext cx="122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3"/>
          <p:cNvSpPr/>
          <p:nvPr/>
        </p:nvSpPr>
        <p:spPr>
          <a:xfrm>
            <a:off x="3973680" y="4051440"/>
            <a:ext cx="112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24"/>
          <p:cNvSpPr/>
          <p:nvPr/>
        </p:nvSpPr>
        <p:spPr>
          <a:xfrm>
            <a:off x="5153400" y="405144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5"/>
          <p:cNvSpPr/>
          <p:nvPr/>
        </p:nvSpPr>
        <p:spPr>
          <a:xfrm>
            <a:off x="2895480" y="449568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26"/>
          <p:cNvSpPr/>
          <p:nvPr/>
        </p:nvSpPr>
        <p:spPr>
          <a:xfrm>
            <a:off x="3973320" y="4473720"/>
            <a:ext cx="121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27"/>
          <p:cNvSpPr/>
          <p:nvPr/>
        </p:nvSpPr>
        <p:spPr>
          <a:xfrm>
            <a:off x="5153400" y="447372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8"/>
          <p:cNvSpPr/>
          <p:nvPr/>
        </p:nvSpPr>
        <p:spPr>
          <a:xfrm>
            <a:off x="2819520" y="4894200"/>
            <a:ext cx="122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29"/>
          <p:cNvSpPr/>
          <p:nvPr/>
        </p:nvSpPr>
        <p:spPr>
          <a:xfrm>
            <a:off x="3975120" y="489420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9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0"/>
          <p:cNvSpPr/>
          <p:nvPr/>
        </p:nvSpPr>
        <p:spPr>
          <a:xfrm>
            <a:off x="5154480" y="489420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4"/>
          <p:cNvSpPr/>
          <p:nvPr/>
        </p:nvSpPr>
        <p:spPr>
          <a:xfrm>
            <a:off x="5439600" y="19461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3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3C7B-3684-4207-9616-84DB8113EB8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ypical Uses of a 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urrency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79560" y="2205000"/>
            <a:ext cx="7192800" cy="24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rom a liability in one currency to a liability in another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rom an investment in one currency to an investment in another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FEA2-8E46-4D96-BE68-9FB83152D80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omparative Advantage Arguments for Currency Swap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104840" y="1774800"/>
            <a:ext cx="7345440" cy="14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Motors wants to borrow 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ntas wants to borrow U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18"/>
          <p:cNvGrpSpPr/>
          <p:nvPr/>
        </p:nvGrpSpPr>
        <p:grpSpPr>
          <a:xfrm>
            <a:off x="1618920" y="3267000"/>
            <a:ext cx="5184720" cy="1671120"/>
            <a:chOff x="1618920" y="3267000"/>
            <a:chExt cx="5184720" cy="1671120"/>
          </a:xfrm>
        </p:grpSpPr>
        <p:sp>
          <p:nvSpPr>
            <p:cNvPr id="1173" name="Line 4"/>
            <p:cNvSpPr/>
            <p:nvPr/>
          </p:nvSpPr>
          <p:spPr>
            <a:xfrm>
              <a:off x="1631880" y="326700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5"/>
            <p:cNvSpPr/>
            <p:nvPr/>
          </p:nvSpPr>
          <p:spPr>
            <a:xfrm>
              <a:off x="1631880" y="326700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1631880" y="392436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7"/>
            <p:cNvSpPr/>
            <p:nvPr/>
          </p:nvSpPr>
          <p:spPr>
            <a:xfrm>
              <a:off x="1631880" y="392436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1631880" y="4881600"/>
              <a:ext cx="517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9"/>
            <p:cNvSpPr/>
            <p:nvPr/>
          </p:nvSpPr>
          <p:spPr>
            <a:xfrm>
              <a:off x="1631880" y="4881600"/>
              <a:ext cx="515916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3935520" y="3405240"/>
              <a:ext cx="90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1"/>
            <p:cNvSpPr/>
            <p:nvPr/>
          </p:nvSpPr>
          <p:spPr>
            <a:xfrm>
              <a:off x="5617440" y="3405240"/>
              <a:ext cx="826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"/>
            <p:cNvSpPr/>
            <p:nvPr/>
          </p:nvSpPr>
          <p:spPr>
            <a:xfrm>
              <a:off x="1618920" y="400212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eral Mo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3"/>
            <p:cNvSpPr/>
            <p:nvPr/>
          </p:nvSpPr>
          <p:spPr>
            <a:xfrm>
              <a:off x="3840840" y="4002120"/>
              <a:ext cx="113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4"/>
            <p:cNvSpPr/>
            <p:nvPr/>
          </p:nvSpPr>
          <p:spPr>
            <a:xfrm>
              <a:off x="5455440" y="400212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.6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5"/>
            <p:cNvSpPr/>
            <p:nvPr/>
          </p:nvSpPr>
          <p:spPr>
            <a:xfrm>
              <a:off x="1622880" y="4479840"/>
              <a:ext cx="116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an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6"/>
            <p:cNvSpPr/>
            <p:nvPr/>
          </p:nvSpPr>
          <p:spPr>
            <a:xfrm>
              <a:off x="3840840" y="4479840"/>
              <a:ext cx="113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7"/>
            <p:cNvSpPr/>
            <p:nvPr/>
          </p:nvSpPr>
          <p:spPr>
            <a:xfrm>
              <a:off x="5455440" y="447984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2EE4-4EFF-409B-BB5D-DFFD9CE740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95280" y="5445000"/>
            <a:ext cx="669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GM wants to borrow 20 million AUD and Qantas needs 12 million USD  (1 USD  =  1.666   A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1116000" y="2565360"/>
            <a:ext cx="122400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51280" y="2565360"/>
            <a:ext cx="100800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372360" y="2565360"/>
            <a:ext cx="1152360" cy="1008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403280" y="2924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                                 arranger                                 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50920" y="29973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885080" y="306864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258920" y="558972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26370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812000" y="3284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484360" y="306864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003640" y="299736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411280" y="3213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1.9%                       AUD 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328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55564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556000" y="2205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USD                      6.3%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90760" y="5032440"/>
            <a:ext cx="69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r = 6.3  + 11.9  -  5  -13  =   20  basis points   WHY 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5326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Why The Swap?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For example….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8" name="Rectangle 3"/>
          <p:cNvSpPr/>
          <p:nvPr/>
        </p:nvSpPr>
        <p:spPr>
          <a:xfrm>
            <a:off x="2133720" y="32767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4724280" y="32767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5"/>
          <p:cNvSpPr/>
          <p:nvPr/>
        </p:nvSpPr>
        <p:spPr>
          <a:xfrm>
            <a:off x="3075120" y="3859200"/>
            <a:ext cx="2189160" cy="368280"/>
          </a:xfrm>
          <a:prstGeom prst="rightArrow">
            <a:avLst>
              <a:gd name="adj1" fmla="val 50000"/>
              <a:gd name="adj2" fmla="val 2972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6"/>
          <p:cNvSpPr/>
          <p:nvPr/>
        </p:nvSpPr>
        <p:spPr>
          <a:xfrm>
            <a:off x="2906640" y="2820960"/>
            <a:ext cx="2210040" cy="347760"/>
          </a:xfrm>
          <a:prstGeom prst="leftArrow">
            <a:avLst>
              <a:gd name="adj1" fmla="val 50000"/>
              <a:gd name="adj2" fmla="val 31454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7"/>
          <p:cNvSpPr/>
          <p:nvPr/>
        </p:nvSpPr>
        <p:spPr>
          <a:xfrm>
            <a:off x="6272280" y="3435480"/>
            <a:ext cx="1638360" cy="304560"/>
          </a:xfrm>
          <a:prstGeom prst="rightArrow">
            <a:avLst>
              <a:gd name="adj1" fmla="val 50000"/>
              <a:gd name="adj2" fmla="val 2829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8"/>
          <p:cNvSpPr/>
          <p:nvPr/>
        </p:nvSpPr>
        <p:spPr>
          <a:xfrm>
            <a:off x="493560" y="3478320"/>
            <a:ext cx="1659240" cy="282600"/>
          </a:xfrm>
          <a:prstGeom prst="leftArrow">
            <a:avLst>
              <a:gd name="adj1" fmla="val 50000"/>
              <a:gd name="adj2" fmla="val 29353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557880" y="444168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3661920" y="223992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1"/>
          <p:cNvSpPr/>
          <p:nvPr/>
        </p:nvSpPr>
        <p:spPr>
          <a:xfrm>
            <a:off x="6180120" y="3890880"/>
            <a:ext cx="190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2"/>
          <p:cNvSpPr/>
          <p:nvPr/>
        </p:nvSpPr>
        <p:spPr>
          <a:xfrm>
            <a:off x="732960" y="2938320"/>
            <a:ext cx="82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1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ABA6-10B9-4FA1-8A0A-846A2DB9201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39640" y="522936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 has transformed a Floating Rate loan (L + 1%) into a Fixed Rate loan (5.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A more realistic situation…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206856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780000" y="3573360"/>
            <a:ext cx="145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7"/>
          <p:cNvSpPr/>
          <p:nvPr/>
        </p:nvSpPr>
        <p:spPr>
          <a:xfrm>
            <a:off x="4979880" y="3963960"/>
            <a:ext cx="1363680" cy="411120"/>
          </a:xfrm>
          <a:prstGeom prst="rightArrow">
            <a:avLst>
              <a:gd name="adj1" fmla="val 50000"/>
              <a:gd name="adj2" fmla="val 16586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8"/>
          <p:cNvSpPr/>
          <p:nvPr/>
        </p:nvSpPr>
        <p:spPr>
          <a:xfrm>
            <a:off x="2589120" y="3986280"/>
            <a:ext cx="1405080" cy="368280"/>
          </a:xfrm>
          <a:prstGeom prst="rightArrow">
            <a:avLst>
              <a:gd name="adj1" fmla="val 50000"/>
              <a:gd name="adj2" fmla="val 19078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9"/>
          <p:cNvSpPr/>
          <p:nvPr/>
        </p:nvSpPr>
        <p:spPr>
          <a:xfrm>
            <a:off x="2567160" y="3075120"/>
            <a:ext cx="1342800" cy="347400"/>
          </a:xfrm>
          <a:prstGeom prst="leftArrow">
            <a:avLst>
              <a:gd name="adj1" fmla="val 50000"/>
              <a:gd name="adj2" fmla="val 18716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10"/>
          <p:cNvSpPr/>
          <p:nvPr/>
        </p:nvSpPr>
        <p:spPr>
          <a:xfrm>
            <a:off x="4979880" y="3097080"/>
            <a:ext cx="1363680" cy="368280"/>
          </a:xfrm>
          <a:prstGeom prst="leftArrow">
            <a:avLst>
              <a:gd name="adj1" fmla="val 50000"/>
              <a:gd name="adj2" fmla="val 18512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11"/>
          <p:cNvSpPr/>
          <p:nvPr/>
        </p:nvSpPr>
        <p:spPr>
          <a:xfrm>
            <a:off x="7391520" y="3733920"/>
            <a:ext cx="1257120" cy="274680"/>
          </a:xfrm>
          <a:prstGeom prst="rightArrow">
            <a:avLst>
              <a:gd name="adj1" fmla="val 50000"/>
              <a:gd name="adj2" fmla="val 22885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12"/>
          <p:cNvSpPr/>
          <p:nvPr/>
        </p:nvSpPr>
        <p:spPr>
          <a:xfrm>
            <a:off x="684360" y="3695760"/>
            <a:ext cx="960120" cy="295200"/>
          </a:xfrm>
          <a:prstGeom prst="leftArrow">
            <a:avLst>
              <a:gd name="adj1" fmla="val 50000"/>
              <a:gd name="adj2" fmla="val 16260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2562480" y="450540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4996080" y="4484520"/>
            <a:ext cx="109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6794640" y="4145040"/>
            <a:ext cx="196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6"/>
          <p:cNvSpPr/>
          <p:nvPr/>
        </p:nvSpPr>
        <p:spPr>
          <a:xfrm>
            <a:off x="2675880" y="245268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9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7"/>
          <p:cNvSpPr/>
          <p:nvPr/>
        </p:nvSpPr>
        <p:spPr>
          <a:xfrm>
            <a:off x="4961880" y="2494080"/>
            <a:ext cx="112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0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8"/>
          <p:cNvSpPr/>
          <p:nvPr/>
        </p:nvSpPr>
        <p:spPr>
          <a:xfrm>
            <a:off x="563040" y="3192480"/>
            <a:ext cx="82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9"/>
          <p:cNvSpPr/>
          <p:nvPr/>
        </p:nvSpPr>
        <p:spPr>
          <a:xfrm>
            <a:off x="1676520" y="35053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20"/>
          <p:cNvSpPr/>
          <p:nvPr/>
        </p:nvSpPr>
        <p:spPr>
          <a:xfrm>
            <a:off x="6095880" y="35053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EC8D-7F3D-4F33-B3CD-E0728B9024C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39640" y="5589720"/>
            <a:ext cx="60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ranger gets involved in the middle…  arranger gets a fee [3  basis  points], MS pays  5.1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924360" y="3141720"/>
            <a:ext cx="1008000" cy="1152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140360" y="1557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4427280" y="1844640"/>
            <a:ext cx="21564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Quotes By a Swap Market Maker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85800" y="1773360"/>
          <a:ext cx="7989840" cy="3755880"/>
        </p:xfrm>
        <a:graphic>
          <a:graphicData uri="http://schemas.openxmlformats.org/drawingml/2006/table">
            <a:tbl>
              <a:tblPr/>
              <a:tblGrid>
                <a:gridCol w="1996920"/>
                <a:gridCol w="1602000"/>
                <a:gridCol w="1800000"/>
                <a:gridCol w="2590920"/>
              </a:tblGrid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p Rate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EAF0-35AB-4300-A0F2-594C339F51B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The Comparative Advantage Argument</a:t>
            </a: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643896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Corp wants to borrow fl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BCorp wants to borrow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need a loan (5 years, US$ 10 m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19"/>
          <p:cNvGrpSpPr/>
          <p:nvPr/>
        </p:nvGrpSpPr>
        <p:grpSpPr>
          <a:xfrm>
            <a:off x="611280" y="2492280"/>
            <a:ext cx="5092920" cy="2527200"/>
            <a:chOff x="611280" y="2492280"/>
            <a:chExt cx="5092920" cy="2527200"/>
          </a:xfrm>
        </p:grpSpPr>
        <p:sp>
          <p:nvSpPr>
            <p:cNvPr id="998" name="Line 4"/>
            <p:cNvSpPr/>
            <p:nvPr/>
          </p:nvSpPr>
          <p:spPr>
            <a:xfrm>
              <a:off x="731160" y="299484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5"/>
            <p:cNvSpPr/>
            <p:nvPr/>
          </p:nvSpPr>
          <p:spPr>
            <a:xfrm>
              <a:off x="731160" y="299484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731160" y="381960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7"/>
            <p:cNvSpPr/>
            <p:nvPr/>
          </p:nvSpPr>
          <p:spPr>
            <a:xfrm>
              <a:off x="731160" y="381960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>
              <a:off x="731160" y="5015520"/>
              <a:ext cx="464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9"/>
            <p:cNvSpPr/>
            <p:nvPr/>
          </p:nvSpPr>
          <p:spPr>
            <a:xfrm>
              <a:off x="731160" y="5015520"/>
              <a:ext cx="4634280" cy="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10"/>
            <p:cNvSpPr/>
            <p:nvPr/>
          </p:nvSpPr>
          <p:spPr>
            <a:xfrm>
              <a:off x="611280" y="2492280"/>
              <a:ext cx="34488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11"/>
            <p:cNvSpPr/>
            <p:nvPr/>
          </p:nvSpPr>
          <p:spPr>
            <a:xfrm>
              <a:off x="1970280" y="322524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ix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12"/>
            <p:cNvSpPr/>
            <p:nvPr/>
          </p:nvSpPr>
          <p:spPr>
            <a:xfrm>
              <a:off x="3591720" y="3225240"/>
              <a:ext cx="116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loa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13"/>
            <p:cNvSpPr/>
            <p:nvPr/>
          </p:nvSpPr>
          <p:spPr>
            <a:xfrm>
              <a:off x="723240" y="3972240"/>
              <a:ext cx="1245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AACo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4"/>
            <p:cNvSpPr/>
            <p:nvPr/>
          </p:nvSpPr>
          <p:spPr>
            <a:xfrm>
              <a:off x="1957680" y="397224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15"/>
            <p:cNvSpPr/>
            <p:nvPr/>
          </p:nvSpPr>
          <p:spPr>
            <a:xfrm>
              <a:off x="2882520" y="3972240"/>
              <a:ext cx="28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-month LIBOR − 0.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16"/>
            <p:cNvSpPr/>
            <p:nvPr/>
          </p:nvSpPr>
          <p:spPr>
            <a:xfrm>
              <a:off x="724320" y="4572720"/>
              <a:ext cx="1245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BBCo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17"/>
            <p:cNvSpPr/>
            <p:nvPr/>
          </p:nvSpPr>
          <p:spPr>
            <a:xfrm>
              <a:off x="1957680" y="457272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2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18"/>
            <p:cNvSpPr/>
            <p:nvPr/>
          </p:nvSpPr>
          <p:spPr>
            <a:xfrm>
              <a:off x="2882520" y="4572720"/>
              <a:ext cx="28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-month LIBOR + 0.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539640" y="5805360"/>
            <a:ext cx="525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oating rate difference is 120 basis pts, the fixed rate difference is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he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693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4"/>
          <p:cNvSpPr/>
          <p:nvPr/>
        </p:nvSpPr>
        <p:spPr>
          <a:xfrm>
            <a:off x="2071800" y="3357720"/>
            <a:ext cx="16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C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5"/>
          <p:cNvSpPr/>
          <p:nvPr/>
        </p:nvSpPr>
        <p:spPr>
          <a:xfrm>
            <a:off x="5429160" y="3357720"/>
            <a:ext cx="178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BBC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6"/>
          <p:cNvSpPr/>
          <p:nvPr/>
        </p:nvSpPr>
        <p:spPr>
          <a:xfrm>
            <a:off x="3429000" y="4000680"/>
            <a:ext cx="2400480" cy="452160"/>
          </a:xfrm>
          <a:prstGeom prst="rightArrow">
            <a:avLst>
              <a:gd name="adj1" fmla="val 50000"/>
              <a:gd name="adj2" fmla="val 26547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7"/>
          <p:cNvSpPr/>
          <p:nvPr/>
        </p:nvSpPr>
        <p:spPr>
          <a:xfrm>
            <a:off x="3357720" y="2786040"/>
            <a:ext cx="2214360" cy="495360"/>
          </a:xfrm>
          <a:prstGeom prst="leftArrow">
            <a:avLst>
              <a:gd name="adj1" fmla="val 50000"/>
              <a:gd name="adj2" fmla="val 240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8"/>
          <p:cNvSpPr/>
          <p:nvPr/>
        </p:nvSpPr>
        <p:spPr>
          <a:xfrm>
            <a:off x="7215120" y="3429000"/>
            <a:ext cx="1509840" cy="351000"/>
          </a:xfrm>
          <a:prstGeom prst="rightArrow">
            <a:avLst>
              <a:gd name="adj1" fmla="val 50000"/>
              <a:gd name="adj2" fmla="val 28346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9"/>
          <p:cNvSpPr/>
          <p:nvPr/>
        </p:nvSpPr>
        <p:spPr>
          <a:xfrm>
            <a:off x="285840" y="3500280"/>
            <a:ext cx="1428840" cy="285840"/>
          </a:xfrm>
          <a:prstGeom prst="leftArrow">
            <a:avLst>
              <a:gd name="adj1" fmla="val 50000"/>
              <a:gd name="adj2" fmla="val 29427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0"/>
          <p:cNvSpPr/>
          <p:nvPr/>
        </p:nvSpPr>
        <p:spPr>
          <a:xfrm>
            <a:off x="3929040" y="4632480"/>
            <a:ext cx="133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1"/>
          <p:cNvSpPr/>
          <p:nvPr/>
        </p:nvSpPr>
        <p:spPr>
          <a:xfrm>
            <a:off x="7000920" y="3849840"/>
            <a:ext cx="214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OR+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2"/>
          <p:cNvSpPr/>
          <p:nvPr/>
        </p:nvSpPr>
        <p:spPr>
          <a:xfrm>
            <a:off x="4149000" y="219852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3"/>
          <p:cNvSpPr/>
          <p:nvPr/>
        </p:nvSpPr>
        <p:spPr>
          <a:xfrm>
            <a:off x="1164600" y="285444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E4C4-C8C2-4C52-8360-AA317F6F4A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84360" y="5516640"/>
            <a:ext cx="7488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 pays 4.35% + 0.6% =  4.95%  (lower than  5.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 pays  LIBOR - .35% (better than L  -  .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of an Interest Rate Swap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swaps can be valued as the difference between the value of a fixed-rate bond and the value of a floating-rat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ly, they can be valued as a portfolio of forward rate agreements (F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53E0-B675-4003-84F2-9563128A8BC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aluation in Terms of Bond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xed rate bond is valued in the usual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oating rate bond is valued by noting that it is worth par immediately after the next payment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3001-D49A-44BE-8372-8EAE983B60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4T09:26:34Z</dcterms:created>
  <dc:creator>John C. Hull</dc:creator>
  <dc:description>Copyright 2010 by John C. Hull.
All rights reserved. Published 2010.</dc:description>
  <cp:keywords>Chapter 7</cp:keywords>
  <dc:language>en-US</dc:language>
  <cp:lastModifiedBy>VCHARLIN</cp:lastModifiedBy>
  <cp:lastPrinted>2001-05-03T11:40:36Z</cp:lastPrinted>
  <dcterms:modified xsi:type="dcterms:W3CDTF">2010-10-05T13:29:57Z</dcterms:modified>
  <cp:revision>71</cp:revision>
  <dc:subject>Fundamentals of Futures and Options Markets, 7E</dc:subject>
  <dc:title>Swaps</dc:title>
</cp:coreProperties>
</file>