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5C5603-D38E-4BF5-9C1C-A5FDAE1C7F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 type="sldImg"/>
          </p:nvPr>
        </p:nvSpPr>
        <p:spPr>
          <a:xfrm>
            <a:off x="1127160" y="69228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8FDCD0-705D-4043-96A9-55E3CA7333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4DA48E-003F-4FA9-ABF3-365A5A9DF7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5F6-B56E-4FD9-B853-3F1A8341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403-A08E-4198-B281-963BED60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EAD94-B7B2-4B2C-AFAE-435517D1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E1CF5-AB83-490C-B856-D6473734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492E2-DBD0-48FE-B44D-8A546EB8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5E9F3-E0BA-4027-9221-28A0A35A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E29D9-0294-4EBA-A32E-01C5A49A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4C3FE-5FE5-49E3-864C-54E2D2D6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7151D-9D5B-493F-B687-EC2CCF64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C5944-89E0-4401-A648-F75609AD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11587-7EA0-4BD9-9C2B-25A9D781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401B2-A356-4B34-815B-F534E7BA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89A-4B0D-4C9A-9544-6693C54D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D07B3-3655-4DFE-90F2-BEEF9B3F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D3A78-B18D-4913-9C34-F7A5FADE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D4186-013E-441D-87E5-5E16F43A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A5199-D46A-4FD3-9F80-B4209ACD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48467-1956-444E-A9B1-CC531054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B6150-33B2-4C5F-ACD9-E4E3D1CA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EF4C8-8469-455C-86EE-C1EE54FA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AF400-20AE-436D-937C-3290A1AA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938AF-E264-4AA2-81EA-8EBC454B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AECF4-02D4-442E-ADDA-1A14876E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906-1F0E-4ADD-AFE2-A4978616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E8939-ECC7-45FB-8BE9-166FE0D1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B6AAB-D40D-4E1F-8BB5-6E7844BA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97C3D-E013-4EEC-8B1B-1DDC4200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1A614-1358-4B4E-862B-1AE89F02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52D4E-5B0A-4A5F-82C2-C838F87E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5D50A-E0E2-4349-AC75-8A07F4B8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D6B48-3722-45C2-8CEC-C8793D14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0C5F7-6E5D-4BED-9561-034F39B4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01E46-86EC-44F3-A56A-7802325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12CAC-EFD4-4781-A43C-FF33BE6E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4F37-D5BC-410B-B9AE-D57951C0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47490-7193-4689-AA12-ED6280FF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F6997-BBA9-4578-9CFA-FC7261A4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43B5F-B7B4-43BB-860D-1F35BC71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2C938-68BB-4441-BF97-6061626E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F2301-4BDD-450F-87B9-12CD4186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D1A8C-5D21-4A12-B72C-DA34EEC5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1B3EC-1108-4125-8574-B3DD62FD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80B0A-E9F0-47D7-BEBA-DF0A5E22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722C3-378E-4F3A-8744-D394A9E4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F2483-E07D-456E-B543-F4F080E9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717D-CB68-4D00-BC3F-3C49D51A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5B670-0E13-44E7-8117-3AFF0459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9A7E8-B4F7-4942-9A2A-9E8A3B6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B50D0-9592-4151-9124-A3F52545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6D197-46B0-415E-98AD-1474A8FA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9A5A9-6FDB-4F15-9B3E-899E7547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8E59-694A-4489-AF57-AEA0A8ED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D9C2-BB44-4182-A8C0-B65A8FF2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BDA8-3CCF-4783-B2EA-32D08EAF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19BE-8379-4951-A89B-B44FC5FB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A3BA-29BD-45AA-9D44-45B53479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79E-F540-4876-97E5-82212F58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4784-345B-4AB1-B1AC-6539832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9B72-0963-467A-91D9-C89B368B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77A1-922F-4316-811E-AB094224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9615-5C01-4F10-A555-99868A46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9D10-5A06-4016-ADC6-D766B00E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56E1-7316-4DC4-B775-51711DBD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E732-48FE-46F0-B112-301F580C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B886-5408-4A4B-A56D-B1099FA5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5BC3-E6E6-472C-865F-C6558464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A7A5F-03F8-4505-8AE4-90EAA691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039-F082-4E2A-BDAD-90EA68EC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8E85-4E5B-46E2-84FE-07779A29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1882-F514-43FE-A513-3B71558E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B037-4A13-4EE3-B481-2E9093CE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125BB-2ABA-4F91-A975-6F71BE1D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4519-ECD1-430C-9D14-38134F92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EA98-F445-4C1A-8806-49F47D0D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F7E0-B598-44D3-86BF-2A324166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6761-C967-4857-8107-BF0FFE63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52A4-4EA8-4872-9F34-F55B5E55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10AF-B272-46CB-9E2F-44800465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EDA-3D41-45F7-9FBC-91BFBEA3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8DAD-097F-4266-9419-B3AC241A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92F6-09C5-4F56-9D0B-2797400C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6514-CAFB-484E-B2F8-288D3453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A589-54BA-4E48-9C57-43AE5CC7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F655B-C80A-44FD-AD55-9F24E948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F4526-B546-4854-BF97-4DD7E059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AD70A-61A2-402E-B1A3-A11BA5B0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95191-F763-40F1-AD08-3FF268FC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3D4F0-0F6E-4E02-858B-80690521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AD1C2-4E63-422D-A905-63513996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992-DA80-4F74-87CB-DDD3C0C0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EC111-1051-4946-95AB-09C662FB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DBB72-46CD-4804-847C-A5249B0C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37676-2F3E-4B18-BA1C-9C446561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F22E1-D845-4680-8E65-8665B79E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DBA24-F752-4501-BE72-01E84888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E050-D38A-4E42-AADE-F8AC15BF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EF1B8-3A24-4637-BCD3-B916C0B7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4F80D-1D28-437C-9D67-210EED33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06CFD-62D2-4EC8-ADDD-B9E34EA2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09D12-D4BA-41C3-B0EF-B9902116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0E0-997F-477A-A3C5-702134D3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34F3E-F946-4DC5-A248-1AFE8498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BCCD6-040C-4D2F-ADD0-62125DB1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7E0F-AEAD-4A2C-855D-8FFB50B4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1A4F5-2B62-4601-870D-3D0999FB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72520-BEF1-489D-B9DE-ABB0D16C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83C7-B3D2-4DA9-BEA0-23C5A76B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BE12F-FD17-4BC6-A7C0-2B68BD14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99EB0-585E-4760-8CBD-8AA71E3F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9EDAD-1537-4CF2-93C5-D5310E8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1742B-A3C8-4FCA-9B6C-B6C26ABF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97F-755C-4314-BA2B-757404BB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3C908-C633-4281-9473-CFE4D21E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D20FF-C6B9-4B3A-ABC7-7F78F124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358A7-6D7B-4DC2-814F-83C643C2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5DF2C-A6E6-4F33-9261-66621D57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1EC4A-2698-4A56-A675-47E41834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302B0-CC66-46CB-9785-0AFBAD2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FFD1A-B4DE-4AFF-9110-FC3A128B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80261-F6BD-4436-B2A8-46C88A75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2A9D6-1E3A-4F24-B109-2F20E1F5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DEB71-3DAA-4BB3-A9D0-DDED4FD9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09D-79B9-4DDE-8507-E47B9291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CBE88-700E-4CC3-B193-BD1E29A6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6F15A-76CE-4E04-9A23-6EC04712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1FD12-A66D-417B-915B-126DA438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4B132-043D-4304-8385-5D0D759D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C6FBE-F196-43B8-BEEE-148028B5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D5237-BD50-4408-A06D-22E71A23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C0A1-7C19-48AE-88D9-2D3FFC8B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8D6A9-343D-4E5C-A757-83CB1EA6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3D17D-8511-45BD-8E50-9CB5AFDC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3C891-CB90-4121-B9AE-1389E96F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97C-68DD-404B-BFD7-10FC0351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3CF26-225B-4481-B02E-A017761C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42238-58C6-4BFE-B687-FD09386A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6D383-2DC6-495C-93A2-886E3DBC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2E29D-BAFA-4AE2-B923-C2ED1D2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00E15-0351-48D0-B40C-3A560834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426F5-1AA2-4C5C-B1B7-6159FCD8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255B2-151B-477C-B76C-544B72A8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9BA0C-90D8-4EFA-A998-C98EE70B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69163-BC1B-45BD-B799-BC68A8CB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66461-3F09-482C-8053-0A11E286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D488D79A-D13B-469D-B91D-940A2732ED4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29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254D-53B3-4EEC-A922-AAC20D28377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3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0B8B-6648-489A-B572-1BB05805430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8E4B-8F40-44D5-93C9-24FE1646E34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BC6D-6AB5-41FE-B171-F3C2A2E9597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F7F3-0D35-45F9-8C05-6C937A2E16B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9287-5CCB-4EE9-9FD8-7ECEE91A259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04F1-687E-475F-9F37-23E68C99B12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A06A-67EA-4240-ADC8-90A2EE7DFF6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476E-7A6B-40BF-8528-AA1CEBCA955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3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1577-16B8-4A73-B016-32457C4E9C9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2F28-C94A-483D-99F0-1C136126CB9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5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An Example of a “Plain Vanilla” Interest Rate Swap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46000" y="2138400"/>
            <a:ext cx="7575840" cy="41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reement by Microsoft to receive 6-month LIBOR &amp; pay a fixed rate of 5% per annum every 6 months for 3 years on a notional principal of $100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lide illustrates cash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6441-21FF-4A1D-8A2A-D5F961A2BF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Value of Floating Rate Bond (</a:t>
            </a:r>
            <a:r>
              <a:rPr b="1" i="1" lang="en-CA" sz="3900" spc="-1" strike="noStrike">
                <a:solidFill>
                  <a:srgbClr val="7c1302"/>
                </a:solidFill>
                <a:latin typeface="Times New Roman"/>
              </a:rPr>
              <a:t>L</a:t>
            </a: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=Principal)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pSp>
        <p:nvGrpSpPr>
          <p:cNvPr id="1035" name="Group 6"/>
          <p:cNvGrpSpPr/>
          <p:nvPr/>
        </p:nvGrpSpPr>
        <p:grpSpPr>
          <a:xfrm>
            <a:off x="457200" y="2071800"/>
            <a:ext cx="7162920" cy="3720600"/>
            <a:chOff x="457200" y="2071800"/>
            <a:chExt cx="7162920" cy="3720600"/>
          </a:xfrm>
        </p:grpSpPr>
        <p:sp>
          <p:nvSpPr>
            <p:cNvPr id="1036" name="Straight Connector 7"/>
            <p:cNvSpPr/>
            <p:nvPr/>
          </p:nvSpPr>
          <p:spPr>
            <a:xfrm>
              <a:off x="1143000" y="4516560"/>
              <a:ext cx="434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Straight Connector 8"/>
            <p:cNvSpPr/>
            <p:nvPr/>
          </p:nvSpPr>
          <p:spPr>
            <a:xfrm flipH="1">
              <a:off x="114120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Straight Connector 9"/>
            <p:cNvSpPr/>
            <p:nvPr/>
          </p:nvSpPr>
          <p:spPr>
            <a:xfrm flipH="1">
              <a:off x="213192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Straight Connector 10"/>
            <p:cNvSpPr/>
            <p:nvPr/>
          </p:nvSpPr>
          <p:spPr>
            <a:xfrm flipH="1">
              <a:off x="403704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Straight Connector 11"/>
            <p:cNvSpPr/>
            <p:nvPr/>
          </p:nvSpPr>
          <p:spPr>
            <a:xfrm>
              <a:off x="5410440" y="4516560"/>
              <a:ext cx="1523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Box 17"/>
            <p:cNvSpPr/>
            <p:nvPr/>
          </p:nvSpPr>
          <p:spPr>
            <a:xfrm>
              <a:off x="990360" y="4095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Box 18"/>
            <p:cNvSpPr/>
            <p:nvPr/>
          </p:nvSpPr>
          <p:spPr>
            <a:xfrm>
              <a:off x="1981080" y="4095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Box 20"/>
            <p:cNvSpPr/>
            <p:nvPr/>
          </p:nvSpPr>
          <p:spPr>
            <a:xfrm>
              <a:off x="457200" y="460116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ation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Box 22"/>
            <p:cNvSpPr/>
            <p:nvPr/>
          </p:nvSpPr>
          <p:spPr>
            <a:xfrm>
              <a:off x="1676160" y="460116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 P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loating Pmt 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Box 23"/>
            <p:cNvSpPr/>
            <p:nvPr/>
          </p:nvSpPr>
          <p:spPr>
            <a:xfrm>
              <a:off x="3429000" y="46011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mt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Box 24"/>
            <p:cNvSpPr/>
            <p:nvPr/>
          </p:nvSpPr>
          <p:spPr>
            <a:xfrm>
              <a:off x="6477120" y="4854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aturity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18"/>
            <p:cNvSpPr/>
            <p:nvPr/>
          </p:nvSpPr>
          <p:spPr>
            <a:xfrm flipH="1">
              <a:off x="7009200" y="4433760"/>
              <a:ext cx="2880" cy="169560"/>
            </a:xfrm>
            <a:prstGeom prst="line">
              <a:avLst/>
            </a:prstGeom>
            <a:ln w="9360">
              <a:solidFill>
                <a:srgbClr val="c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Box 29"/>
            <p:cNvSpPr/>
            <p:nvPr/>
          </p:nvSpPr>
          <p:spPr>
            <a:xfrm>
              <a:off x="3809880" y="31676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9" name="Straight Arrow Connector 20"/>
            <p:cNvCxnSpPr>
              <a:endCxn id="1042" idx="2"/>
            </p:cNvCxnSpPr>
            <p:nvPr/>
          </p:nvCxnSpPr>
          <p:spPr>
            <a:xfrm flipH="1">
              <a:off x="2170800" y="3505320"/>
              <a:ext cx="2019960" cy="100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50" name="TextBox 34"/>
            <p:cNvSpPr/>
            <p:nvPr/>
          </p:nvSpPr>
          <p:spPr>
            <a:xfrm>
              <a:off x="1447560" y="30834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1" name="Straight Arrow Connector 22"/>
            <p:cNvCxnSpPr/>
            <p:nvPr/>
          </p:nvCxnSpPr>
          <p:spPr>
            <a:xfrm>
              <a:off x="1903680" y="3757320"/>
              <a:ext cx="153000" cy="75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52" name="TextBox 45"/>
            <p:cNvSpPr/>
            <p:nvPr/>
          </p:nvSpPr>
          <p:spPr>
            <a:xfrm>
              <a:off x="1295280" y="20718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PV of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3" name="Straight Arrow Connector 24"/>
            <p:cNvCxnSpPr>
              <a:endCxn id="1041" idx="2"/>
            </p:cNvCxnSpPr>
            <p:nvPr/>
          </p:nvCxnSpPr>
          <p:spPr>
            <a:xfrm flipH="1">
              <a:off x="1180440" y="2746440"/>
              <a:ext cx="419760" cy="175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54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7915-9A1B-442A-81BA-DC50AFB36FA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y six-month LIBOR, receive 8% (semi-annual compounding) on a principal of $1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maining life 1.25 years  ((15 month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BOR rates for 3-months, 9-months and 15-months are 10%, 10.5%, and 11% (cont co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-month LIBOR on last payment date was 10.2% (s.a. compou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BCD8-B460-463D-B14B-DCFA868733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59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4264-C52A-4629-9160-D33C5592D60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826920" y="1483920"/>
            <a:ext cx="2449800" cy="403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55640" y="5734080"/>
            <a:ext cx="6696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 = 2 Log (  1  +  .102/2)  = 0.099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 Payment  =  100 x Exp (0.5 x  .09948)  =  10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74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7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269F-4093-4FA9-BC3D-386E4064F98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2916360" y="1628280"/>
            <a:ext cx="1150920" cy="374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476360" y="5373720"/>
            <a:ext cx="36003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(-.25 x.1) = .9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-.75 x .105) =  .9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-1.25 x .11)  =  .8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89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9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E0E-0C4C-43BA-AF86-D7F006D83F8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84360" y="544500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ixed Leg = 4  x .97   + 4 x .92  +  104 x .87  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  98.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03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10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D3FF-42AA-42D3-BC5B-1AE8B02501A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79280" y="4869000"/>
            <a:ext cx="842508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loating Leg  = 105.1  x  .9753  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  10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SWAP  = $ 4.3 mill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rom the viewpoint of the FIXED L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in Terms of FRA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2295360"/>
            <a:ext cx="822960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xchange of payments in an interest rate swap is an 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s can be valued on the assumption that today’s forward rates are re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3065-FE16-4F80-8C63-93D5713DA0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20" name="Picture 4" descr=""/>
          <p:cNvPicPr/>
          <p:nvPr/>
        </p:nvPicPr>
        <p:blipFill>
          <a:blip r:embed="rId1"/>
          <a:stretch/>
        </p:blipFill>
        <p:spPr>
          <a:xfrm>
            <a:off x="-828720" y="1557360"/>
            <a:ext cx="10429920" cy="2486160"/>
          </a:xfrm>
          <a:prstGeom prst="rect">
            <a:avLst/>
          </a:prstGeom>
          <a:ln w="0">
            <a:noFill/>
          </a:ln>
        </p:spPr>
      </p:pic>
      <p:sp>
        <p:nvSpPr>
          <p:cNvPr id="1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A6B2-200F-4E2B-9D81-0CB0AD2812F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042920" y="3141360"/>
            <a:ext cx="244944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97164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79280" y="4005360"/>
            <a:ext cx="849636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rate  = 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) / 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.105   x .75 -      .10   x .25)/.5   = .1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.5  x  .1075) = 1.055 implies  an interest  payment of  5.5 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-828720" y="1557360"/>
            <a:ext cx="10429920" cy="2486160"/>
          </a:xfrm>
          <a:prstGeom prst="rect">
            <a:avLst/>
          </a:prstGeom>
          <a:ln w="0">
            <a:noFill/>
          </a:ln>
        </p:spPr>
      </p:pic>
      <p:sp>
        <p:nvSpPr>
          <p:cNvPr id="11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9AA4-62F2-497B-A2E5-8A441ACC106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97164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116000" y="48690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 value as 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3708360" y="3644640"/>
            <a:ext cx="352764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An Example of a Currency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164960" y="1901880"/>
            <a:ext cx="739620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reement to pay 5% on a sterling principal of £10,00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6% on a US$ principal of $18,000,000 every year for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C856-A7E0-4FAD-8B38-B25E319A0C9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57"/>
          <p:cNvGrpSpPr/>
          <p:nvPr/>
        </p:nvGrpSpPr>
        <p:grpSpPr>
          <a:xfrm>
            <a:off x="1065240" y="1214280"/>
            <a:ext cx="7081200" cy="4737960"/>
            <a:chOff x="1065240" y="1214280"/>
            <a:chExt cx="7081200" cy="4737960"/>
          </a:xfrm>
        </p:grpSpPr>
        <p:sp>
          <p:nvSpPr>
            <p:cNvPr id="900" name="Rectangle 2"/>
            <p:cNvSpPr/>
            <p:nvPr/>
          </p:nvSpPr>
          <p:spPr>
            <a:xfrm>
              <a:off x="1065240" y="1214280"/>
              <a:ext cx="2987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3"/>
            <p:cNvSpPr/>
            <p:nvPr/>
          </p:nvSpPr>
          <p:spPr>
            <a:xfrm>
              <a:off x="3875040" y="330660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4"/>
            <p:cNvSpPr/>
            <p:nvPr/>
          </p:nvSpPr>
          <p:spPr>
            <a:xfrm>
              <a:off x="3875040" y="370692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5"/>
            <p:cNvSpPr/>
            <p:nvPr/>
          </p:nvSpPr>
          <p:spPr>
            <a:xfrm>
              <a:off x="3875040" y="413244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"/>
            <p:cNvSpPr/>
            <p:nvPr/>
          </p:nvSpPr>
          <p:spPr>
            <a:xfrm>
              <a:off x="3875040" y="455760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7"/>
            <p:cNvSpPr/>
            <p:nvPr/>
          </p:nvSpPr>
          <p:spPr>
            <a:xfrm>
              <a:off x="3875040" y="498312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8"/>
            <p:cNvSpPr/>
            <p:nvPr/>
          </p:nvSpPr>
          <p:spPr>
            <a:xfrm>
              <a:off x="3875040" y="539604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9"/>
            <p:cNvSpPr/>
            <p:nvPr/>
          </p:nvSpPr>
          <p:spPr>
            <a:xfrm>
              <a:off x="1220760" y="170172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0"/>
            <p:cNvSpPr/>
            <p:nvPr/>
          </p:nvSpPr>
          <p:spPr>
            <a:xfrm>
              <a:off x="1220760" y="170172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11"/>
            <p:cNvSpPr/>
            <p:nvPr/>
          </p:nvSpPr>
          <p:spPr>
            <a:xfrm>
              <a:off x="1220760" y="296712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2"/>
            <p:cNvSpPr/>
            <p:nvPr/>
          </p:nvSpPr>
          <p:spPr>
            <a:xfrm>
              <a:off x="1220760" y="296712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13"/>
            <p:cNvSpPr/>
            <p:nvPr/>
          </p:nvSpPr>
          <p:spPr>
            <a:xfrm>
              <a:off x="1220760" y="591660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4"/>
            <p:cNvSpPr/>
            <p:nvPr/>
          </p:nvSpPr>
          <p:spPr>
            <a:xfrm>
              <a:off x="1220760" y="591660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5"/>
            <p:cNvSpPr/>
            <p:nvPr/>
          </p:nvSpPr>
          <p:spPr>
            <a:xfrm>
              <a:off x="4167360" y="1762200"/>
              <a:ext cx="3716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--------Millions of Dollars--------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6"/>
            <p:cNvSpPr/>
            <p:nvPr/>
          </p:nvSpPr>
          <p:spPr>
            <a:xfrm>
              <a:off x="3108960" y="2184480"/>
              <a:ext cx="94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7"/>
            <p:cNvSpPr/>
            <p:nvPr/>
          </p:nvSpPr>
          <p:spPr>
            <a:xfrm>
              <a:off x="4121640" y="2184480"/>
              <a:ext cx="152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LOA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8"/>
            <p:cNvSpPr/>
            <p:nvPr/>
          </p:nvSpPr>
          <p:spPr>
            <a:xfrm>
              <a:off x="5645160" y="2184480"/>
              <a:ext cx="1003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IX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9"/>
            <p:cNvSpPr/>
            <p:nvPr/>
          </p:nvSpPr>
          <p:spPr>
            <a:xfrm>
              <a:off x="7149240" y="2184480"/>
              <a:ext cx="58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20"/>
            <p:cNvSpPr/>
            <p:nvPr/>
          </p:nvSpPr>
          <p:spPr>
            <a:xfrm>
              <a:off x="1718280" y="260496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1"/>
            <p:cNvSpPr/>
            <p:nvPr/>
          </p:nvSpPr>
          <p:spPr>
            <a:xfrm>
              <a:off x="3223080" y="260496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22"/>
            <p:cNvSpPr/>
            <p:nvPr/>
          </p:nvSpPr>
          <p:spPr>
            <a:xfrm>
              <a:off x="418896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3"/>
            <p:cNvSpPr/>
            <p:nvPr/>
          </p:nvSpPr>
          <p:spPr>
            <a:xfrm>
              <a:off x="547164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24"/>
            <p:cNvSpPr/>
            <p:nvPr/>
          </p:nvSpPr>
          <p:spPr>
            <a:xfrm>
              <a:off x="675756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5"/>
            <p:cNvSpPr/>
            <p:nvPr/>
          </p:nvSpPr>
          <p:spPr>
            <a:xfrm>
              <a:off x="1326600" y="302724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26"/>
            <p:cNvSpPr/>
            <p:nvPr/>
          </p:nvSpPr>
          <p:spPr>
            <a:xfrm>
              <a:off x="3166560" y="30272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27"/>
            <p:cNvSpPr/>
            <p:nvPr/>
          </p:nvSpPr>
          <p:spPr>
            <a:xfrm>
              <a:off x="1210680" y="344808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28"/>
            <p:cNvSpPr/>
            <p:nvPr/>
          </p:nvSpPr>
          <p:spPr>
            <a:xfrm>
              <a:off x="3166560" y="344808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29"/>
            <p:cNvSpPr/>
            <p:nvPr/>
          </p:nvSpPr>
          <p:spPr>
            <a:xfrm>
              <a:off x="4403880" y="34480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30"/>
            <p:cNvSpPr/>
            <p:nvPr/>
          </p:nvSpPr>
          <p:spPr>
            <a:xfrm>
              <a:off x="5672160" y="34480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31"/>
            <p:cNvSpPr/>
            <p:nvPr/>
          </p:nvSpPr>
          <p:spPr>
            <a:xfrm>
              <a:off x="6958080" y="34480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32"/>
            <p:cNvSpPr/>
            <p:nvPr/>
          </p:nvSpPr>
          <p:spPr>
            <a:xfrm>
              <a:off x="1316880" y="386856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33"/>
            <p:cNvSpPr/>
            <p:nvPr/>
          </p:nvSpPr>
          <p:spPr>
            <a:xfrm>
              <a:off x="3166560" y="38685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34"/>
            <p:cNvSpPr/>
            <p:nvPr/>
          </p:nvSpPr>
          <p:spPr>
            <a:xfrm>
              <a:off x="4403880" y="38685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35"/>
            <p:cNvSpPr/>
            <p:nvPr/>
          </p:nvSpPr>
          <p:spPr>
            <a:xfrm>
              <a:off x="5672160" y="38685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36"/>
            <p:cNvSpPr/>
            <p:nvPr/>
          </p:nvSpPr>
          <p:spPr>
            <a:xfrm>
              <a:off x="6958080" y="38685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37"/>
            <p:cNvSpPr/>
            <p:nvPr/>
          </p:nvSpPr>
          <p:spPr>
            <a:xfrm>
              <a:off x="1201320" y="429084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38"/>
            <p:cNvSpPr/>
            <p:nvPr/>
          </p:nvSpPr>
          <p:spPr>
            <a:xfrm>
              <a:off x="3166560" y="42908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39"/>
            <p:cNvSpPr/>
            <p:nvPr/>
          </p:nvSpPr>
          <p:spPr>
            <a:xfrm>
              <a:off x="4403880" y="429084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6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40"/>
            <p:cNvSpPr/>
            <p:nvPr/>
          </p:nvSpPr>
          <p:spPr>
            <a:xfrm>
              <a:off x="5672160" y="429084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41"/>
            <p:cNvSpPr/>
            <p:nvPr/>
          </p:nvSpPr>
          <p:spPr>
            <a:xfrm>
              <a:off x="6971040" y="429084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42"/>
            <p:cNvSpPr/>
            <p:nvPr/>
          </p:nvSpPr>
          <p:spPr>
            <a:xfrm>
              <a:off x="1326600" y="471168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43"/>
            <p:cNvSpPr/>
            <p:nvPr/>
          </p:nvSpPr>
          <p:spPr>
            <a:xfrm>
              <a:off x="3166560" y="471168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44"/>
            <p:cNvSpPr/>
            <p:nvPr/>
          </p:nvSpPr>
          <p:spPr>
            <a:xfrm>
              <a:off x="4403880" y="47116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45"/>
            <p:cNvSpPr/>
            <p:nvPr/>
          </p:nvSpPr>
          <p:spPr>
            <a:xfrm>
              <a:off x="5672160" y="47116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46"/>
            <p:cNvSpPr/>
            <p:nvPr/>
          </p:nvSpPr>
          <p:spPr>
            <a:xfrm>
              <a:off x="6971040" y="47116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47"/>
            <p:cNvSpPr/>
            <p:nvPr/>
          </p:nvSpPr>
          <p:spPr>
            <a:xfrm>
              <a:off x="1210680" y="513396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8"/>
            <p:cNvSpPr/>
            <p:nvPr/>
          </p:nvSpPr>
          <p:spPr>
            <a:xfrm>
              <a:off x="3166560" y="5133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49"/>
            <p:cNvSpPr/>
            <p:nvPr/>
          </p:nvSpPr>
          <p:spPr>
            <a:xfrm>
              <a:off x="4403880" y="51339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50"/>
            <p:cNvSpPr/>
            <p:nvPr/>
          </p:nvSpPr>
          <p:spPr>
            <a:xfrm>
              <a:off x="5672160" y="51339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51"/>
            <p:cNvSpPr/>
            <p:nvPr/>
          </p:nvSpPr>
          <p:spPr>
            <a:xfrm>
              <a:off x="6971040" y="51339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52"/>
            <p:cNvSpPr/>
            <p:nvPr/>
          </p:nvSpPr>
          <p:spPr>
            <a:xfrm>
              <a:off x="1326600" y="555480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53"/>
            <p:cNvSpPr/>
            <p:nvPr/>
          </p:nvSpPr>
          <p:spPr>
            <a:xfrm>
              <a:off x="3166560" y="555480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.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54"/>
            <p:cNvSpPr/>
            <p:nvPr/>
          </p:nvSpPr>
          <p:spPr>
            <a:xfrm>
              <a:off x="4403880" y="555480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55"/>
            <p:cNvSpPr/>
            <p:nvPr/>
          </p:nvSpPr>
          <p:spPr>
            <a:xfrm>
              <a:off x="5672160" y="555480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56"/>
            <p:cNvSpPr/>
            <p:nvPr/>
          </p:nvSpPr>
          <p:spPr>
            <a:xfrm>
              <a:off x="6971040" y="555480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74480" y="210600"/>
            <a:ext cx="820404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Cash Flows to Microsoft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6" name="Slide Number Placeholder 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CF90-3537-477E-9B6B-69969B46AF8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change of Principal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607760" y="206676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interest rate swap the principal is not ex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currency swap the principal is exchanged at the beginning and the end of the 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CD4E-61F3-4564-958A-D6FEAF5EFAC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The Cash Flows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8" name="Rectangle 3"/>
          <p:cNvSpPr/>
          <p:nvPr/>
        </p:nvSpPr>
        <p:spPr>
          <a:xfrm>
            <a:off x="2975400" y="234468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4"/>
          <p:cNvSpPr/>
          <p:nvPr/>
        </p:nvSpPr>
        <p:spPr>
          <a:xfrm>
            <a:off x="2990880" y="150192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"/>
          <p:cNvSpPr/>
          <p:nvPr/>
        </p:nvSpPr>
        <p:spPr>
          <a:xfrm>
            <a:off x="2990880" y="273060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6"/>
          <p:cNvSpPr/>
          <p:nvPr/>
        </p:nvSpPr>
        <p:spPr>
          <a:xfrm>
            <a:off x="3124080" y="5410080"/>
            <a:ext cx="316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7"/>
          <p:cNvSpPr/>
          <p:nvPr/>
        </p:nvSpPr>
        <p:spPr>
          <a:xfrm>
            <a:off x="2990880" y="572292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8"/>
          <p:cNvSpPr/>
          <p:nvPr/>
        </p:nvSpPr>
        <p:spPr>
          <a:xfrm>
            <a:off x="3921480" y="1579680"/>
            <a:ext cx="113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9"/>
          <p:cNvSpPr/>
          <p:nvPr/>
        </p:nvSpPr>
        <p:spPr>
          <a:xfrm>
            <a:off x="5123880" y="1579680"/>
            <a:ext cx="12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0"/>
          <p:cNvSpPr/>
          <p:nvPr/>
        </p:nvSpPr>
        <p:spPr>
          <a:xfrm>
            <a:off x="4232160" y="19461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2"/>
          <p:cNvSpPr/>
          <p:nvPr/>
        </p:nvSpPr>
        <p:spPr>
          <a:xfrm>
            <a:off x="3868920" y="2344680"/>
            <a:ext cx="24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millions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3"/>
          <p:cNvSpPr/>
          <p:nvPr/>
        </p:nvSpPr>
        <p:spPr>
          <a:xfrm>
            <a:off x="2895480" y="2787480"/>
            <a:ext cx="119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4"/>
          <p:cNvSpPr/>
          <p:nvPr/>
        </p:nvSpPr>
        <p:spPr>
          <a:xfrm>
            <a:off x="3733920" y="2787480"/>
            <a:ext cx="144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5"/>
          <p:cNvSpPr/>
          <p:nvPr/>
        </p:nvSpPr>
        <p:spPr>
          <a:xfrm>
            <a:off x="5016600" y="2787480"/>
            <a:ext cx="138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6"/>
          <p:cNvSpPr/>
          <p:nvPr/>
        </p:nvSpPr>
        <p:spPr>
          <a:xfrm>
            <a:off x="2895480" y="320976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7"/>
          <p:cNvSpPr/>
          <p:nvPr/>
        </p:nvSpPr>
        <p:spPr>
          <a:xfrm>
            <a:off x="4080600" y="3189240"/>
            <a:ext cx="104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8"/>
          <p:cNvSpPr/>
          <p:nvPr/>
        </p:nvSpPr>
        <p:spPr>
          <a:xfrm>
            <a:off x="5153400" y="320976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9"/>
          <p:cNvSpPr/>
          <p:nvPr/>
        </p:nvSpPr>
        <p:spPr>
          <a:xfrm>
            <a:off x="2819520" y="365760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3973680" y="3630600"/>
            <a:ext cx="112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5153400" y="363060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22"/>
          <p:cNvSpPr/>
          <p:nvPr/>
        </p:nvSpPr>
        <p:spPr>
          <a:xfrm>
            <a:off x="2819520" y="4051440"/>
            <a:ext cx="122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3"/>
          <p:cNvSpPr/>
          <p:nvPr/>
        </p:nvSpPr>
        <p:spPr>
          <a:xfrm>
            <a:off x="3973680" y="4051440"/>
            <a:ext cx="112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24"/>
          <p:cNvSpPr/>
          <p:nvPr/>
        </p:nvSpPr>
        <p:spPr>
          <a:xfrm>
            <a:off x="5153400" y="405144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5"/>
          <p:cNvSpPr/>
          <p:nvPr/>
        </p:nvSpPr>
        <p:spPr>
          <a:xfrm>
            <a:off x="2895480" y="449568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26"/>
          <p:cNvSpPr/>
          <p:nvPr/>
        </p:nvSpPr>
        <p:spPr>
          <a:xfrm>
            <a:off x="3973320" y="4473720"/>
            <a:ext cx="121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27"/>
          <p:cNvSpPr/>
          <p:nvPr/>
        </p:nvSpPr>
        <p:spPr>
          <a:xfrm>
            <a:off x="5153400" y="447372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8"/>
          <p:cNvSpPr/>
          <p:nvPr/>
        </p:nvSpPr>
        <p:spPr>
          <a:xfrm>
            <a:off x="2819520" y="4894200"/>
            <a:ext cx="122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29"/>
          <p:cNvSpPr/>
          <p:nvPr/>
        </p:nvSpPr>
        <p:spPr>
          <a:xfrm>
            <a:off x="3975120" y="489420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9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0"/>
          <p:cNvSpPr/>
          <p:nvPr/>
        </p:nvSpPr>
        <p:spPr>
          <a:xfrm>
            <a:off x="5154480" y="489420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4"/>
          <p:cNvSpPr/>
          <p:nvPr/>
        </p:nvSpPr>
        <p:spPr>
          <a:xfrm>
            <a:off x="5439600" y="19461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3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A508-2FE4-4613-8B01-4D009653D6D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ypical Uses of a 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urrency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79560" y="2205000"/>
            <a:ext cx="7192800" cy="24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rom a liability in one currency to a liability in another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rom an investment in one currency to an investment in another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1FBF-81FD-4BD3-BE42-643C0C1BB4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omparative Advantage Arguments for Currency Swap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104840" y="1774800"/>
            <a:ext cx="7345440" cy="14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Motors wants to borrow 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ntas wants to borrow U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18"/>
          <p:cNvGrpSpPr/>
          <p:nvPr/>
        </p:nvGrpSpPr>
        <p:grpSpPr>
          <a:xfrm>
            <a:off x="1618920" y="3267000"/>
            <a:ext cx="5184720" cy="1671120"/>
            <a:chOff x="1618920" y="3267000"/>
            <a:chExt cx="5184720" cy="1671120"/>
          </a:xfrm>
        </p:grpSpPr>
        <p:sp>
          <p:nvSpPr>
            <p:cNvPr id="1173" name="Line 4"/>
            <p:cNvSpPr/>
            <p:nvPr/>
          </p:nvSpPr>
          <p:spPr>
            <a:xfrm>
              <a:off x="1631880" y="326700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5"/>
            <p:cNvSpPr/>
            <p:nvPr/>
          </p:nvSpPr>
          <p:spPr>
            <a:xfrm>
              <a:off x="1631880" y="326700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1631880" y="392436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7"/>
            <p:cNvSpPr/>
            <p:nvPr/>
          </p:nvSpPr>
          <p:spPr>
            <a:xfrm>
              <a:off x="1631880" y="392436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1631880" y="488160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9"/>
            <p:cNvSpPr/>
            <p:nvPr/>
          </p:nvSpPr>
          <p:spPr>
            <a:xfrm>
              <a:off x="1631880" y="488160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3935520" y="3405240"/>
              <a:ext cx="90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1"/>
            <p:cNvSpPr/>
            <p:nvPr/>
          </p:nvSpPr>
          <p:spPr>
            <a:xfrm>
              <a:off x="5617440" y="3405240"/>
              <a:ext cx="826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"/>
            <p:cNvSpPr/>
            <p:nvPr/>
          </p:nvSpPr>
          <p:spPr>
            <a:xfrm>
              <a:off x="1618920" y="400212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eral Mo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3"/>
            <p:cNvSpPr/>
            <p:nvPr/>
          </p:nvSpPr>
          <p:spPr>
            <a:xfrm>
              <a:off x="3840840" y="4002120"/>
              <a:ext cx="113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4"/>
            <p:cNvSpPr/>
            <p:nvPr/>
          </p:nvSpPr>
          <p:spPr>
            <a:xfrm>
              <a:off x="5455440" y="400212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.6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5"/>
            <p:cNvSpPr/>
            <p:nvPr/>
          </p:nvSpPr>
          <p:spPr>
            <a:xfrm>
              <a:off x="1622880" y="4479840"/>
              <a:ext cx="116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an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6"/>
            <p:cNvSpPr/>
            <p:nvPr/>
          </p:nvSpPr>
          <p:spPr>
            <a:xfrm>
              <a:off x="3840840" y="4479840"/>
              <a:ext cx="113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7"/>
            <p:cNvSpPr/>
            <p:nvPr/>
          </p:nvSpPr>
          <p:spPr>
            <a:xfrm>
              <a:off x="5455440" y="447984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1058-50F5-4734-977C-87EEFE3C13C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95280" y="5445000"/>
            <a:ext cx="669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GM wants to borrow 20 million AUD and Qantas needs 12 million USD  (1 USD  =  1.666   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1116000" y="2565360"/>
            <a:ext cx="122400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51280" y="2565360"/>
            <a:ext cx="100800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372360" y="2565360"/>
            <a:ext cx="115236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403280" y="2924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                                 arranger                                 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50920" y="29973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885080" y="306864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258920" y="558972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26370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812000" y="3284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484360" y="306864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003640" y="299736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411280" y="3213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1.9%                       AUD 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328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55564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556000" y="2205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USD                      6.3%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90760" y="5032440"/>
            <a:ext cx="69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r = 6.3  + 11.9  -  5  -13  =   20  basis points   WHY 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5326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Why The Swap?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For example….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8" name="Rectangle 3"/>
          <p:cNvSpPr/>
          <p:nvPr/>
        </p:nvSpPr>
        <p:spPr>
          <a:xfrm>
            <a:off x="2133720" y="32767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4724280" y="32767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5"/>
          <p:cNvSpPr/>
          <p:nvPr/>
        </p:nvSpPr>
        <p:spPr>
          <a:xfrm>
            <a:off x="3075120" y="3859200"/>
            <a:ext cx="2189160" cy="368280"/>
          </a:xfrm>
          <a:prstGeom prst="rightArrow">
            <a:avLst>
              <a:gd name="adj1" fmla="val 50000"/>
              <a:gd name="adj2" fmla="val 2972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6"/>
          <p:cNvSpPr/>
          <p:nvPr/>
        </p:nvSpPr>
        <p:spPr>
          <a:xfrm>
            <a:off x="2906640" y="2820960"/>
            <a:ext cx="2210040" cy="347760"/>
          </a:xfrm>
          <a:prstGeom prst="leftArrow">
            <a:avLst>
              <a:gd name="adj1" fmla="val 50000"/>
              <a:gd name="adj2" fmla="val 31454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7"/>
          <p:cNvSpPr/>
          <p:nvPr/>
        </p:nvSpPr>
        <p:spPr>
          <a:xfrm>
            <a:off x="6272280" y="3435480"/>
            <a:ext cx="1638360" cy="304560"/>
          </a:xfrm>
          <a:prstGeom prst="rightArrow">
            <a:avLst>
              <a:gd name="adj1" fmla="val 50000"/>
              <a:gd name="adj2" fmla="val 2829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8"/>
          <p:cNvSpPr/>
          <p:nvPr/>
        </p:nvSpPr>
        <p:spPr>
          <a:xfrm>
            <a:off x="493560" y="3478320"/>
            <a:ext cx="1659240" cy="282600"/>
          </a:xfrm>
          <a:prstGeom prst="leftArrow">
            <a:avLst>
              <a:gd name="adj1" fmla="val 50000"/>
              <a:gd name="adj2" fmla="val 29353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557880" y="444168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3661920" y="223992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1"/>
          <p:cNvSpPr/>
          <p:nvPr/>
        </p:nvSpPr>
        <p:spPr>
          <a:xfrm>
            <a:off x="6180120" y="3890880"/>
            <a:ext cx="190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2"/>
          <p:cNvSpPr/>
          <p:nvPr/>
        </p:nvSpPr>
        <p:spPr>
          <a:xfrm>
            <a:off x="732960" y="2938320"/>
            <a:ext cx="82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1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CFEA-9BBA-40E1-9190-DF31D1298F3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39640" y="522936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 has transformed a Floating Rate loan (L + 1%) into a Fixed Rate loan (5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A more realistic situation…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206856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780000" y="3573360"/>
            <a:ext cx="14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7"/>
          <p:cNvSpPr/>
          <p:nvPr/>
        </p:nvSpPr>
        <p:spPr>
          <a:xfrm>
            <a:off x="4979880" y="3963960"/>
            <a:ext cx="1363680" cy="411120"/>
          </a:xfrm>
          <a:prstGeom prst="rightArrow">
            <a:avLst>
              <a:gd name="adj1" fmla="val 50000"/>
              <a:gd name="adj2" fmla="val 16586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8"/>
          <p:cNvSpPr/>
          <p:nvPr/>
        </p:nvSpPr>
        <p:spPr>
          <a:xfrm>
            <a:off x="2589120" y="3986280"/>
            <a:ext cx="1405080" cy="368280"/>
          </a:xfrm>
          <a:prstGeom prst="rightArrow">
            <a:avLst>
              <a:gd name="adj1" fmla="val 50000"/>
              <a:gd name="adj2" fmla="val 19078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9"/>
          <p:cNvSpPr/>
          <p:nvPr/>
        </p:nvSpPr>
        <p:spPr>
          <a:xfrm>
            <a:off x="2567160" y="3075120"/>
            <a:ext cx="1342800" cy="347400"/>
          </a:xfrm>
          <a:prstGeom prst="leftArrow">
            <a:avLst>
              <a:gd name="adj1" fmla="val 50000"/>
              <a:gd name="adj2" fmla="val 18716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10"/>
          <p:cNvSpPr/>
          <p:nvPr/>
        </p:nvSpPr>
        <p:spPr>
          <a:xfrm>
            <a:off x="4979880" y="3097080"/>
            <a:ext cx="1363680" cy="368280"/>
          </a:xfrm>
          <a:prstGeom prst="leftArrow">
            <a:avLst>
              <a:gd name="adj1" fmla="val 50000"/>
              <a:gd name="adj2" fmla="val 18512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11"/>
          <p:cNvSpPr/>
          <p:nvPr/>
        </p:nvSpPr>
        <p:spPr>
          <a:xfrm>
            <a:off x="7391520" y="3733920"/>
            <a:ext cx="1257120" cy="274680"/>
          </a:xfrm>
          <a:prstGeom prst="rightArrow">
            <a:avLst>
              <a:gd name="adj1" fmla="val 50000"/>
              <a:gd name="adj2" fmla="val 22885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12"/>
          <p:cNvSpPr/>
          <p:nvPr/>
        </p:nvSpPr>
        <p:spPr>
          <a:xfrm>
            <a:off x="684360" y="3695760"/>
            <a:ext cx="960120" cy="295200"/>
          </a:xfrm>
          <a:prstGeom prst="leftArrow">
            <a:avLst>
              <a:gd name="adj1" fmla="val 50000"/>
              <a:gd name="adj2" fmla="val 16260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2562480" y="450540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4996080" y="448452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6794640" y="4145040"/>
            <a:ext cx="196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6"/>
          <p:cNvSpPr/>
          <p:nvPr/>
        </p:nvSpPr>
        <p:spPr>
          <a:xfrm>
            <a:off x="2675880" y="245268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9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7"/>
          <p:cNvSpPr/>
          <p:nvPr/>
        </p:nvSpPr>
        <p:spPr>
          <a:xfrm>
            <a:off x="4961880" y="249408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0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8"/>
          <p:cNvSpPr/>
          <p:nvPr/>
        </p:nvSpPr>
        <p:spPr>
          <a:xfrm>
            <a:off x="563040" y="3192480"/>
            <a:ext cx="82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9"/>
          <p:cNvSpPr/>
          <p:nvPr/>
        </p:nvSpPr>
        <p:spPr>
          <a:xfrm>
            <a:off x="1676520" y="35053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20"/>
          <p:cNvSpPr/>
          <p:nvPr/>
        </p:nvSpPr>
        <p:spPr>
          <a:xfrm>
            <a:off x="6095880" y="35053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6BA0-6465-4BC0-876C-23EB07930B9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39640" y="5589720"/>
            <a:ext cx="60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ranger gets involved in the middle…  arranger gets a fee [3  basis  points], MS pays  5.1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924360" y="3141720"/>
            <a:ext cx="1008000" cy="1152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140360" y="1557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4427280" y="1844640"/>
            <a:ext cx="21564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Quotes By a Swap Market Maker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85800" y="1773360"/>
          <a:ext cx="7989840" cy="3755880"/>
        </p:xfrm>
        <a:graphic>
          <a:graphicData uri="http://schemas.openxmlformats.org/drawingml/2006/table">
            <a:tbl>
              <a:tblPr/>
              <a:tblGrid>
                <a:gridCol w="1996920"/>
                <a:gridCol w="1602000"/>
                <a:gridCol w="1800000"/>
                <a:gridCol w="2590920"/>
              </a:tblGrid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p Rate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B9B6-0E51-429E-95F3-63E83305D21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The Comparative Advantage Argument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643896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Corp wants to borrow fl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BCorp wants to borrow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need a loan (5 years, US$ 10 m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19"/>
          <p:cNvGrpSpPr/>
          <p:nvPr/>
        </p:nvGrpSpPr>
        <p:grpSpPr>
          <a:xfrm>
            <a:off x="611280" y="2492280"/>
            <a:ext cx="5092920" cy="2527200"/>
            <a:chOff x="611280" y="2492280"/>
            <a:chExt cx="5092920" cy="2527200"/>
          </a:xfrm>
        </p:grpSpPr>
        <p:sp>
          <p:nvSpPr>
            <p:cNvPr id="998" name="Line 4"/>
            <p:cNvSpPr/>
            <p:nvPr/>
          </p:nvSpPr>
          <p:spPr>
            <a:xfrm>
              <a:off x="731160" y="299484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5"/>
            <p:cNvSpPr/>
            <p:nvPr/>
          </p:nvSpPr>
          <p:spPr>
            <a:xfrm>
              <a:off x="731160" y="299484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731160" y="381960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7"/>
            <p:cNvSpPr/>
            <p:nvPr/>
          </p:nvSpPr>
          <p:spPr>
            <a:xfrm>
              <a:off x="731160" y="381960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>
              <a:off x="731160" y="501552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9"/>
            <p:cNvSpPr/>
            <p:nvPr/>
          </p:nvSpPr>
          <p:spPr>
            <a:xfrm>
              <a:off x="731160" y="501552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10"/>
            <p:cNvSpPr/>
            <p:nvPr/>
          </p:nvSpPr>
          <p:spPr>
            <a:xfrm>
              <a:off x="611280" y="2492280"/>
              <a:ext cx="34488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11"/>
            <p:cNvSpPr/>
            <p:nvPr/>
          </p:nvSpPr>
          <p:spPr>
            <a:xfrm>
              <a:off x="1970280" y="322524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ix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12"/>
            <p:cNvSpPr/>
            <p:nvPr/>
          </p:nvSpPr>
          <p:spPr>
            <a:xfrm>
              <a:off x="3591720" y="3225240"/>
              <a:ext cx="116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loa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13"/>
            <p:cNvSpPr/>
            <p:nvPr/>
          </p:nvSpPr>
          <p:spPr>
            <a:xfrm>
              <a:off x="723240" y="3972240"/>
              <a:ext cx="1245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AACo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4"/>
            <p:cNvSpPr/>
            <p:nvPr/>
          </p:nvSpPr>
          <p:spPr>
            <a:xfrm>
              <a:off x="1957680" y="397224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15"/>
            <p:cNvSpPr/>
            <p:nvPr/>
          </p:nvSpPr>
          <p:spPr>
            <a:xfrm>
              <a:off x="2882520" y="3972240"/>
              <a:ext cx="28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-month LIBOR − 0.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16"/>
            <p:cNvSpPr/>
            <p:nvPr/>
          </p:nvSpPr>
          <p:spPr>
            <a:xfrm>
              <a:off x="724320" y="4572720"/>
              <a:ext cx="1245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BBCo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17"/>
            <p:cNvSpPr/>
            <p:nvPr/>
          </p:nvSpPr>
          <p:spPr>
            <a:xfrm>
              <a:off x="1957680" y="457272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2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18"/>
            <p:cNvSpPr/>
            <p:nvPr/>
          </p:nvSpPr>
          <p:spPr>
            <a:xfrm>
              <a:off x="2882520" y="4572720"/>
              <a:ext cx="28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-month LIBOR + 0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539640" y="5805360"/>
            <a:ext cx="525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oating rate difference is 120 basis pts, the fixed rate difference is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he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693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4"/>
          <p:cNvSpPr/>
          <p:nvPr/>
        </p:nvSpPr>
        <p:spPr>
          <a:xfrm>
            <a:off x="2071800" y="3357720"/>
            <a:ext cx="16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C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5"/>
          <p:cNvSpPr/>
          <p:nvPr/>
        </p:nvSpPr>
        <p:spPr>
          <a:xfrm>
            <a:off x="5429160" y="3357720"/>
            <a:ext cx="178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BBC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6"/>
          <p:cNvSpPr/>
          <p:nvPr/>
        </p:nvSpPr>
        <p:spPr>
          <a:xfrm>
            <a:off x="3429000" y="4000680"/>
            <a:ext cx="2400480" cy="452160"/>
          </a:xfrm>
          <a:prstGeom prst="rightArrow">
            <a:avLst>
              <a:gd name="adj1" fmla="val 50000"/>
              <a:gd name="adj2" fmla="val 26547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7"/>
          <p:cNvSpPr/>
          <p:nvPr/>
        </p:nvSpPr>
        <p:spPr>
          <a:xfrm>
            <a:off x="3357720" y="2786040"/>
            <a:ext cx="2214360" cy="495360"/>
          </a:xfrm>
          <a:prstGeom prst="leftArrow">
            <a:avLst>
              <a:gd name="adj1" fmla="val 50000"/>
              <a:gd name="adj2" fmla="val 240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8"/>
          <p:cNvSpPr/>
          <p:nvPr/>
        </p:nvSpPr>
        <p:spPr>
          <a:xfrm>
            <a:off x="7215120" y="3429000"/>
            <a:ext cx="1509840" cy="351000"/>
          </a:xfrm>
          <a:prstGeom prst="rightArrow">
            <a:avLst>
              <a:gd name="adj1" fmla="val 50000"/>
              <a:gd name="adj2" fmla="val 28346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9"/>
          <p:cNvSpPr/>
          <p:nvPr/>
        </p:nvSpPr>
        <p:spPr>
          <a:xfrm>
            <a:off x="285840" y="3500280"/>
            <a:ext cx="1428840" cy="285840"/>
          </a:xfrm>
          <a:prstGeom prst="leftArrow">
            <a:avLst>
              <a:gd name="adj1" fmla="val 50000"/>
              <a:gd name="adj2" fmla="val 29427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0"/>
          <p:cNvSpPr/>
          <p:nvPr/>
        </p:nvSpPr>
        <p:spPr>
          <a:xfrm>
            <a:off x="3929040" y="4632480"/>
            <a:ext cx="133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1"/>
          <p:cNvSpPr/>
          <p:nvPr/>
        </p:nvSpPr>
        <p:spPr>
          <a:xfrm>
            <a:off x="7000920" y="3849840"/>
            <a:ext cx="214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2"/>
          <p:cNvSpPr/>
          <p:nvPr/>
        </p:nvSpPr>
        <p:spPr>
          <a:xfrm>
            <a:off x="4149000" y="219852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3"/>
          <p:cNvSpPr/>
          <p:nvPr/>
        </p:nvSpPr>
        <p:spPr>
          <a:xfrm>
            <a:off x="1164600" y="285444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128D-2147-438C-84B5-46F74021CEE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84360" y="5516640"/>
            <a:ext cx="7488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 pays 4.35% + 0.6% =  4.95%  (lower than  5.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 pays  LIBOR - .35% (better than L  -  .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of an Interest Rate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swaps can be valued as the difference between the value of a fixed-rate bond and the value of a floating-rat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ly, they can be valued as a portfolio of forward rate agreements (F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82E4-47E8-4E09-9FFA-121FD8BAAA1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in Terms of Bond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xed rate bond is valued in the usual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oating rate bond is valued by noting that it is worth par immediately after the next payment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7DA2-8C9D-407A-9CA6-ED14BAA0716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4T09:26:34Z</dcterms:created>
  <dc:creator>John C. Hull</dc:creator>
  <dc:description>Copyright 2010 by John C. Hull.
All rights reserved. Published 2010.</dc:description>
  <cp:keywords>Chapter 7</cp:keywords>
  <dc:language>en-US</dc:language>
  <cp:lastModifiedBy>VCHARLIN</cp:lastModifiedBy>
  <cp:lastPrinted>2001-05-03T11:40:36Z</cp:lastPrinted>
  <dcterms:modified xsi:type="dcterms:W3CDTF">2010-10-05T13:29:57Z</dcterms:modified>
  <cp:revision>71</cp:revision>
  <dc:subject>Fundamentals of Futures and Options Markets, 7E</dc:subject>
  <dc:title>Swaps</dc:title>
</cp:coreProperties>
</file>