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B35-5E83-4CBE-B82A-193B4AEB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88C-99D1-4AED-9D69-19852FCB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BE09-10C6-4D1C-8052-75A5EB4C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09A-3E5D-40B8-B0E0-79BA0425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56C-DFF6-4506-A7D5-C77B9B10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CE50-D260-4884-B89B-827ABA2C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B93F-D618-4E90-BCCA-F6926BB5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555B-A807-4CCD-844D-4320EE47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F5C-2855-4C41-9751-AFFD36E1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EE39-6121-4A4F-B8D6-30EDCDC9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3BAC-5A76-4415-AF7D-7A082860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FA7D-202D-441F-B2DB-AFB741D5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94CB-F8F8-4114-BDF0-A3BDFB4E5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143000"/>
            <a:ext cx="76201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nd arbit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nd portfolio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tfolio dedication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95280" y="990720"/>
            <a:ext cx="624852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 that a 1-year Zero (notional amount $ 1,000) has a default probability equal to 5%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very rates for these bonds are assumed to be around 7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bonds with similar credit risk profile yield 10%, what should be the price of this bond? (Just an estim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990720"/>
            <a:ext cx="7086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10 = 0.05 x Y x .7   +  0.95 x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gives  Y = 10.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ce around  1,000/ 1.1015 = 9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5335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pproximate approach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flipV="1">
            <a:off x="1447920" y="1523520"/>
            <a:ext cx="3657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743200"/>
            <a:ext cx="3657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1600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3124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1523880"/>
            <a:ext cx="22096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,000 x 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4038480"/>
            <a:ext cx="7696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 (NPV)  =  (  5%  x 700   +  95% x 1000) /  (1 + R) =  985 / ( 1  +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 = Risk Free Rate  (7%) Then,  Price should be around 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 =  10% Then Price is around  8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5335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approximate approach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p. Bond Spreads Over Treasu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3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able demonstrates that bond yields (spreads over equivalent Treasuries) increase as credit ratings dec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also that the spreads widen as maturity incr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774960" y="1935000"/>
            <a:ext cx="46897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Ded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nsion Fund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238880" cy="2943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51814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would a good speculator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156440" cy="3892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28800" y="5410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…  Buy     S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1980720" y="4266720"/>
            <a:ext cx="12193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904760" y="3809520"/>
            <a:ext cx="2057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182880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1337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0                 1                 2                3                 4               5 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029200" y="205740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657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to pay US$ 1,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87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etical solution (not always possible), buy a 4-year Zero with a notional amount equal to  US$ 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182880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1337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0                 1                 2                3                 4               5 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029200" y="205740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3657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to pay US$ 1,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267080"/>
            <a:ext cx="8229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alternative, buy a 5-year bullet, coupon rate = 10% (paid once a year), notional amount = 1,000, that trades at a premium (1,1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risk free rate is 7% (bond is issued by a solvent ent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 4.22    D* = 3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6248520"/>
            <a:ext cx="2209680" cy="457200"/>
          </a:xfrm>
          <a:prstGeom prst="rightArrow">
            <a:avLst>
              <a:gd name="adj1" fmla="val 50000"/>
              <a:gd name="adj2" fmla="val 12082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14400" y="182880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1337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0                 1                 2                3                 4               5 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029200" y="205740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3657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to pay US$ 1,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42670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alternative, buy a 5-year bullet, coupon rate = 10% (paid once a year), notional amount = 1,000, that trades at a premium (1,1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w much should I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3197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1360" y="4151160"/>
            <a:ext cx="82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assume rates stay at 7%    (CFs are discounted at 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buy US$ 680,000 worth of notional amount  (Price =  US$  763,6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328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47242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s Go Up   (1469, not much different from 14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001000" cy="3355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45720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s Go Down..   Same 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3:23:57Z</dcterms:created>
  <dc:creator>VCHARLIN</dc:creator>
  <dc:description/>
  <dc:language>en-US</dc:language>
  <cp:lastModifiedBy>VCHARLIN</cp:lastModifiedBy>
  <dcterms:modified xsi:type="dcterms:W3CDTF">2010-10-03T13:57:44Z</dcterms:modified>
  <cp:revision>97</cp:revision>
  <dc:subject/>
  <dc:title>Slide 1</dc:title>
</cp:coreProperties>
</file>