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C13-1E3D-46BC-AE98-FD80C78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FEC-F150-46AD-A96B-83A05EA8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A6C-0310-4533-8AE8-6F28144A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DD8-F8A3-411A-9BBB-7B7C7CF0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60-4005-4DCB-9FB9-D414FD7E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58A-510A-46CC-B4FC-213B7D4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805-EC79-4548-B9AF-E5BF667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9D3-57CF-4438-A6A5-F20F7554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13E-5FF5-45FC-ABBA-491D8D3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D04-2DA2-465F-AD1F-ED3445A1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76D-8920-45A9-AB76-EF8565C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C16-E045-48BB-9803-870A2BC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335D-00A5-4339-A9F0-124F4BC97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folio dedic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90720"/>
            <a:ext cx="62485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a 1-year Zero (notional amount $ 1,000) has a default probability equal to 5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rates for these bonds are assumed to be around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nds with similar credit risk profile yield 10%, what should be the price of this bond? (Just an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990720"/>
            <a:ext cx="7086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 = 0.05 x Y x .7   +  0.95 x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ives  Y = 10.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around  1,000/ 1.1015 = 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1447920" y="1523520"/>
            <a:ext cx="3657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743200"/>
            <a:ext cx="3657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600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523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x 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384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(NPV)  =  (  5%  x 700   +  95% x 1000) /  (1 + R) =  985 / ( 1 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Risk Free Rate  (7%) Then,  Price should be around 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 10% Then Price is around  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. Bond Spreads Over Treas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ble demonstrates that bond yields (spreads over equivalent Treasuries) increase as credit ratings dec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the spreads widen as maturity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4960" y="1935000"/>
            <a:ext cx="4689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D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sion Fun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23888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would a good speculat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56440" cy="389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…  Buy     S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80720" y="426672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04760" y="380952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solution (not always possible), buy a 4-year Zero with a notional amount equal to  US$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isk free rate is 7% (bond is issued by a solvent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4.22    D* = 3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209680" cy="457200"/>
          </a:xfrm>
          <a:prstGeom prst="rightArrow">
            <a:avLst>
              <a:gd name="adj1" fmla="val 50000"/>
              <a:gd name="adj2" fmla="val 1208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670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much should I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319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360" y="415116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ssume rates stay at 7%    (CFs are discounted at 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buy US$ 680,000 worth of notional amount  (Price =  US$  763,6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Up   (1469, not much different from 14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01000" cy="335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45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Down..   Same 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10-03T13:57:44Z</dcterms:modified>
  <cp:revision>97</cp:revision>
  <dc:subject/>
  <dc:title>Slide 1</dc:title>
</cp:coreProperties>
</file>