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54A-E577-42E0-87CD-2CE4E101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46D-ED3C-4D19-8CDB-2636FFEF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AD8-30A2-4531-A6E0-EF425E2A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BE7-2D75-407A-B1D5-3D87E1DC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09B-C3D5-4BFB-8827-3321D9F2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FE4-1346-4F09-8D7E-6CD7201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440-33B1-4D6D-BD23-E2494AE3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3C1-B9D2-406C-A9D4-90F9683E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532-D01C-4013-8462-1FB05C38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54A-4376-48E6-80C5-58F0291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F73-5DC6-4731-A69B-63621816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D46-5569-4AD2-849B-305644F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57AB-1E05-4C3A-B3C7-A21F1FAB3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folio dedic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90720"/>
            <a:ext cx="62485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at a 1-year Zero (notional amount $ 1,000) has a default probability equal to 5%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rates for these bonds are assumed to be around 7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bonds with similar credit risk profile yield 10%, what should be the price of this bond? (Just an estim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990720"/>
            <a:ext cx="7086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 = 0.05 x Y x .7   +  0.95 x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ives  Y = 10.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around  1,000/ 1.1015 = 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1447920" y="1523520"/>
            <a:ext cx="3657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743200"/>
            <a:ext cx="3657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1600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124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523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 x 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384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 (NPV)  =  (  5%  x 700   +  95% x 1000) /  (1 + R) =  985 / ( 1 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Risk Free Rate  (7%) Then,  Price should be around 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 10% Then Price is around  8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. Bond Spreads Over Treas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ble demonstrates that bond yields (spreads over equivalent Treasuries) increase as credit ratings dec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also that the spreads widen as maturity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74960" y="1935000"/>
            <a:ext cx="4689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De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nsion Fun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238880" cy="294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5181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would a good speculator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156440" cy="389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…  Buy     S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980720" y="4266720"/>
            <a:ext cx="1219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904760" y="380952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87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solution (not always possible), buy a 4-year Zero with a notional amount equal to  US$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2670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risk free rate is 7% (bond is issued by a solvent 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4.22    D* = 3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248520"/>
            <a:ext cx="2209680" cy="457200"/>
          </a:xfrm>
          <a:prstGeom prst="rightArrow">
            <a:avLst>
              <a:gd name="adj1" fmla="val 50000"/>
              <a:gd name="adj2" fmla="val 1208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2670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much should I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319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360" y="415116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assume rates stay at 7%    (CFs are discounted at 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buy US$ 680,000 worth of notional amount  (Price =  US$  763,6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4724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Up   (1469, not much different from 14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01000" cy="335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45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Down..   Same 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10-03T13:57:44Z</dcterms:modified>
  <cp:revision>97</cp:revision>
  <dc:subject/>
  <dc:title>Slide 1</dc:title>
</cp:coreProperties>
</file>