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973-0BD4-4D8A-AFD5-62DC2A84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078-BBA3-4035-A1A7-175E108C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67A-A9C3-4583-B7BF-8A792F78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5B7-3844-49E1-829A-D2D5CE0E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DF0-942A-4BE3-A38C-6F1BA264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46D-1683-4271-BAA9-53A5B3D9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1F9-F71C-4FD5-9C1C-F413B96E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E20-C8EF-4F31-8D67-C1BB7A14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15E-2995-4DDA-AA8E-279FADDC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D24-D4AB-4909-8F95-80BDD8CF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725-899A-4604-814F-2A819E73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4B8-3A7A-4624-8A37-03669B5C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5967-0D74-448D-8BCD-1BE1A723C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43000"/>
            <a:ext cx="7620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nd arbit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nd portfolio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tfolio dedication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5280" y="990720"/>
            <a:ext cx="624852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 that a 1-year Zero (notional amount $ 1,000) has a default probability equal to 5%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very rates for these bonds are assumed to be around 7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bonds with similar credit risk profile yield 10%, what should be the price of this bond? (Just an estim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990720"/>
            <a:ext cx="7086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10 = 0.05 x Y x .7   +  0.95 x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gives  Y = 10.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around  1,000/ 1.1015 = 9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5335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pproximate approach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V="1">
            <a:off x="1447920" y="1523520"/>
            <a:ext cx="3657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743200"/>
            <a:ext cx="3657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1600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3124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1523880"/>
            <a:ext cx="2209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,000 x 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4038480"/>
            <a:ext cx="7696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 (NPV)  =  (  5%  x 700   +  95% x 1000) /  (1 + R) =  985 / ( 1  +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= Risk Free Rate  (7%) Then,  Price should be around 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=  10% Then Price is around  8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335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approximate approach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. Bond Spreads Over Treasu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3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able demonstrates that bond yields (spreads over equivalent Treasuries) increase as credit ratings dec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also that the spreads widen as maturity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74960" y="1935000"/>
            <a:ext cx="46897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Ded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nsion Fund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238880" cy="2943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51814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would a good speculator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156440" cy="3892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28800" y="5410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…  Buy     S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1980720" y="4266720"/>
            <a:ext cx="12193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904760" y="3809520"/>
            <a:ext cx="2057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18288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0                 1                 2                3                 4               5 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029200" y="20574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657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to pay US$ 1,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87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etical solution (not always possible), buy a 4-year Zero with a notional amount equal to  US$ 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18288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0                 1                 2                3                 4               5 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029200" y="20574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3657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to pay US$ 1,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26708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alternative, buy a 5-year bullet, coupon rate = 10% (paid once a year), notional amount = 1,000, that trades at a premium (1,1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risk free rate is 7% (bond is issued by a solvent ent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 4.22    D* = 3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6248520"/>
            <a:ext cx="2209680" cy="457200"/>
          </a:xfrm>
          <a:prstGeom prst="rightArrow">
            <a:avLst>
              <a:gd name="adj1" fmla="val 50000"/>
              <a:gd name="adj2" fmla="val 12082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18288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0                 1                 2                3                 4               5 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029200" y="20574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3657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to pay US$ 1,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42670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alternative, buy a 5-year bullet, coupon rate = 10% (paid once a year), notional amount = 1,000, that trades at a premium (1,1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w much should I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3197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1360" y="4151160"/>
            <a:ext cx="82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assume rates stay at 7%    (CFs are discounted at 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buy US$ 680,000 worth of notional amount  (Price =  US$  763,6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32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47242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s Go Up   (1469, not much different from 14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001000" cy="3355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45720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s Go Down..   Same 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3:23:57Z</dcterms:created>
  <dc:creator>VCHARLIN</dc:creator>
  <dc:description/>
  <dc:language>en-US</dc:language>
  <cp:lastModifiedBy>VCHARLIN</cp:lastModifiedBy>
  <dcterms:modified xsi:type="dcterms:W3CDTF">2010-10-03T13:57:44Z</dcterms:modified>
  <cp:revision>97</cp:revision>
  <dc:subject/>
  <dc:title>Slide 1</dc:title>
</cp:coreProperties>
</file>