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58E3E-F8EB-45B2-BCF5-C89C800B36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7C455-FD4D-4375-BD1A-76DC66A41E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6E54C-28D1-4548-A55C-7A149B458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619C7-1B02-470F-8C4A-93435E085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81E3D-A88D-411B-881A-40055C89E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43AA5-F9F6-47D6-A84D-F729A9DEF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693B0-CB61-4762-80A6-C02B5D85B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B6CCD-5C8D-4BE8-B742-AF87E64B6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FE585-1DE9-4BB3-AA31-17B55D3DC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48770-AC80-4893-B35E-5608221E5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43F21-F51E-4C47-92F8-3467103EA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0E515-8141-4465-A77C-8AB0110BE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A027F-C49C-4009-B065-D960E7816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964D1-A2E3-4786-A0E0-3917196A7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DCD82-80FE-4D16-AF66-932BF4DE50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85800" y="1143000"/>
            <a:ext cx="762012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uration and Convex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fault Ris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ating Agencies, Credit Rat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990720" y="838080"/>
            <a:ext cx="6083280" cy="218448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1371600" y="3809880"/>
            <a:ext cx="287496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533520" y="457200"/>
            <a:ext cx="4724280" cy="22082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533520" y="3276720"/>
            <a:ext cx="4800600" cy="224316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5638680" y="1752480"/>
            <a:ext cx="25146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RRECT PR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38.8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715000" y="3581280"/>
            <a:ext cx="25146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RRECT PR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963.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Credit Ri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082960" y="1701720"/>
            <a:ext cx="49021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What Is It?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63640" y="2768760"/>
            <a:ext cx="8559720" cy="11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ncertainty in a counterparty’s ability 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illingness to meet its contractual oblig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244520" y="3911760"/>
            <a:ext cx="657864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RE TO THE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s This Guy Going To Pay M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Footer Placeholder 3"/>
          <p:cNvSpPr/>
          <p:nvPr/>
        </p:nvSpPr>
        <p:spPr>
          <a:xfrm>
            <a:off x="2362320" y="6286680"/>
            <a:ext cx="403848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5eadf"/>
                </a:solidFill>
                <a:latin typeface="Arial"/>
              </a:rPr>
              <a:t>CHAPTER 6 – Bond Valuation and Interest R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lide Number Placeholder 4"/>
          <p:cNvSpPr/>
          <p:nvPr/>
        </p:nvSpPr>
        <p:spPr>
          <a:xfrm>
            <a:off x="6553080" y="628668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6 - </a:t>
            </a:r>
            <a:fld id="{63DFB9C8-AFA3-4C63-BEDA-ECE1FA94673B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bt Ratin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publicly traded bonds are assigned a “credit risk rating” by a rating agency, such as Standard &amp; Poors (S&amp;P), Moody’s, Fitch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nds are categorized 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vestment grade – top four rating categories (AAA, AA, A &amp; BB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unk or high yield – everything below investment grade (BB, B, CCC, CC, D, Suspend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143000" y="1219320"/>
            <a:ext cx="6019920" cy="421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oody’s              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S&amp;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a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C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62120" y="3352680"/>
            <a:ext cx="7772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33520" y="5715000"/>
            <a:ext cx="571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ic Concepts: (i) investment grade/ junk  (ii) Exp Loss vs Prob of Default  (iii) only capture credit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133640" y="804960"/>
            <a:ext cx="29192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vestment grade rat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01440" y="804960"/>
            <a:ext cx="2946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peculative grade rat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33520" y="1219320"/>
            <a:ext cx="7848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42560" y="1436760"/>
            <a:ext cx="372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d others    Moody’s     Interpre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638600" y="1436760"/>
            <a:ext cx="3668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d others   Moody’s     Interpre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76920" y="1893960"/>
            <a:ext cx="771840" cy="39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A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A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BB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BB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519920" y="1893960"/>
            <a:ext cx="655920" cy="39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a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a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a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a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a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a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28600" y="1752480"/>
            <a:ext cx="8763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432880" y="1893960"/>
            <a:ext cx="1910160" cy="365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ighest quality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tremely stro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igh qu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rong pay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pac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equate pay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pac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57280" y="1893960"/>
            <a:ext cx="2364120" cy="420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kely to ful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bligations; ongo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ncertain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igh risk oblig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urrent vulner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defa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bankruptcy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ault, or 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rked shortco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495680" y="1219320"/>
            <a:ext cx="0" cy="4876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872960" y="1893960"/>
            <a:ext cx="771840" cy="435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B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B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CC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C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CC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939640" y="1893960"/>
            <a:ext cx="655920" cy="365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a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a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a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7640" y="1208160"/>
            <a:ext cx="616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&amp;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949640" y="1208160"/>
            <a:ext cx="616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&amp;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062440" y="469800"/>
            <a:ext cx="4589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Long-Term Senior Debt Rating Symb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04920" y="1219320"/>
            <a:ext cx="861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927000" y="6337440"/>
            <a:ext cx="62992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: Moody’s; Cantor and Parker; Caouette, Altman and Narayan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Moody’s Ideal Default R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320840" y="2235240"/>
            <a:ext cx="6578640" cy="37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a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.000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.0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0.001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.23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0.018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23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.226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1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746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3.5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.8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8.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6.0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5.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193560" y="1719360"/>
            <a:ext cx="4219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1 year (%)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10 year (%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57200" y="4343400"/>
            <a:ext cx="7772400" cy="0"/>
          </a:xfrm>
          <a:prstGeom prst="line">
            <a:avLst/>
          </a:prstGeom>
          <a:ln w="255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Recovery Rates </a:t>
            </a:r>
            <a:br>
              <a:rPr sz="4400"/>
            </a:b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(Or Severity of Loss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701720" y="2158920"/>
            <a:ext cx="7035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% Recovered after the tragedy (Moody’s dat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06440" y="3073320"/>
            <a:ext cx="8407440" cy="212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ior Secured Bank Loans        71.2 %     (St. Dev. = 21.1 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ior Secured Public Bonds      63.5 %     (26.1 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ior Unsecured Public Bonds  47.5 %     (26.3 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ordinated Public Bonds         28.3 %     (20.1 %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Footer Placeholder 3"/>
          <p:cNvSpPr/>
          <p:nvPr/>
        </p:nvSpPr>
        <p:spPr>
          <a:xfrm>
            <a:off x="2362320" y="6286680"/>
            <a:ext cx="403848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5eadf"/>
                </a:solidFill>
                <a:latin typeface="Arial"/>
              </a:rPr>
              <a:t>CHAPTER 6 – Bond Valuation and Interest R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lide Number Placeholder 4"/>
          <p:cNvSpPr/>
          <p:nvPr/>
        </p:nvSpPr>
        <p:spPr>
          <a:xfrm>
            <a:off x="6553080" y="628668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6 - </a:t>
            </a:r>
            <a:fld id="{AA6566D4-7953-4825-A07D-EF9E26BAD1B9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ield Curves for Different Risk Classes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isk Premiums (Yield Spread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14"/>
          <p:cNvSpPr/>
          <p:nvPr/>
        </p:nvSpPr>
        <p:spPr>
          <a:xfrm>
            <a:off x="1143000" y="1828800"/>
            <a:ext cx="6858000" cy="4089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15"/>
          <p:cNvSpPr/>
          <p:nvPr/>
        </p:nvSpPr>
        <p:spPr>
          <a:xfrm>
            <a:off x="1905120" y="2085840"/>
            <a:ext cx="0" cy="3048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16"/>
          <p:cNvSpPr/>
          <p:nvPr/>
        </p:nvSpPr>
        <p:spPr>
          <a:xfrm>
            <a:off x="1905120" y="5124600"/>
            <a:ext cx="5410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7"/>
          <p:cNvSpPr/>
          <p:nvPr/>
        </p:nvSpPr>
        <p:spPr>
          <a:xfrm rot="10800000">
            <a:off x="1294920" y="2761920"/>
            <a:ext cx="3628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erc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8"/>
          <p:cNvSpPr/>
          <p:nvPr/>
        </p:nvSpPr>
        <p:spPr>
          <a:xfrm>
            <a:off x="3733920" y="53071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rm Left to Matur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19"/>
          <p:cNvSpPr/>
          <p:nvPr/>
        </p:nvSpPr>
        <p:spPr>
          <a:xfrm flipH="1">
            <a:off x="1828800" y="512460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20"/>
          <p:cNvSpPr/>
          <p:nvPr/>
        </p:nvSpPr>
        <p:spPr>
          <a:xfrm flipH="1">
            <a:off x="1828800" y="398160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21"/>
          <p:cNvSpPr/>
          <p:nvPr/>
        </p:nvSpPr>
        <p:spPr>
          <a:xfrm flipH="1">
            <a:off x="1828800" y="474336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22"/>
          <p:cNvSpPr/>
          <p:nvPr/>
        </p:nvSpPr>
        <p:spPr>
          <a:xfrm flipH="1">
            <a:off x="1828800" y="43624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23"/>
          <p:cNvSpPr/>
          <p:nvPr/>
        </p:nvSpPr>
        <p:spPr>
          <a:xfrm flipH="1">
            <a:off x="1828800" y="360036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24"/>
          <p:cNvSpPr/>
          <p:nvPr/>
        </p:nvSpPr>
        <p:spPr>
          <a:xfrm flipH="1">
            <a:off x="1828800" y="32194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25"/>
          <p:cNvSpPr/>
          <p:nvPr/>
        </p:nvSpPr>
        <p:spPr>
          <a:xfrm flipH="1">
            <a:off x="1828800" y="283860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26"/>
          <p:cNvSpPr/>
          <p:nvPr/>
        </p:nvSpPr>
        <p:spPr>
          <a:xfrm flipH="1">
            <a:off x="1828800" y="245736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27"/>
          <p:cNvSpPr/>
          <p:nvPr/>
        </p:nvSpPr>
        <p:spPr>
          <a:xfrm>
            <a:off x="1905120" y="5124600"/>
            <a:ext cx="0" cy="75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28"/>
          <p:cNvSpPr/>
          <p:nvPr/>
        </p:nvSpPr>
        <p:spPr>
          <a:xfrm>
            <a:off x="3124080" y="5124600"/>
            <a:ext cx="0" cy="75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29"/>
          <p:cNvSpPr/>
          <p:nvPr/>
        </p:nvSpPr>
        <p:spPr>
          <a:xfrm>
            <a:off x="2514600" y="5124600"/>
            <a:ext cx="0" cy="75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30"/>
          <p:cNvSpPr/>
          <p:nvPr/>
        </p:nvSpPr>
        <p:spPr>
          <a:xfrm>
            <a:off x="3733920" y="5124600"/>
            <a:ext cx="0" cy="75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31"/>
          <p:cNvSpPr/>
          <p:nvPr/>
        </p:nvSpPr>
        <p:spPr>
          <a:xfrm>
            <a:off x="4343400" y="5124600"/>
            <a:ext cx="0" cy="75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32"/>
          <p:cNvSpPr/>
          <p:nvPr/>
        </p:nvSpPr>
        <p:spPr>
          <a:xfrm>
            <a:off x="4952880" y="5124600"/>
            <a:ext cx="0" cy="75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33"/>
          <p:cNvSpPr/>
          <p:nvPr/>
        </p:nvSpPr>
        <p:spPr>
          <a:xfrm>
            <a:off x="5562720" y="5129280"/>
            <a:ext cx="0" cy="75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34"/>
          <p:cNvSpPr/>
          <p:nvPr/>
        </p:nvSpPr>
        <p:spPr>
          <a:xfrm>
            <a:off x="1295280" y="1955880"/>
            <a:ext cx="533520" cy="32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35"/>
          <p:cNvSpPr/>
          <p:nvPr/>
        </p:nvSpPr>
        <p:spPr>
          <a:xfrm>
            <a:off x="1733400" y="5160960"/>
            <a:ext cx="61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dec" pos="272880"/>
                <a:tab algn="dec" pos="804960"/>
                <a:tab algn="dec" pos="1433520"/>
                <a:tab algn="dec" pos="2155680"/>
                <a:tab algn="dec" pos="2784600"/>
                <a:tab algn="dec" pos="3316320"/>
                <a:tab algn="dec" pos="3944880"/>
                <a:tab algn="dec" pos="4572000"/>
                <a:tab algn="dec" pos="51991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 mth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3 mths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   6 mths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 yr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yrs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     5 yrs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7 yrs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     10 yrs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0 y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42"/>
          <p:cNvSpPr/>
          <p:nvPr/>
        </p:nvSpPr>
        <p:spPr>
          <a:xfrm flipH="1">
            <a:off x="1828800" y="20764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43"/>
          <p:cNvSpPr/>
          <p:nvPr/>
        </p:nvSpPr>
        <p:spPr>
          <a:xfrm>
            <a:off x="6172200" y="5124600"/>
            <a:ext cx="0" cy="75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44"/>
          <p:cNvSpPr/>
          <p:nvPr/>
        </p:nvSpPr>
        <p:spPr>
          <a:xfrm>
            <a:off x="6781680" y="5124600"/>
            <a:ext cx="0" cy="75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45"/>
          <p:cNvSpPr/>
          <p:nvPr/>
        </p:nvSpPr>
        <p:spPr>
          <a:xfrm>
            <a:off x="1890720" y="4365720"/>
            <a:ext cx="5410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46"/>
          <p:cNvSpPr/>
          <p:nvPr/>
        </p:nvSpPr>
        <p:spPr>
          <a:xfrm>
            <a:off x="1905120" y="4746600"/>
            <a:ext cx="5410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47"/>
          <p:cNvSpPr/>
          <p:nvPr/>
        </p:nvSpPr>
        <p:spPr>
          <a:xfrm>
            <a:off x="1890720" y="3984480"/>
            <a:ext cx="5410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48"/>
          <p:cNvSpPr/>
          <p:nvPr/>
        </p:nvSpPr>
        <p:spPr>
          <a:xfrm>
            <a:off x="1890720" y="3603600"/>
            <a:ext cx="5410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49"/>
          <p:cNvSpPr/>
          <p:nvPr/>
        </p:nvSpPr>
        <p:spPr>
          <a:xfrm>
            <a:off x="1890720" y="3222720"/>
            <a:ext cx="5410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50"/>
          <p:cNvSpPr/>
          <p:nvPr/>
        </p:nvSpPr>
        <p:spPr>
          <a:xfrm>
            <a:off x="1890720" y="2827440"/>
            <a:ext cx="5410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51"/>
          <p:cNvSpPr/>
          <p:nvPr/>
        </p:nvSpPr>
        <p:spPr>
          <a:xfrm>
            <a:off x="1890720" y="2446200"/>
            <a:ext cx="5410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52"/>
          <p:cNvSpPr/>
          <p:nvPr/>
        </p:nvSpPr>
        <p:spPr>
          <a:xfrm>
            <a:off x="1890720" y="2079720"/>
            <a:ext cx="5410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53"/>
          <p:cNvSpPr/>
          <p:nvPr/>
        </p:nvSpPr>
        <p:spPr>
          <a:xfrm>
            <a:off x="7315200" y="2079720"/>
            <a:ext cx="0" cy="3047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54"/>
          <p:cNvSpPr/>
          <p:nvPr/>
        </p:nvSpPr>
        <p:spPr>
          <a:xfrm>
            <a:off x="7315200" y="5127480"/>
            <a:ext cx="0" cy="76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55"/>
          <p:cNvSpPr/>
          <p:nvPr/>
        </p:nvSpPr>
        <p:spPr>
          <a:xfrm>
            <a:off x="1938240" y="5540400"/>
            <a:ext cx="5410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dec" pos="272880"/>
                <a:tab algn="l" pos="533520"/>
                <a:tab algn="dec" pos="2336760"/>
                <a:tab algn="dec" pos="3316320"/>
                <a:tab algn="dec" pos="3944880"/>
                <a:tab algn="dec" pos="4572000"/>
                <a:tab algn="dec" pos="51991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BB Corporates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overnment  Bon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57"/>
          <p:cNvSpPr/>
          <p:nvPr/>
        </p:nvSpPr>
        <p:spPr>
          <a:xfrm>
            <a:off x="2057400" y="5661000"/>
            <a:ext cx="414360" cy="0"/>
          </a:xfrm>
          <a:prstGeom prst="line">
            <a:avLst/>
          </a:prstGeom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58"/>
          <p:cNvSpPr/>
          <p:nvPr/>
        </p:nvSpPr>
        <p:spPr>
          <a:xfrm>
            <a:off x="3776760" y="5661000"/>
            <a:ext cx="414360" cy="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Freeform 61"/>
          <p:cNvSpPr/>
          <p:nvPr/>
        </p:nvSpPr>
        <p:spPr>
          <a:xfrm>
            <a:off x="1905120" y="3327480"/>
            <a:ext cx="4800600" cy="761760"/>
          </a:xfrm>
          <a:custGeom>
            <a:avLst/>
            <a:gdLst>
              <a:gd name="textAreaLeft" fmla="*/ 0 w 4800600"/>
              <a:gd name="textAreaRight" fmla="*/ 4800960 w 4800600"/>
              <a:gd name="textAreaTop" fmla="*/ 0 h 761760"/>
              <a:gd name="textAreaBottom" fmla="*/ 762120 h 761760"/>
            </a:gdLst>
            <a:ahLst/>
            <a:rect l="textAreaLeft" t="textAreaTop" r="textAreaRight" b="textAreaBottom"/>
            <a:pathLst>
              <a:path w="3024" h="480">
                <a:moveTo>
                  <a:pt x="0" y="480"/>
                </a:moveTo>
                <a:cubicBezTo>
                  <a:pt x="90" y="455"/>
                  <a:pt x="287" y="384"/>
                  <a:pt x="542" y="330"/>
                </a:cubicBezTo>
                <a:cubicBezTo>
                  <a:pt x="797" y="276"/>
                  <a:pt x="1117" y="213"/>
                  <a:pt x="1531" y="158"/>
                </a:cubicBezTo>
                <a:cubicBezTo>
                  <a:pt x="1945" y="103"/>
                  <a:pt x="2713" y="33"/>
                  <a:pt x="3024" y="0"/>
                </a:cubicBezTo>
              </a:path>
            </a:pathLst>
          </a:custGeom>
          <a:noFill/>
          <a:ln w="284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Freeform 65"/>
          <p:cNvSpPr/>
          <p:nvPr/>
        </p:nvSpPr>
        <p:spPr>
          <a:xfrm rot="21270000">
            <a:off x="1828440" y="2933640"/>
            <a:ext cx="4800600" cy="762120"/>
          </a:xfrm>
          <a:custGeom>
            <a:avLst/>
            <a:gdLst>
              <a:gd name="textAreaLeft" fmla="*/ 0 w 4800600"/>
              <a:gd name="textAreaRight" fmla="*/ 4800960 w 4800600"/>
              <a:gd name="textAreaTop" fmla="*/ 0 h 762120"/>
              <a:gd name="textAreaBottom" fmla="*/ 762480 h 762120"/>
            </a:gdLst>
            <a:ahLst/>
            <a:rect l="textAreaLeft" t="textAreaTop" r="textAreaRight" b="textAreaBottom"/>
            <a:pathLst>
              <a:path w="3024" h="480">
                <a:moveTo>
                  <a:pt x="0" y="480"/>
                </a:moveTo>
                <a:cubicBezTo>
                  <a:pt x="90" y="455"/>
                  <a:pt x="287" y="384"/>
                  <a:pt x="542" y="330"/>
                </a:cubicBezTo>
                <a:cubicBezTo>
                  <a:pt x="797" y="276"/>
                  <a:pt x="1117" y="213"/>
                  <a:pt x="1531" y="158"/>
                </a:cubicBezTo>
                <a:cubicBezTo>
                  <a:pt x="1945" y="103"/>
                  <a:pt x="2713" y="33"/>
                  <a:pt x="3024" y="0"/>
                </a:cubicBezTo>
              </a:path>
            </a:pathLst>
          </a:custGeom>
          <a:noFill/>
          <a:ln w="28440">
            <a:solidFill>
              <a:srgbClr val="00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utoShape 67"/>
          <p:cNvSpPr/>
          <p:nvPr/>
        </p:nvSpPr>
        <p:spPr>
          <a:xfrm>
            <a:off x="6248520" y="2819520"/>
            <a:ext cx="228600" cy="533160"/>
          </a:xfrm>
          <a:custGeom>
            <a:avLst/>
            <a:gdLst>
              <a:gd name="textAreaLeft" fmla="*/ 0 w 228600"/>
              <a:gd name="textAreaRight" fmla="*/ 82440 w 228600"/>
              <a:gd name="textAreaTop" fmla="*/ 13680 h 533160"/>
              <a:gd name="textAreaBottom" fmla="*/ 5194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68"/>
          <p:cNvSpPr/>
          <p:nvPr/>
        </p:nvSpPr>
        <p:spPr>
          <a:xfrm>
            <a:off x="6477120" y="2819520"/>
            <a:ext cx="825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50021"/>
                </a:solidFill>
                <a:latin typeface="Arial"/>
              </a:rPr>
              <a:t>Yield Spr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Footer Placeholder 3"/>
          <p:cNvSpPr/>
          <p:nvPr/>
        </p:nvSpPr>
        <p:spPr>
          <a:xfrm>
            <a:off x="2362320" y="6286680"/>
            <a:ext cx="403848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5eadf"/>
                </a:solidFill>
                <a:latin typeface="Arial"/>
              </a:rPr>
              <a:t>CHAPTER 6 – Bond Valuation and Interest R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Slide Number Placeholder 4"/>
          <p:cNvSpPr/>
          <p:nvPr/>
        </p:nvSpPr>
        <p:spPr>
          <a:xfrm>
            <a:off x="6553080" y="628668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6 - </a:t>
            </a:r>
            <a:fld id="{512CF08D-7C85-4CFA-A851-6923233551F0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ield Curves for Different Risk Classes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isk Premiums (Yield Spread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14"/>
          <p:cNvSpPr/>
          <p:nvPr/>
        </p:nvSpPr>
        <p:spPr>
          <a:xfrm>
            <a:off x="1143000" y="1828800"/>
            <a:ext cx="6858000" cy="4089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15"/>
          <p:cNvSpPr/>
          <p:nvPr/>
        </p:nvSpPr>
        <p:spPr>
          <a:xfrm>
            <a:off x="1905120" y="2085840"/>
            <a:ext cx="0" cy="3048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16"/>
          <p:cNvSpPr/>
          <p:nvPr/>
        </p:nvSpPr>
        <p:spPr>
          <a:xfrm>
            <a:off x="1905120" y="5124600"/>
            <a:ext cx="5410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17"/>
          <p:cNvSpPr/>
          <p:nvPr/>
        </p:nvSpPr>
        <p:spPr>
          <a:xfrm rot="10800000">
            <a:off x="1294920" y="2761920"/>
            <a:ext cx="3628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erc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18"/>
          <p:cNvSpPr/>
          <p:nvPr/>
        </p:nvSpPr>
        <p:spPr>
          <a:xfrm>
            <a:off x="3733920" y="53071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rm Left to Matur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19"/>
          <p:cNvSpPr/>
          <p:nvPr/>
        </p:nvSpPr>
        <p:spPr>
          <a:xfrm flipH="1">
            <a:off x="1828800" y="512460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20"/>
          <p:cNvSpPr/>
          <p:nvPr/>
        </p:nvSpPr>
        <p:spPr>
          <a:xfrm flipH="1">
            <a:off x="1828800" y="398160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21"/>
          <p:cNvSpPr/>
          <p:nvPr/>
        </p:nvSpPr>
        <p:spPr>
          <a:xfrm flipH="1">
            <a:off x="1828800" y="474336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22"/>
          <p:cNvSpPr/>
          <p:nvPr/>
        </p:nvSpPr>
        <p:spPr>
          <a:xfrm flipH="1">
            <a:off x="1828800" y="43624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23"/>
          <p:cNvSpPr/>
          <p:nvPr/>
        </p:nvSpPr>
        <p:spPr>
          <a:xfrm flipH="1">
            <a:off x="1828800" y="360036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24"/>
          <p:cNvSpPr/>
          <p:nvPr/>
        </p:nvSpPr>
        <p:spPr>
          <a:xfrm flipH="1">
            <a:off x="1828800" y="32194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25"/>
          <p:cNvSpPr/>
          <p:nvPr/>
        </p:nvSpPr>
        <p:spPr>
          <a:xfrm flipH="1">
            <a:off x="1828800" y="283860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26"/>
          <p:cNvSpPr/>
          <p:nvPr/>
        </p:nvSpPr>
        <p:spPr>
          <a:xfrm flipH="1">
            <a:off x="1828800" y="245736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27"/>
          <p:cNvSpPr/>
          <p:nvPr/>
        </p:nvSpPr>
        <p:spPr>
          <a:xfrm>
            <a:off x="1905120" y="5124600"/>
            <a:ext cx="0" cy="75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28"/>
          <p:cNvSpPr/>
          <p:nvPr/>
        </p:nvSpPr>
        <p:spPr>
          <a:xfrm>
            <a:off x="3124080" y="5124600"/>
            <a:ext cx="0" cy="75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29"/>
          <p:cNvSpPr/>
          <p:nvPr/>
        </p:nvSpPr>
        <p:spPr>
          <a:xfrm>
            <a:off x="2514600" y="5124600"/>
            <a:ext cx="0" cy="75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30"/>
          <p:cNvSpPr/>
          <p:nvPr/>
        </p:nvSpPr>
        <p:spPr>
          <a:xfrm>
            <a:off x="3733920" y="5124600"/>
            <a:ext cx="0" cy="75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31"/>
          <p:cNvSpPr/>
          <p:nvPr/>
        </p:nvSpPr>
        <p:spPr>
          <a:xfrm>
            <a:off x="4343400" y="5124600"/>
            <a:ext cx="0" cy="75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32"/>
          <p:cNvSpPr/>
          <p:nvPr/>
        </p:nvSpPr>
        <p:spPr>
          <a:xfrm>
            <a:off x="4952880" y="5124600"/>
            <a:ext cx="0" cy="75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33"/>
          <p:cNvSpPr/>
          <p:nvPr/>
        </p:nvSpPr>
        <p:spPr>
          <a:xfrm>
            <a:off x="5562720" y="5129280"/>
            <a:ext cx="0" cy="75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34"/>
          <p:cNvSpPr/>
          <p:nvPr/>
        </p:nvSpPr>
        <p:spPr>
          <a:xfrm>
            <a:off x="1295280" y="1955880"/>
            <a:ext cx="533520" cy="32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35"/>
          <p:cNvSpPr/>
          <p:nvPr/>
        </p:nvSpPr>
        <p:spPr>
          <a:xfrm>
            <a:off x="1733400" y="5160960"/>
            <a:ext cx="61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dec" pos="272880"/>
                <a:tab algn="dec" pos="804960"/>
                <a:tab algn="dec" pos="1433520"/>
                <a:tab algn="dec" pos="2155680"/>
                <a:tab algn="dec" pos="2784600"/>
                <a:tab algn="dec" pos="3316320"/>
                <a:tab algn="dec" pos="3944880"/>
                <a:tab algn="dec" pos="4572000"/>
                <a:tab algn="dec" pos="51991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 mth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3 mths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   6 mths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 yr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yrs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     5 yrs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7 yrs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     10 yrs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0 y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42"/>
          <p:cNvSpPr/>
          <p:nvPr/>
        </p:nvSpPr>
        <p:spPr>
          <a:xfrm flipH="1">
            <a:off x="1828800" y="20764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43"/>
          <p:cNvSpPr/>
          <p:nvPr/>
        </p:nvSpPr>
        <p:spPr>
          <a:xfrm>
            <a:off x="6172200" y="5124600"/>
            <a:ext cx="0" cy="75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44"/>
          <p:cNvSpPr/>
          <p:nvPr/>
        </p:nvSpPr>
        <p:spPr>
          <a:xfrm>
            <a:off x="6781680" y="5124600"/>
            <a:ext cx="0" cy="75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45"/>
          <p:cNvSpPr/>
          <p:nvPr/>
        </p:nvSpPr>
        <p:spPr>
          <a:xfrm>
            <a:off x="1890720" y="4365720"/>
            <a:ext cx="5410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46"/>
          <p:cNvSpPr/>
          <p:nvPr/>
        </p:nvSpPr>
        <p:spPr>
          <a:xfrm>
            <a:off x="1905120" y="4746600"/>
            <a:ext cx="5410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47"/>
          <p:cNvSpPr/>
          <p:nvPr/>
        </p:nvSpPr>
        <p:spPr>
          <a:xfrm>
            <a:off x="1890720" y="3984480"/>
            <a:ext cx="5410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48"/>
          <p:cNvSpPr/>
          <p:nvPr/>
        </p:nvSpPr>
        <p:spPr>
          <a:xfrm>
            <a:off x="1890720" y="3603600"/>
            <a:ext cx="5410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49"/>
          <p:cNvSpPr/>
          <p:nvPr/>
        </p:nvSpPr>
        <p:spPr>
          <a:xfrm>
            <a:off x="1890720" y="3222720"/>
            <a:ext cx="5410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50"/>
          <p:cNvSpPr/>
          <p:nvPr/>
        </p:nvSpPr>
        <p:spPr>
          <a:xfrm>
            <a:off x="1890720" y="2827440"/>
            <a:ext cx="5410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51"/>
          <p:cNvSpPr/>
          <p:nvPr/>
        </p:nvSpPr>
        <p:spPr>
          <a:xfrm>
            <a:off x="1890720" y="2446200"/>
            <a:ext cx="5410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52"/>
          <p:cNvSpPr/>
          <p:nvPr/>
        </p:nvSpPr>
        <p:spPr>
          <a:xfrm>
            <a:off x="1890720" y="2079720"/>
            <a:ext cx="5410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53"/>
          <p:cNvSpPr/>
          <p:nvPr/>
        </p:nvSpPr>
        <p:spPr>
          <a:xfrm>
            <a:off x="7315200" y="2079720"/>
            <a:ext cx="0" cy="3047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54"/>
          <p:cNvSpPr/>
          <p:nvPr/>
        </p:nvSpPr>
        <p:spPr>
          <a:xfrm>
            <a:off x="7315200" y="5127480"/>
            <a:ext cx="0" cy="76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Freeform 61"/>
          <p:cNvSpPr/>
          <p:nvPr/>
        </p:nvSpPr>
        <p:spPr>
          <a:xfrm>
            <a:off x="1905120" y="3327480"/>
            <a:ext cx="4800600" cy="761760"/>
          </a:xfrm>
          <a:custGeom>
            <a:avLst/>
            <a:gdLst>
              <a:gd name="textAreaLeft" fmla="*/ 0 w 4800600"/>
              <a:gd name="textAreaRight" fmla="*/ 4800960 w 4800600"/>
              <a:gd name="textAreaTop" fmla="*/ 0 h 761760"/>
              <a:gd name="textAreaBottom" fmla="*/ 762120 h 761760"/>
            </a:gdLst>
            <a:ahLst/>
            <a:rect l="textAreaLeft" t="textAreaTop" r="textAreaRight" b="textAreaBottom"/>
            <a:pathLst>
              <a:path w="3024" h="480">
                <a:moveTo>
                  <a:pt x="0" y="480"/>
                </a:moveTo>
                <a:cubicBezTo>
                  <a:pt x="90" y="455"/>
                  <a:pt x="287" y="384"/>
                  <a:pt x="542" y="330"/>
                </a:cubicBezTo>
                <a:cubicBezTo>
                  <a:pt x="797" y="276"/>
                  <a:pt x="1117" y="213"/>
                  <a:pt x="1531" y="158"/>
                </a:cubicBezTo>
                <a:cubicBezTo>
                  <a:pt x="1945" y="103"/>
                  <a:pt x="2713" y="33"/>
                  <a:pt x="3024" y="0"/>
                </a:cubicBezTo>
              </a:path>
            </a:pathLst>
          </a:custGeom>
          <a:noFill/>
          <a:ln w="284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Freeform 65"/>
          <p:cNvSpPr/>
          <p:nvPr/>
        </p:nvSpPr>
        <p:spPr>
          <a:xfrm rot="21270000">
            <a:off x="1837800" y="3341520"/>
            <a:ext cx="4873680" cy="457200"/>
          </a:xfrm>
          <a:custGeom>
            <a:avLst/>
            <a:gdLst>
              <a:gd name="textAreaLeft" fmla="*/ 0 w 4873680"/>
              <a:gd name="textAreaRight" fmla="*/ 4874040 w 487368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3024" h="480">
                <a:moveTo>
                  <a:pt x="0" y="480"/>
                </a:moveTo>
                <a:cubicBezTo>
                  <a:pt x="90" y="455"/>
                  <a:pt x="287" y="384"/>
                  <a:pt x="542" y="330"/>
                </a:cubicBezTo>
                <a:cubicBezTo>
                  <a:pt x="797" y="276"/>
                  <a:pt x="1117" y="213"/>
                  <a:pt x="1531" y="158"/>
                </a:cubicBezTo>
                <a:cubicBezTo>
                  <a:pt x="1945" y="103"/>
                  <a:pt x="2713" y="33"/>
                  <a:pt x="3024" y="0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Freeform 65"/>
          <p:cNvSpPr/>
          <p:nvPr/>
        </p:nvSpPr>
        <p:spPr>
          <a:xfrm rot="21270000">
            <a:off x="1833480" y="2406240"/>
            <a:ext cx="3952800" cy="1100160"/>
          </a:xfrm>
          <a:custGeom>
            <a:avLst/>
            <a:gdLst>
              <a:gd name="textAreaLeft" fmla="*/ 0 w 3952800"/>
              <a:gd name="textAreaRight" fmla="*/ 3953160 w 3952800"/>
              <a:gd name="textAreaTop" fmla="*/ 0 h 1100160"/>
              <a:gd name="textAreaBottom" fmla="*/ 1100520 h 1100160"/>
            </a:gdLst>
            <a:ahLst/>
            <a:rect l="textAreaLeft" t="textAreaTop" r="textAreaRight" b="textAreaBottom"/>
            <a:pathLst>
              <a:path w="3024" h="480">
                <a:moveTo>
                  <a:pt x="0" y="480"/>
                </a:moveTo>
                <a:cubicBezTo>
                  <a:pt x="90" y="455"/>
                  <a:pt x="287" y="384"/>
                  <a:pt x="542" y="330"/>
                </a:cubicBezTo>
                <a:cubicBezTo>
                  <a:pt x="797" y="276"/>
                  <a:pt x="1117" y="213"/>
                  <a:pt x="1531" y="158"/>
                </a:cubicBezTo>
                <a:cubicBezTo>
                  <a:pt x="1945" y="103"/>
                  <a:pt x="2713" y="33"/>
                  <a:pt x="3024" y="0"/>
                </a:cubicBezTo>
              </a:path>
            </a:pathLst>
          </a:custGeom>
          <a:noFill/>
          <a:ln w="28440">
            <a:solidFill>
              <a:srgbClr val="00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80880" y="632448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v Bonds;  AAA Corporate;  Junk (B)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762120" y="3733920"/>
            <a:ext cx="2895480" cy="2666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2819520" y="3352320"/>
            <a:ext cx="2438280" cy="304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4038120" y="2743200"/>
            <a:ext cx="381240" cy="358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Footer Placeholder 3"/>
          <p:cNvSpPr/>
          <p:nvPr/>
        </p:nvSpPr>
        <p:spPr>
          <a:xfrm>
            <a:off x="2362320" y="6286680"/>
            <a:ext cx="403848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5eadf"/>
                </a:solidFill>
                <a:latin typeface="Arial"/>
              </a:rPr>
              <a:t>CHAPTER 6 – Bond Valuation and Interest R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Slide Number Placeholder 4"/>
          <p:cNvSpPr/>
          <p:nvPr/>
        </p:nvSpPr>
        <p:spPr>
          <a:xfrm>
            <a:off x="6553080" y="628668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6 - </a:t>
            </a:r>
            <a:fld id="{DDB33C6F-FAA6-4FCA-AFF4-73C3214CE5EC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nd Val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value of a bond is a function o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 v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rm to matu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pon 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estor’s required rate of return (it should reflect the risk associated with the bond issu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Purchase Price or Market Price of a bond is simply the present value of the cash flows, discounted at the appropriate 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609480" y="1143000"/>
                <a:ext cx="6637320" cy="131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RICE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M</m:t>
                                </m:r>
                              </m:sup>
                            </m:sSup>
                          </m:den>
                        </m:f>
                      </m:e>
                    </m:d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PAR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R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M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" name=""/>
              <p:cNvSpPr txBox="1"/>
              <p:nvPr/>
            </p:nvSpPr>
            <p:spPr>
              <a:xfrm>
                <a:off x="820800" y="3200400"/>
                <a:ext cx="3719520" cy="12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RICE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f>
                          <m:num>
                            <m:r>
                              <m:t xml:space="preserve">[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F</m:t>
                            </m:r>
                            <m:sSub>
                              <m:e>
                                <m:r>
                                  <m:t xml:space="preserve">]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i</m:t>
                                </m:r>
                              </m:sup>
                            </m:sSup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51" name=""/>
          <p:cNvSpPr/>
          <p:nvPr/>
        </p:nvSpPr>
        <p:spPr>
          <a:xfrm>
            <a:off x="1371600" y="266688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838080" y="5105520"/>
            <a:ext cx="5867640" cy="9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 (discount rate)=  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or government (risk free) securities;  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 Spread, for others (the lower the rating, the higher the Sprea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Valuation Formula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838080" y="1596960"/>
                <a:ext cx="7696440" cy="312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on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alue</m:t>
                            </m:r>
                          </m:sub>
                        </m:sSub>
                      </m:e>
                      <m:e>
                        <m:r>
                          <m:t xml:space="preserve">=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f>
                              <m:num>
                                <m:r>
                                  <m:t xml:space="preserve">C</m:t>
                                </m:r>
                              </m:num>
                              <m:den>
                                <m:r>
                                  <m:t xml:space="preserve">(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R</m:t>
                                </m: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i</m:t>
                                    </m:r>
                                  </m:sup>
                                </m:sSup>
                              </m:den>
                            </m:f>
                          </m:e>
                        </m:nary>
                        <m:r>
                          <m:t xml:space="preserve">+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PAR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M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t xml:space="preserve">C</m:t>
                            </m:r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(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R</m:t>
                                </m: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M</m:t>
                                    </m:r>
                                  </m:sup>
                                </m:sSup>
                              </m:den>
                            </m:f>
                          </m:e>
                        </m:d>
                        <m:r>
                          <m:t xml:space="preserve">+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PAR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M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609480" y="1143000"/>
                <a:ext cx="6637320" cy="131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RICE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M</m:t>
                                </m:r>
                              </m:sup>
                            </m:sSup>
                          </m:den>
                        </m:f>
                      </m:e>
                    </m:d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PAR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R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M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6" name=""/>
          <p:cNvSpPr/>
          <p:nvPr/>
        </p:nvSpPr>
        <p:spPr>
          <a:xfrm>
            <a:off x="762120" y="2895480"/>
            <a:ext cx="76197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value of R that satisfies the above equation (PRICE, PAR, M, and C are all known) is called YTM [Yield to maturity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1371600" y="4038480"/>
                <a:ext cx="3683160" cy="12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RICE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f>
                          <m:num>
                            <m:r>
                              <m:t xml:space="preserve">[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F</m:t>
                            </m:r>
                            <m:sSub>
                              <m:e>
                                <m:r>
                                  <m:t xml:space="preserve">]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y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i</m:t>
                                </m:r>
                              </m:sup>
                            </m:sSup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58" name=""/>
          <p:cNvSpPr/>
          <p:nvPr/>
        </p:nvSpPr>
        <p:spPr>
          <a:xfrm>
            <a:off x="5486400" y="617220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ield (“interest rate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647960" y="5257800"/>
            <a:ext cx="106668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1752480"/>
            <a:ext cx="7010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752480" y="1600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971800" y="1600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543800" y="1600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191120" y="1600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477120" y="1600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334120" y="1600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182880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676520" y="1828800"/>
            <a:ext cx="647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                 1                  2                i                i +1              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514600" y="99072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CF)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914400" y="10666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010280" y="99072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CF)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724280" y="99072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CF)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746280" y="2558880"/>
                <a:ext cx="3157560" cy="107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CF</m:t>
                        </m:r>
                        <m:f>
                          <m:fPr>
                            <m:type m:val="lin"/>
                          </m:fPr>
                          <m:num>
                            <m:sSub>
                              <m:e>
                                <m:r>
                                  <m:t xml:space="preserve">)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(</m:t>
                            </m:r>
                          </m:den>
                        </m:f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y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sSub>
                              <m:e/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sup>
                        </m:sSup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1603440" y="3809880"/>
            <a:ext cx="6573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CF)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cash flow at time i;  P= Price of Bond; Y=Yield to Matu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85800" y="487692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990720" y="3429000"/>
            <a:ext cx="7596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85800" y="556272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URATION =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2819520" y="5181480"/>
                <a:ext cx="815760" cy="120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/>
                    </m:nary>
                  </m:oMath>
                </a14:m>
              </a:p>
            </p:txBody>
          </p:sp>
        </mc:Choice>
        <mc:Fallback/>
      </mc:AlternateContent>
      <p:sp>
        <p:nvSpPr>
          <p:cNvPr id="79" name=""/>
          <p:cNvSpPr/>
          <p:nvPr/>
        </p:nvSpPr>
        <p:spPr>
          <a:xfrm>
            <a:off x="3581280" y="5715000"/>
            <a:ext cx="1219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3429000" y="5486400"/>
                <a:ext cx="5763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ω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1" name=""/>
          <p:cNvSpPr/>
          <p:nvPr/>
        </p:nvSpPr>
        <p:spPr>
          <a:xfrm>
            <a:off x="5410080" y="4952880"/>
            <a:ext cx="33530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duration concept tries to capture the “maturity” or the “average maturity” (How long does it take to get the money back, sort of ?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371600" y="1295280"/>
            <a:ext cx="6324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hat does it happen to the price of a bond if there is a change in interest rate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838080" y="2819520"/>
            <a:ext cx="43434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fine    D* = D/ ( 1 + 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conclude th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3505320" y="3352680"/>
                <a:ext cx="179064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ΔP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D</m:t>
                        </m:r>
                      </m:e>
                      <m:sup/>
                    </m:sSup>
                    <m:r>
                      <m:t xml:space="preserve">Δy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5" name=""/>
          <p:cNvSpPr/>
          <p:nvPr/>
        </p:nvSpPr>
        <p:spPr>
          <a:xfrm>
            <a:off x="746280" y="341280"/>
            <a:ext cx="8169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ing the Duration (D), it is easy to estimate the change in price of a bond, if we have a change in interest ra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us, if we know the duration (D), the price (P), and the change in interest rates  (        ), we can estimate the change in price using the following approxim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1523880" y="1371600"/>
                <a:ext cx="533520" cy="50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y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7" name=""/>
          <p:cNvSpPr/>
          <p:nvPr/>
        </p:nvSpPr>
        <p:spPr>
          <a:xfrm>
            <a:off x="685800" y="4572000"/>
            <a:ext cx="73152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approximation comes from expressing the price of a bond 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304920" y="4952880"/>
                <a:ext cx="190476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f>
                          <m:num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F</m:t>
                            </m:r>
                            <m:sSub>
                              <m:e>
                                <m:r>
                                  <m:t xml:space="preserve">)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[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y</m:t>
                            </m:r>
                            <m:sSup>
                              <m:e>
                                <m:r>
                                  <m:t xml:space="preserve">]</m:t>
                                </m:r>
                              </m:e>
                              <m:sup>
                                <m:sSub>
                                  <m:e/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sup>
                            </m:sSup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89" name=""/>
          <p:cNvSpPr/>
          <p:nvPr/>
        </p:nvSpPr>
        <p:spPr>
          <a:xfrm>
            <a:off x="2971800" y="5638680"/>
            <a:ext cx="556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then computing the  derivative of P with respect to y (that is,  dP/d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63244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tails on next sl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1600200" y="304920"/>
                <a:ext cx="5021280" cy="609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F</m:t>
                            </m:r>
                            <m:sSub>
                              <m:e>
                                <m:r>
                                  <m:t xml:space="preserve">)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[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y</m:t>
                            </m:r>
                            <m:sSup>
                              <m:e>
                                <m:r>
                                  <m:t xml:space="preserve">]</m:t>
                                </m:r>
                              </m:e>
                              <m:sup>
                                <m:r>
                                  <m:t xml:space="preserve">i</m:t>
                                </m:r>
                              </m:sup>
                            </m:sSup>
                            <m:r>
                              <m:t xml:space="preserve">P</m:t>
                            </m:r>
                          </m:den>
                        </m:f>
                      </m:e>
                      <m:e>
                        <m:r>
                          <m:t xml:space="preserve">D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iω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e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f>
                              <m:num>
                                <m:r>
                                  <m:t xml:space="preserve">(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CF</m:t>
                                </m:r>
                                <m:sSub>
                                  <m:e>
                                    <m:r>
                                      <m:t xml:space="preserve">)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[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y</m:t>
                                </m:r>
                                <m:sSup>
                                  <m:e>
                                    <m:r>
                                      <m:t xml:space="preserve">]</m:t>
                                    </m:r>
                                  </m:e>
                                  <m:sup>
                                    <m:r>
                                      <m:t xml:space="preserve">i</m:t>
                                    </m:r>
                                  </m:sup>
                                </m:sSup>
                              </m:den>
                            </m:f>
                          </m:e>
                        </m:nary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y</m:t>
                            </m:r>
                          </m:den>
                        </m:f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F</m:t>
                            </m:r>
                            <m:sSub>
                              <m:e>
                                <m:r>
                                  <m:t xml:space="preserve">)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y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</m:e>
                        </m:nary>
                      </m:e>
                      <m:e>
                        <m:f>
                          <m:num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y</m:t>
                            </m:r>
                          </m:den>
                        </m:f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f>
                              <m:num>
                                <m:r>
                                  <m:t xml:space="preserve">i</m:t>
                                </m:r>
                                <m:r>
                                  <m:t xml:space="preserve">(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CF</m:t>
                                </m:r>
                                <m:sSub>
                                  <m:e>
                                    <m:r>
                                      <m:t xml:space="preserve">)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[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y</m:t>
                                </m:r>
                                <m:sSup>
                                  <m:e>
                                    <m:r>
                                      <m:t xml:space="preserve">]</m:t>
                                    </m:r>
                                  </m:e>
                                  <m:sup>
                                    <m:r>
                                      <m:t xml:space="preserve">i</m:t>
                                    </m:r>
                                  </m:sup>
                                </m:sSup>
                              </m:den>
                            </m:f>
                          </m:e>
                        </m:nary>
                        <m:r>
                          <m:t xml:space="preserve">=</m:t>
                        </m:r>
                        <m:f>
                          <m:num>
                            <m:r>
                              <m:t xml:space="preserve">−</m:t>
                            </m:r>
                            <m:r>
                              <m:t xml:space="preserve">P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y</m:t>
                            </m:r>
                          </m:den>
                        </m:f>
                        <m:r>
                          <m:t xml:space="preserve">D</m:t>
                        </m:r>
                      </m:e>
                      <m:e>
                        <m:sSup>
                          <m:e>
                            <m:r>
                              <m:t xml:space="preserve">D</m:t>
                            </m:r>
                          </m:e>
                          <m:sup/>
                        </m:sSup>
                        <m:r>
                          <m:t xml:space="preserve">=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D</m:t>
                            </m:r>
                          </m:num>
                          <m:den>
                            <m:r>
                              <m:t xml:space="preserve">(</m:t>
                            </m:r>
                          </m:den>
                        </m:f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</m:e>
                      <m:e>
                        <m:f>
                          <m:num>
                            <m:r>
                              <m:t xml:space="preserve">ΔP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D</m:t>
                            </m:r>
                          </m:e>
                          <m:sup/>
                        </m:sSup>
                        <m:r>
                          <m:t xml:space="preserve">Δy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2" name=""/>
          <p:cNvSpPr/>
          <p:nvPr/>
        </p:nvSpPr>
        <p:spPr>
          <a:xfrm>
            <a:off x="914400" y="51055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952880" y="5105520"/>
            <a:ext cx="28958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181480" y="510552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, dP/dy= -P D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601992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*  = modified  du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762120" y="533520"/>
            <a:ext cx="4190760" cy="30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we include the second term in the Taylor’s expansion (d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/dy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, we can get a more accurate estimate of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summ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 = - P  D* 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y  +  (1/2)  P  (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y)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62120" y="38862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 = convex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2590920" y="3047760"/>
            <a:ext cx="198108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09480" y="5029200"/>
            <a:ext cx="2971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1828800" y="4495680"/>
                <a:ext cx="5029200" cy="100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y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f>
                          <m:num>
                            <m:r>
                              <m:t xml:space="preserve">[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F</m:t>
                            </m:r>
                            <m:sSub>
                              <m:e>
                                <m:r>
                                  <m:t xml:space="preserve">]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  <m:r>
                              <m:t xml:space="preserve">i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y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i</m:t>
                                </m:r>
                              </m:sup>
                            </m:sSup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2T13:23:57Z</dcterms:created>
  <dc:creator>VCHARLIN</dc:creator>
  <dc:description/>
  <dc:language>en-US</dc:language>
  <cp:lastModifiedBy>VCHARLIN</cp:lastModifiedBy>
  <dcterms:modified xsi:type="dcterms:W3CDTF">2010-09-30T21:25:53Z</dcterms:modified>
  <cp:revision>76</cp:revision>
  <dc:subject/>
  <dc:title>Slide 1</dc:title>
</cp:coreProperties>
</file>