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D5B3-85DF-436D-BB9C-4B632F8DC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2014-991D-4F41-B785-C646D8CB8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555-EAF0-4554-A0D6-45A611C30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9C6E-B234-43EF-9485-961D6E25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5805-5646-4EE7-AA2A-3A45D933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69C2-17FD-4D5F-AC64-77319712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D905-B8C9-45C4-A934-392B0B49A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CC35-3790-49FF-85EC-9E19B11A7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8010-0F9F-40EE-A441-F5CAD3E8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CCE7-1001-4C94-8F96-98FAD8FE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16C7-7000-4515-ABC4-AD6EC62A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5941-31DC-44AF-8A1F-948284DF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930A-C955-4556-BF9B-37A60B5A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136E-2C3C-4A4E-B785-7118AA7D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1CBD-FD2B-4EF1-A37A-AAB7727FD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143000"/>
            <a:ext cx="76201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uration and Convex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fault Ri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ting Agencies, Credit Ra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6083280" cy="2184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28749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4724280" cy="2208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520" y="3276720"/>
            <a:ext cx="4800600" cy="2243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638680" y="17524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38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15000" y="3581280"/>
            <a:ext cx="2514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RECT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63.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redit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82960" y="1701720"/>
            <a:ext cx="4902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What Is It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63640" y="2768760"/>
            <a:ext cx="8559720" cy="11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certainty in a counterparty’s ability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llingness to meet its contractual obli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44520" y="3911760"/>
            <a:ext cx="65786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TO THE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s This Guy Going To Pay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B6D53203-75F1-4DD7-A851-270BD90CC2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bt Ra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ublicly traded bonds are assigned a “credit risk rating” by a rating agency, such as Standard &amp; Poors (S&amp;P), Moody’s, Fitch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ds are categoriz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ment grade – top four rating categories (AAA, AA, A &amp; BB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k or high yield – everything below investment grade (BB, B, CCC, CC, D, Suspend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1219320"/>
            <a:ext cx="601992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ody’s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S&amp;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33526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57150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Concepts: (i) investment grade/ junk  (ii) Exp Loss vs Prob of Default  (iii) only capture credit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33640" y="804960"/>
            <a:ext cx="2919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vestment grade r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01440" y="804960"/>
            <a:ext cx="2946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peculative grade ra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21932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2560" y="1436760"/>
            <a:ext cx="372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others    Moody’s    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38600" y="1436760"/>
            <a:ext cx="366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others   Moody’s    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6920" y="1893960"/>
            <a:ext cx="77184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19920" y="1893960"/>
            <a:ext cx="65592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1752480"/>
            <a:ext cx="8763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432880" y="1893960"/>
            <a:ext cx="191016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st qual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remely st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ong pa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equate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7280" y="1893960"/>
            <a:ext cx="236412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kely to ful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ligations; ongo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risk obli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vuln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de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bankruptcy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ault, or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d shortco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495680" y="1219320"/>
            <a:ext cx="0" cy="487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72960" y="1893960"/>
            <a:ext cx="771840" cy="43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39640" y="1893960"/>
            <a:ext cx="655920" cy="36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7640" y="1208160"/>
            <a:ext cx="61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&amp;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49640" y="1208160"/>
            <a:ext cx="616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&amp;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62440" y="469800"/>
            <a:ext cx="458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ong-Term Senior Debt Rating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219320"/>
            <a:ext cx="861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27000" y="6337440"/>
            <a:ext cx="6299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: Moody’s; Cantor and Parker; Caouette, Altman and Narayan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ody’s Ideal Default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20840" y="2235240"/>
            <a:ext cx="657864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0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01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0.018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23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2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74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5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8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.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.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.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93560" y="1719360"/>
            <a:ext cx="421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 year (%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10 year (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4343400"/>
            <a:ext cx="7772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ecovery Rates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(Or Severity of Loss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01720" y="2158920"/>
            <a:ext cx="7035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% Recovered after the tragedy (Moody’s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440" y="3073320"/>
            <a:ext cx="8407440" cy="212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Secured Bank Loans        71.2 %     (St. Dev. = 21.1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Secured Public Bonds      63.5 %     (26.1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ior Unsecured Public Bonds  47.5 %     (26.3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ordinated Public Bonds         28.3 %     (20.1 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BF445E22-C4EE-4E5C-B046-EFB4F2E4903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Curves for Different Risk Class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 Premiums (Yield Sprea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1143000" y="1828800"/>
            <a:ext cx="6858000" cy="40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5"/>
          <p:cNvSpPr/>
          <p:nvPr/>
        </p:nvSpPr>
        <p:spPr>
          <a:xfrm>
            <a:off x="1905120" y="20858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1905120" y="51246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7"/>
          <p:cNvSpPr/>
          <p:nvPr/>
        </p:nvSpPr>
        <p:spPr>
          <a:xfrm rot="10800000">
            <a:off x="1294920" y="2761920"/>
            <a:ext cx="362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3733920" y="53071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 Left to 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9"/>
          <p:cNvSpPr/>
          <p:nvPr/>
        </p:nvSpPr>
        <p:spPr>
          <a:xfrm flipH="1">
            <a:off x="1828800" y="5124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H="1">
            <a:off x="1828800" y="3981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H="1">
            <a:off x="1828800" y="4743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H="1">
            <a:off x="1828800" y="4362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 flipH="1">
            <a:off x="1828800" y="3600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4"/>
          <p:cNvSpPr/>
          <p:nvPr/>
        </p:nvSpPr>
        <p:spPr>
          <a:xfrm flipH="1">
            <a:off x="1828800" y="3219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5"/>
          <p:cNvSpPr/>
          <p:nvPr/>
        </p:nvSpPr>
        <p:spPr>
          <a:xfrm flipH="1">
            <a:off x="1828800" y="2838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6"/>
          <p:cNvSpPr/>
          <p:nvPr/>
        </p:nvSpPr>
        <p:spPr>
          <a:xfrm flipH="1">
            <a:off x="1828800" y="2457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7"/>
          <p:cNvSpPr/>
          <p:nvPr/>
        </p:nvSpPr>
        <p:spPr>
          <a:xfrm>
            <a:off x="19051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8"/>
          <p:cNvSpPr/>
          <p:nvPr/>
        </p:nvSpPr>
        <p:spPr>
          <a:xfrm>
            <a:off x="31240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25146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0"/>
          <p:cNvSpPr/>
          <p:nvPr/>
        </p:nvSpPr>
        <p:spPr>
          <a:xfrm>
            <a:off x="37339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1"/>
          <p:cNvSpPr/>
          <p:nvPr/>
        </p:nvSpPr>
        <p:spPr>
          <a:xfrm>
            <a:off x="43434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2"/>
          <p:cNvSpPr/>
          <p:nvPr/>
        </p:nvSpPr>
        <p:spPr>
          <a:xfrm>
            <a:off x="49528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33"/>
          <p:cNvSpPr/>
          <p:nvPr/>
        </p:nvSpPr>
        <p:spPr>
          <a:xfrm>
            <a:off x="5562720" y="512928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4"/>
          <p:cNvSpPr/>
          <p:nvPr/>
        </p:nvSpPr>
        <p:spPr>
          <a:xfrm>
            <a:off x="1295280" y="1955880"/>
            <a:ext cx="533520" cy="32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5"/>
          <p:cNvSpPr/>
          <p:nvPr/>
        </p:nvSpPr>
        <p:spPr>
          <a:xfrm>
            <a:off x="1733400" y="5160960"/>
            <a:ext cx="61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dec" pos="804960"/>
                <a:tab algn="dec" pos="1433520"/>
                <a:tab algn="dec" pos="2155680"/>
                <a:tab algn="dec" pos="278460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3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6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y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5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7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10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42"/>
          <p:cNvSpPr/>
          <p:nvPr/>
        </p:nvSpPr>
        <p:spPr>
          <a:xfrm flipH="1">
            <a:off x="1828800" y="207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1722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4"/>
          <p:cNvSpPr/>
          <p:nvPr/>
        </p:nvSpPr>
        <p:spPr>
          <a:xfrm>
            <a:off x="67816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1890720" y="4365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46"/>
          <p:cNvSpPr/>
          <p:nvPr/>
        </p:nvSpPr>
        <p:spPr>
          <a:xfrm>
            <a:off x="1905120" y="4746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7"/>
          <p:cNvSpPr/>
          <p:nvPr/>
        </p:nvSpPr>
        <p:spPr>
          <a:xfrm>
            <a:off x="1890720" y="39844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48"/>
          <p:cNvSpPr/>
          <p:nvPr/>
        </p:nvSpPr>
        <p:spPr>
          <a:xfrm>
            <a:off x="1890720" y="3603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49"/>
          <p:cNvSpPr/>
          <p:nvPr/>
        </p:nvSpPr>
        <p:spPr>
          <a:xfrm>
            <a:off x="1890720" y="3222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1890720" y="282744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51"/>
          <p:cNvSpPr/>
          <p:nvPr/>
        </p:nvSpPr>
        <p:spPr>
          <a:xfrm>
            <a:off x="1890720" y="2446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1890720" y="2079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3"/>
          <p:cNvSpPr/>
          <p:nvPr/>
        </p:nvSpPr>
        <p:spPr>
          <a:xfrm>
            <a:off x="7315200" y="2079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4"/>
          <p:cNvSpPr/>
          <p:nvPr/>
        </p:nvSpPr>
        <p:spPr>
          <a:xfrm>
            <a:off x="7315200" y="51274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5"/>
          <p:cNvSpPr/>
          <p:nvPr/>
        </p:nvSpPr>
        <p:spPr>
          <a:xfrm>
            <a:off x="1938240" y="5540400"/>
            <a:ext cx="541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l" pos="533520"/>
                <a:tab algn="dec" pos="233676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BB Corporat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vernment 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7"/>
          <p:cNvSpPr/>
          <p:nvPr/>
        </p:nvSpPr>
        <p:spPr>
          <a:xfrm>
            <a:off x="2057400" y="5661000"/>
            <a:ext cx="4143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58"/>
          <p:cNvSpPr/>
          <p:nvPr/>
        </p:nvSpPr>
        <p:spPr>
          <a:xfrm>
            <a:off x="3776760" y="5661000"/>
            <a:ext cx="414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61"/>
          <p:cNvSpPr/>
          <p:nvPr/>
        </p:nvSpPr>
        <p:spPr>
          <a:xfrm>
            <a:off x="1905120" y="3327480"/>
            <a:ext cx="4800600" cy="7617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65"/>
          <p:cNvSpPr/>
          <p:nvPr/>
        </p:nvSpPr>
        <p:spPr>
          <a:xfrm rot="21270000">
            <a:off x="1828440" y="2933640"/>
            <a:ext cx="4800600" cy="76212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7"/>
          <p:cNvSpPr/>
          <p:nvPr/>
        </p:nvSpPr>
        <p:spPr>
          <a:xfrm>
            <a:off x="6248520" y="2819520"/>
            <a:ext cx="228600" cy="53316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68"/>
          <p:cNvSpPr/>
          <p:nvPr/>
        </p:nvSpPr>
        <p:spPr>
          <a:xfrm>
            <a:off x="6477120" y="281952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Yield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2B602AAF-FD7B-4AE9-A4B2-40529A5DE73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Curves for Different Risk Class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 Premiums (Yield Sprea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4"/>
          <p:cNvSpPr/>
          <p:nvPr/>
        </p:nvSpPr>
        <p:spPr>
          <a:xfrm>
            <a:off x="1143000" y="1828800"/>
            <a:ext cx="6858000" cy="40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"/>
          <p:cNvSpPr/>
          <p:nvPr/>
        </p:nvSpPr>
        <p:spPr>
          <a:xfrm>
            <a:off x="1905120" y="20858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6"/>
          <p:cNvSpPr/>
          <p:nvPr/>
        </p:nvSpPr>
        <p:spPr>
          <a:xfrm>
            <a:off x="1905120" y="51246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7"/>
          <p:cNvSpPr/>
          <p:nvPr/>
        </p:nvSpPr>
        <p:spPr>
          <a:xfrm rot="10800000">
            <a:off x="1294920" y="2761920"/>
            <a:ext cx="362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8"/>
          <p:cNvSpPr/>
          <p:nvPr/>
        </p:nvSpPr>
        <p:spPr>
          <a:xfrm>
            <a:off x="3733920" y="53071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 Left to 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9"/>
          <p:cNvSpPr/>
          <p:nvPr/>
        </p:nvSpPr>
        <p:spPr>
          <a:xfrm flipH="1">
            <a:off x="1828800" y="5124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0"/>
          <p:cNvSpPr/>
          <p:nvPr/>
        </p:nvSpPr>
        <p:spPr>
          <a:xfrm flipH="1">
            <a:off x="1828800" y="3981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1"/>
          <p:cNvSpPr/>
          <p:nvPr/>
        </p:nvSpPr>
        <p:spPr>
          <a:xfrm flipH="1">
            <a:off x="1828800" y="4743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2"/>
          <p:cNvSpPr/>
          <p:nvPr/>
        </p:nvSpPr>
        <p:spPr>
          <a:xfrm flipH="1">
            <a:off x="1828800" y="4362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3"/>
          <p:cNvSpPr/>
          <p:nvPr/>
        </p:nvSpPr>
        <p:spPr>
          <a:xfrm flipH="1">
            <a:off x="1828800" y="3600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4"/>
          <p:cNvSpPr/>
          <p:nvPr/>
        </p:nvSpPr>
        <p:spPr>
          <a:xfrm flipH="1">
            <a:off x="1828800" y="3219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5"/>
          <p:cNvSpPr/>
          <p:nvPr/>
        </p:nvSpPr>
        <p:spPr>
          <a:xfrm flipH="1">
            <a:off x="1828800" y="2838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6"/>
          <p:cNvSpPr/>
          <p:nvPr/>
        </p:nvSpPr>
        <p:spPr>
          <a:xfrm flipH="1">
            <a:off x="1828800" y="2457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7"/>
          <p:cNvSpPr/>
          <p:nvPr/>
        </p:nvSpPr>
        <p:spPr>
          <a:xfrm>
            <a:off x="19051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8"/>
          <p:cNvSpPr/>
          <p:nvPr/>
        </p:nvSpPr>
        <p:spPr>
          <a:xfrm>
            <a:off x="31240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9"/>
          <p:cNvSpPr/>
          <p:nvPr/>
        </p:nvSpPr>
        <p:spPr>
          <a:xfrm>
            <a:off x="25146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30"/>
          <p:cNvSpPr/>
          <p:nvPr/>
        </p:nvSpPr>
        <p:spPr>
          <a:xfrm>
            <a:off x="37339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31"/>
          <p:cNvSpPr/>
          <p:nvPr/>
        </p:nvSpPr>
        <p:spPr>
          <a:xfrm>
            <a:off x="43434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2"/>
          <p:cNvSpPr/>
          <p:nvPr/>
        </p:nvSpPr>
        <p:spPr>
          <a:xfrm>
            <a:off x="49528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3"/>
          <p:cNvSpPr/>
          <p:nvPr/>
        </p:nvSpPr>
        <p:spPr>
          <a:xfrm>
            <a:off x="5562720" y="512928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4"/>
          <p:cNvSpPr/>
          <p:nvPr/>
        </p:nvSpPr>
        <p:spPr>
          <a:xfrm>
            <a:off x="1295280" y="1955880"/>
            <a:ext cx="533520" cy="32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5"/>
          <p:cNvSpPr/>
          <p:nvPr/>
        </p:nvSpPr>
        <p:spPr>
          <a:xfrm>
            <a:off x="1733400" y="5160960"/>
            <a:ext cx="61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dec" pos="804960"/>
                <a:tab algn="dec" pos="1433520"/>
                <a:tab algn="dec" pos="2155680"/>
                <a:tab algn="dec" pos="278460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3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6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y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5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7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10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42"/>
          <p:cNvSpPr/>
          <p:nvPr/>
        </p:nvSpPr>
        <p:spPr>
          <a:xfrm flipH="1">
            <a:off x="1828800" y="207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43"/>
          <p:cNvSpPr/>
          <p:nvPr/>
        </p:nvSpPr>
        <p:spPr>
          <a:xfrm>
            <a:off x="61722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4"/>
          <p:cNvSpPr/>
          <p:nvPr/>
        </p:nvSpPr>
        <p:spPr>
          <a:xfrm>
            <a:off x="67816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5"/>
          <p:cNvSpPr/>
          <p:nvPr/>
        </p:nvSpPr>
        <p:spPr>
          <a:xfrm>
            <a:off x="1890720" y="4365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6"/>
          <p:cNvSpPr/>
          <p:nvPr/>
        </p:nvSpPr>
        <p:spPr>
          <a:xfrm>
            <a:off x="1905120" y="4746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7"/>
          <p:cNvSpPr/>
          <p:nvPr/>
        </p:nvSpPr>
        <p:spPr>
          <a:xfrm>
            <a:off x="1890720" y="39844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8"/>
          <p:cNvSpPr/>
          <p:nvPr/>
        </p:nvSpPr>
        <p:spPr>
          <a:xfrm>
            <a:off x="1890720" y="3603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9"/>
          <p:cNvSpPr/>
          <p:nvPr/>
        </p:nvSpPr>
        <p:spPr>
          <a:xfrm>
            <a:off x="1890720" y="3222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0"/>
          <p:cNvSpPr/>
          <p:nvPr/>
        </p:nvSpPr>
        <p:spPr>
          <a:xfrm>
            <a:off x="1890720" y="282744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1"/>
          <p:cNvSpPr/>
          <p:nvPr/>
        </p:nvSpPr>
        <p:spPr>
          <a:xfrm>
            <a:off x="1890720" y="2446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2"/>
          <p:cNvSpPr/>
          <p:nvPr/>
        </p:nvSpPr>
        <p:spPr>
          <a:xfrm>
            <a:off x="1890720" y="2079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3"/>
          <p:cNvSpPr/>
          <p:nvPr/>
        </p:nvSpPr>
        <p:spPr>
          <a:xfrm>
            <a:off x="7315200" y="2079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4"/>
          <p:cNvSpPr/>
          <p:nvPr/>
        </p:nvSpPr>
        <p:spPr>
          <a:xfrm>
            <a:off x="7315200" y="51274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61"/>
          <p:cNvSpPr/>
          <p:nvPr/>
        </p:nvSpPr>
        <p:spPr>
          <a:xfrm>
            <a:off x="1905120" y="3327480"/>
            <a:ext cx="4800600" cy="7617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65"/>
          <p:cNvSpPr/>
          <p:nvPr/>
        </p:nvSpPr>
        <p:spPr>
          <a:xfrm rot="21270000">
            <a:off x="1837800" y="3341520"/>
            <a:ext cx="4873680" cy="457200"/>
          </a:xfrm>
          <a:custGeom>
            <a:avLst/>
            <a:gdLst>
              <a:gd name="textAreaLeft" fmla="*/ 0 w 4873680"/>
              <a:gd name="textAreaRight" fmla="*/ 4874040 w 487368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5"/>
          <p:cNvSpPr/>
          <p:nvPr/>
        </p:nvSpPr>
        <p:spPr>
          <a:xfrm rot="21270000">
            <a:off x="1833480" y="2406240"/>
            <a:ext cx="3952800" cy="1100160"/>
          </a:xfrm>
          <a:custGeom>
            <a:avLst/>
            <a:gdLst>
              <a:gd name="textAreaLeft" fmla="*/ 0 w 3952800"/>
              <a:gd name="textAreaRight" fmla="*/ 3953160 w 3952800"/>
              <a:gd name="textAreaTop" fmla="*/ 0 h 1100160"/>
              <a:gd name="textAreaBottom" fmla="*/ 1100520 h 11001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632448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 Bonds;  AAA Corporate;  Junk (B)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62120" y="3733920"/>
            <a:ext cx="289548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819520" y="3352320"/>
            <a:ext cx="243828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4038120" y="2743200"/>
            <a:ext cx="381240" cy="358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2FCB64E2-C9D0-45BA-835F-44BEEDF47CF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a bond is a function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to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o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’s required rate of return (it should reflect the risk associated with the bond issu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urchase Price or Market Price of a bond is simply the present value of the cash flows, discounted at the appropriat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609480" y="1143000"/>
                <a:ext cx="663732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820800" y="3200400"/>
                <a:ext cx="37195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]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1371600" y="2666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5105520"/>
            <a:ext cx="586764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(discount rate)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government (risk free) securities;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Spread, for others (the lower the rating, the higher the Spre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Valuation Formul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838080" y="1596960"/>
                <a:ext cx="7696440" cy="31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n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alue</m:t>
                            </m:r>
                          </m:sub>
                        </m:sSub>
                      </m:e>
                      <m:e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609480" y="1143000"/>
                <a:ext cx="663732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762120" y="2895480"/>
            <a:ext cx="7619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R that satisfies the above equation (PRICE, PAR, M, and C are all known) is called YTM [Yield to maturit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371600" y="4038480"/>
                <a:ext cx="368316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]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5486400" y="6172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eld (“interest rate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647960" y="5257800"/>
            <a:ext cx="1066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i                i +1              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990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066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10280" y="990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24280" y="990720"/>
            <a:ext cx="1143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46280" y="2558880"/>
                <a:ext cx="315756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F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>
                              <m:e/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603440" y="3809880"/>
            <a:ext cx="6573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F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ash flow at time i;  P= Price of Bond; Y=Yield to Mat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48769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990720" y="3429000"/>
            <a:ext cx="759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5562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RATION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819520" y="5181480"/>
                <a:ext cx="81576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58128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429000" y="5486400"/>
                <a:ext cx="576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ω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5410080" y="4952880"/>
            <a:ext cx="3353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uration concept tries to capture the “maturity” or the “average maturity” (How long does it take to get the money back, sort of 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129528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es it happen to the price of a bond if there is a change in interest ra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38080" y="2819520"/>
            <a:ext cx="4343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   D* = D/ ( 1 +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conclud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505320" y="3352680"/>
                <a:ext cx="179064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D</m:t>
                        </m:r>
                      </m:e>
                      <m:sup/>
                    </m:sSup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746280" y="341280"/>
            <a:ext cx="816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the Duration (D), it is easy to estimate the change in price of a bond, if we have a change in interest ra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if we know the duration (D), the price (P), and the change in interest rates  (        ), we can estimate the change in price using the following approxi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523880" y="1371600"/>
                <a:ext cx="5335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685800" y="4572000"/>
            <a:ext cx="7315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pproximation comes from expressing the price of a bon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4920" y="4952880"/>
                <a:ext cx="190476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sSub>
                                  <m:e/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9" name=""/>
          <p:cNvSpPr/>
          <p:nvPr/>
        </p:nvSpPr>
        <p:spPr>
          <a:xfrm>
            <a:off x="2971800" y="56386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then computing the  derivative of P with respect to y (that is,  dP/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6324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ails on next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1600200" y="304920"/>
                <a:ext cx="5021280" cy="609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[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P</m:t>
                            </m:r>
                          </m:den>
                        </m:f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iω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F</m:t>
                                </m:r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)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F</m:t>
                                </m:r>
                                <m:sSub>
                                  <m:e>
                                    <m:r>
                                      <m:t xml:space="preserve">)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[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y</m:t>
                                </m:r>
                                <m:sSup>
                                  <m:e>
                                    <m:r>
                                      <m:t xml:space="preserve">]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D</m:t>
                        </m:r>
                      </m:e>
                      <m:e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  <m:e>
                        <m:f>
                          <m:num>
                            <m:r>
                              <m:t xml:space="preserve">ΔP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/>
                        </m:sSup>
                        <m:r>
                          <m:t xml:space="preserve">Δ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914400" y="51055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510552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5105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dP/dy= -P D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60199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*  = modified 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62120" y="533520"/>
            <a:ext cx="419076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include the second term in the Taylor’s expansion (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/d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e can get a more accurate estimate of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= - P  D* 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  +  (1/2)  P 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3886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conv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2590920" y="3047760"/>
            <a:ext cx="198108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50292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828800" y="4495680"/>
                <a:ext cx="50292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F</m:t>
                            </m:r>
                            <m:sSub>
                              <m:e>
                                <m:r>
                                  <m:t xml:space="preserve">]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13:23:57Z</dcterms:created>
  <dc:creator>VCHARLIN</dc:creator>
  <dc:description/>
  <dc:language>en-US</dc:language>
  <cp:lastModifiedBy>VCHARLIN</cp:lastModifiedBy>
  <dcterms:modified xsi:type="dcterms:W3CDTF">2010-09-30T21:25:53Z</dcterms:modified>
  <cp:revision>76</cp:revision>
  <dc:subject/>
  <dc:title>Slide 1</dc:title>
</cp:coreProperties>
</file>