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DA63-100A-4AE0-B4D8-A8C462EF1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093813-D428-4CCB-9B92-D08F69F7F8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257069-1E95-459A-BD3C-D1B1A5B7E2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C5A42F-6FBD-487F-9E27-0AA2522E58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6A3089-11F9-4CE9-9079-8C3252CDF4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70AE80-13B9-4DAD-9BCA-F5B9DADF9C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026FA5-9538-48E1-B8CD-B3FB30D445C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19A968-2E6F-4103-A786-549D74C447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0AA0FC-8C77-4707-8895-40C916C3E3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DA9B-1D97-489E-B29E-8B219DBA6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DE43F7-95BE-4E26-AE2D-1249AC9C1F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ACC19E-301E-40B4-838B-60FD3B7514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DC0-604E-44A4-9FA9-6AEFA9A8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661-FC6C-4DE5-84CE-160EF3F2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12E-7654-4A67-8B8C-5C5D8DD9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935-BDFC-41D3-ACEE-353582C4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709-BC34-4D2B-889D-FDA34FBA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B18-EBE8-4097-83AD-7B7E24CC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0F2-6991-438D-A5D9-5AC0AB56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B23-F34E-42E4-BACA-E9252C0D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DD3-711D-401C-A278-DDF73B91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614-A740-4057-A95D-4569BCF5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DED-9C4B-4A92-9675-8FAA98E6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C20-B256-4CD9-ADD9-EB96E6EE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890E-86AD-46B9-BB98-7B02C9E52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691673C7-0CDC-4AE1-937C-83ADE5234C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bond is a 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’s required rate of return (it should reflect the risk associated with the bond iss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Price or Market Price of a bond is simply the present value of the cash flows, discounted at the appropri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 the cash price of a bond we discount each cash flow at the appropriate zero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example, the theoretical price of a two-year bond providing a 6% coupon semiannuall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714680" y="4572000"/>
                <a:ext cx="50907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8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8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446D-7BA8-4AF4-874A-37291B9732D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Y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d yield is the discount rate that makes the present value of the cash flows on the bond equal to the market price of the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at the market price of the bond in our example equals its theoretical price of 98.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d yield is given by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0676 or 6.76% with cont. co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990720" y="5029200"/>
                <a:ext cx="708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C07C-AFFD-4092-81E8-6FFCE842776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Data (From H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2540160" y="137160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540160" y="13716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540160" y="265752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540160" y="2657520"/>
            <a:ext cx="45846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2540160" y="537372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540160" y="5373720"/>
            <a:ext cx="45846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933640" y="151272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827520" y="151272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870440" y="151272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000840" y="151272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2737800" y="185112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3782520" y="185112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4802040" y="185112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5997240" y="185112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74644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3830760" y="218916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77684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581328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2982960" y="28670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3963960" y="2867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5157360" y="28670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6016680" y="2867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2982960" y="32749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3963960" y="3274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5157360" y="32749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6016680" y="3274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2982960" y="36831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3963960" y="36831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5157360" y="36831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6016680" y="36831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2982960" y="40910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3963960" y="4091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5157360" y="40910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6016680" y="4091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>
            <a:off x="2982960" y="44989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3963960" y="4498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0"/>
          <p:cNvSpPr/>
          <p:nvPr/>
        </p:nvSpPr>
        <p:spPr>
          <a:xfrm>
            <a:off x="5082840" y="449892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1"/>
          <p:cNvSpPr/>
          <p:nvPr/>
        </p:nvSpPr>
        <p:spPr>
          <a:xfrm>
            <a:off x="5945040" y="449892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2982960" y="4908600"/>
            <a:ext cx="63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3963960" y="4908600"/>
            <a:ext cx="70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5083200" y="4908600"/>
            <a:ext cx="35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6016680" y="4908600"/>
            <a:ext cx="70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8E72-9168-4B2A-AADE-963D5959CF8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534996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  How to Construct The YIELD  CURVE (OR How to Determine the ZERO Rates) Using the so-called BOOTSTRAP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99DB-FF16-4795-9E68-1332B17D61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4267080"/>
            <a:ext cx="7162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/ 97.5   =   0.256                        0.256 x 4 =  .1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4 log (1 +  .1026/4 ) =  .10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Zero rate for 3-months is 10.127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742840" y="2133720"/>
            <a:ext cx="1523880" cy="21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B347-86FC-4DCF-8292-645DFA72B82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267080"/>
            <a:ext cx="7162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/ 94.9   =   0.5374                        0.5374 x 2 =  .107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2 log (1 +  .10748/2 ) =  .104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Zero rate for 6-months is 10.748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743200" y="2514600"/>
            <a:ext cx="1447920" cy="17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1089-25E8-4D4F-97FE-F4A2EF07BBC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4267080"/>
            <a:ext cx="71629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 90   =   0.1111                        0.1111 x 1 =  .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1 log (1 +  .1111/  1 ) =  .10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one-yer Zero rate is 10.53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743200" y="2895480"/>
            <a:ext cx="14479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1.5 year rate we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10681 or 10.68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914400" y="1676520"/>
                <a:ext cx="7385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469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53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7280-9A62-4C9C-A778-5B97DC5C235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2 year rate we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.80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609480" y="1905120"/>
                <a:ext cx="80773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469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36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681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1ACE-A545-4A7D-84DA-47E1166FA02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YIELD 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3520" y="1736640"/>
            <a:ext cx="7696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BC47EAC5-D2AB-4921-9045-5E3FFDB582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5"/>
          <p:cNvSpPr/>
          <p:nvPr/>
        </p:nvSpPr>
        <p:spPr>
          <a:xfrm>
            <a:off x="1938240" y="55404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l" pos="533520"/>
                <a:tab algn="dec" pos="233676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BB Corporat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ment 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7"/>
          <p:cNvSpPr/>
          <p:nvPr/>
        </p:nvSpPr>
        <p:spPr>
          <a:xfrm>
            <a:off x="2057400" y="5661000"/>
            <a:ext cx="414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8"/>
          <p:cNvSpPr/>
          <p:nvPr/>
        </p:nvSpPr>
        <p:spPr>
          <a:xfrm>
            <a:off x="3776760" y="5661000"/>
            <a:ext cx="414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65"/>
          <p:cNvSpPr/>
          <p:nvPr/>
        </p:nvSpPr>
        <p:spPr>
          <a:xfrm rot="21270000">
            <a:off x="1828440" y="2933640"/>
            <a:ext cx="4800600" cy="7621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7"/>
          <p:cNvSpPr/>
          <p:nvPr/>
        </p:nvSpPr>
        <p:spPr>
          <a:xfrm>
            <a:off x="6248520" y="28195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8"/>
          <p:cNvSpPr/>
          <p:nvPr/>
        </p:nvSpPr>
        <p:spPr>
          <a:xfrm>
            <a:off x="6477120" y="28195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Yiel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+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276720"/>
            <a:ext cx="63244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nd with a notional amount (or par amount or PAR) equal to $ 100 pays a 7% interest per year; and matures in 5 years.  How much would you pay for the b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appropriate discount rate is 9% (return for investments having the same risk), then we have, C= 7 and PAR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7/1.09 +  7/1.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[7 + 100] / 1.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 92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33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 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57200" y="304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ifferent approach to build the Yiel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3520" y="1523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ry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+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666880"/>
            <a:ext cx="63244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nd with a notional amount (or par amount or PAR) equal to $ 100 pays a 7% interest per year; and matures in 5 years.  How much would you pay for the b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happen if (for some reason to be explained later) the correct discount ra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33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 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Valuation Formu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38080" y="1596960"/>
                <a:ext cx="7696440" cy="31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09720" y="304812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380880"/>
            <a:ext cx="7924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bonds are issued with a coupon such that the price would be par (or close to par);  eventually, interest rates change, inflation levels change, etc. therefore, the price of the bond might go up or d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you know the price of the bond (somebody is offering you the bond we mentioned for a specific price).  Assume, Bond_Value =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valuation equation to determine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87692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R that satisfies the above equation (PRICE, PAR, M, and C are all known) is called YTM [Yield to maturi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evious example, if the PRICE = 93.33, then YTM = 8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279E43CD-A898-4CB6-80D3-F44A577CA1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792324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he coupon rate and the bond’s yield-to-maturity (YTM) determines if the bond will sell at a premium,  at a discount, or at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55640" y="3429000"/>
          <a:ext cx="7777080" cy="277956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d Sells at 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&lt;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&lt;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=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=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&gt;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&gt;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Bond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523880"/>
            <a:ext cx="792468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o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ward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Zero Coupon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inuously Compounded Rates (Equivalence, Discrete VS Cont. Compou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ero rate (or spot rate), for matur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ate of interest earned on an investment that provides a payoff only 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A252-1A10-43C8-8573-B45122F17C7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219320" y="1857240"/>
          <a:ext cx="6400800" cy="41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57240"/>
                    <a:ext cx="640080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DE65-CEB2-4337-9DCE-CF04C051364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5T17:04:01Z</dcterms:modified>
  <cp:revision>38</cp:revision>
  <dc:subject/>
  <dc:title>Slide 1</dc:title>
</cp:coreProperties>
</file>