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0F13-ECED-4FC3-92E7-C377EBA9D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D9A596-724A-4CA6-AC1F-F5F08B5F3F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8CBB8A-6D06-4AB5-AEED-4F13012A48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1A6330-C05C-47BD-BA9E-F1F8E92E85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A478E2-2CD1-4120-BB4A-3A15CBB455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D4FE17-9168-4F92-A2B7-D9EC53B307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510F7D-3FE2-4488-9AB8-C58EE953B3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B782128-0135-4DEA-85AB-8335834A77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38EE78-99E8-4E72-B392-D5394C4447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3A31-CA0F-4E15-B3F0-8A3E35105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E134CB-11B6-4825-99C8-8C2DB9BDA9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8458E0-F84F-4E7D-9476-DD01C171E7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FD2-B2D1-467A-A9CA-FDE0252A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7A0-84D2-40E5-A27D-A8DC67EE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ECAD-A21B-4B13-961B-4C11F7F0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1FF-5DEE-4319-8B85-24A6632E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CC9-5C31-48F4-94CB-EACCDB66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A80-1735-4336-BC7C-C2080818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A85-3EFE-44DD-A19F-A4591C0C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B9F-75BA-4B1C-9A79-A3586F9A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64B-6F4E-405A-A97F-1D5F2B2E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6CD-5726-4C21-A309-24FFD869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F9A-1A24-4C1C-A48C-A64BDD0E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B5E-6A9F-4027-8273-623F82F9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B303-11CD-4C6B-9B09-43B1C7FA3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18199A6D-3780-404F-93DA-2EE2BA068E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a bond is a 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to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’s required rate of return (it should reflect the risk associated with the bond issu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Price or Market Price of a bond is simply the present value of the cash flows, discounted at the appropriat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lculate the cash price of a bond we discount each cash flow at the appropriate zero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example, the theoretical price of a two-year bond providing a 6% coupon semiannuall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714680" y="4572000"/>
                <a:ext cx="50907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8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8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D535-9A3B-4ED6-A1D3-C5EA7EF1EB5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Y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nd yield is the discount rate that makes the present value of the cash flows on the bond equal to the market price of the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at the market price of the bond in our example equals its theoretical price of 98.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nd yield is given by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0676 or 6.76% with cont. co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990720" y="5029200"/>
                <a:ext cx="708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58FB-77CC-41A9-85F7-71664005BD2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Data (From H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2540160" y="137160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540160" y="13716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540160" y="265752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540160" y="2657520"/>
            <a:ext cx="458460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2540160" y="537372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540160" y="5373720"/>
            <a:ext cx="458460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933640" y="151272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827520" y="151272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870440" y="151272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000840" y="151272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2737800" y="185112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3782520" y="185112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4802040" y="185112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5997240" y="185112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274644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3830760" y="218916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77684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581328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2982960" y="28670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3963960" y="2867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5157360" y="28670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6016680" y="2867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2982960" y="32749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3963960" y="3274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5157360" y="32749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6016680" y="3274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2982960" y="36831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3963960" y="36831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5157360" y="36831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3"/>
          <p:cNvSpPr/>
          <p:nvPr/>
        </p:nvSpPr>
        <p:spPr>
          <a:xfrm>
            <a:off x="6016680" y="36831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2982960" y="40910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3963960" y="4091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5157360" y="40910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6016680" y="4091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8"/>
          <p:cNvSpPr/>
          <p:nvPr/>
        </p:nvSpPr>
        <p:spPr>
          <a:xfrm>
            <a:off x="2982960" y="44989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>
            <a:off x="3963960" y="4498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0"/>
          <p:cNvSpPr/>
          <p:nvPr/>
        </p:nvSpPr>
        <p:spPr>
          <a:xfrm>
            <a:off x="5082840" y="449892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1"/>
          <p:cNvSpPr/>
          <p:nvPr/>
        </p:nvSpPr>
        <p:spPr>
          <a:xfrm>
            <a:off x="5945040" y="449892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2982960" y="4908600"/>
            <a:ext cx="635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3963960" y="4908600"/>
            <a:ext cx="70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5083200" y="4908600"/>
            <a:ext cx="358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6016680" y="4908600"/>
            <a:ext cx="70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A16F-6AB4-4748-81AD-40ABE16A467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534996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  How to Construct The YIELD  CURVE (OR How to Determine the ZERO Rates) Using the so-called BOOTSTRAP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E5AB-DCA0-41D2-9E8D-043A1807E4A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4267080"/>
            <a:ext cx="7162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/ 97.5   =   0.256                        0.256 x 4 =  .1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4 log (1 +  .1026/4 ) =  .10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Zero rate for 3-months is 10.127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742840" y="2133720"/>
            <a:ext cx="1523880" cy="2133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01C0-A483-4A9C-94CA-9BCB69F3832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4267080"/>
            <a:ext cx="7162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/ 94.9   =   0.5374                        0.5374 x 2 =  .107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2 log (1 +  .10748/2 ) =  .104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Zero rate for 6-months is 10.748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743200" y="2514600"/>
            <a:ext cx="1447920" cy="17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407A-C075-40E5-96CC-380E7622D1E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4267080"/>
            <a:ext cx="71629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 90   =   0.1111                        0.1111 x 1 =  .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1 log (1 +  .1111/  1 ) =  .10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one-yer Zero rate is 10.53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743200" y="2895480"/>
            <a:ext cx="14479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1.5 year rate we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10681 or 10.68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914400" y="1676520"/>
                <a:ext cx="7385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469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53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5F4F-34DF-4280-9F93-6AC4D00D974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2 year rate we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.80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609480" y="1905120"/>
                <a:ext cx="80773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469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36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681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94BA-0ECB-475E-908E-6170A6A0D5C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YIELD 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3520" y="1736640"/>
            <a:ext cx="7696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6494BE02-FF51-4B01-ADB1-E00FDD9BF0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5"/>
          <p:cNvSpPr/>
          <p:nvPr/>
        </p:nvSpPr>
        <p:spPr>
          <a:xfrm>
            <a:off x="1938240" y="554040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l" pos="533520"/>
                <a:tab algn="dec" pos="233676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BB Corporat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ment 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7"/>
          <p:cNvSpPr/>
          <p:nvPr/>
        </p:nvSpPr>
        <p:spPr>
          <a:xfrm>
            <a:off x="2057400" y="5661000"/>
            <a:ext cx="414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8"/>
          <p:cNvSpPr/>
          <p:nvPr/>
        </p:nvSpPr>
        <p:spPr>
          <a:xfrm>
            <a:off x="3776760" y="5661000"/>
            <a:ext cx="414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65"/>
          <p:cNvSpPr/>
          <p:nvPr/>
        </p:nvSpPr>
        <p:spPr>
          <a:xfrm rot="21270000">
            <a:off x="1828440" y="2933640"/>
            <a:ext cx="4800600" cy="76212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67"/>
          <p:cNvSpPr/>
          <p:nvPr/>
        </p:nvSpPr>
        <p:spPr>
          <a:xfrm>
            <a:off x="6248520" y="28195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8"/>
          <p:cNvSpPr/>
          <p:nvPr/>
        </p:nvSpPr>
        <p:spPr>
          <a:xfrm>
            <a:off x="6477120" y="281952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Yiel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+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276720"/>
            <a:ext cx="63244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nd with a notional amount (or par amount or PAR) equal to $ 100 pays a 7% interest per year; and matures in 5 years.  How much would you pay for the bo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appropriate discount rate is 9% (return for investments having the same risk), then we have, C= 7 and PAR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7/1.09 +  7/1.0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[7 + 100] / 1.0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 92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33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 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57200" y="3049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ifferent approach to build the Yield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3520" y="1523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ry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+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666880"/>
            <a:ext cx="63244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nd with a notional amount (or par amount or PAR) equal to $ 100 pays a 7% interest per year; and matures in 5 years.  How much would you pay for the bo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happen if (for some reason to be explained later) the correct discount rat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533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 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 Valuation Formu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38080" y="1596960"/>
                <a:ext cx="7696440" cy="31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lue</m:t>
                            </m:r>
                          </m:sub>
                        </m:sSub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09720" y="304812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380880"/>
            <a:ext cx="79246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bonds are issued with a coupon such that the price would be par (or close to par);  eventually, interest rates change, inflation levels change, etc. therefore, the price of the bond might go up or d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w you know the price of the bond (somebody is offering you the bond we mentioned for a specific price).  Assume, Bond_Value =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olve the valuation equation to determine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876920"/>
            <a:ext cx="7162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R that satisfies the above equation (PRICE, PAR, M, and C are all known) is called YTM [Yield to maturit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evious example, if the PRICE = 93.33, then YTM = 8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27D3E9C4-FA8E-4AAE-992D-39ED1A116E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792324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the coupon rate and the bond’s yield-to-maturity (YTM) determines if the bond will sell at a premium,  at a discount, or at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55640" y="3429000"/>
          <a:ext cx="7777080" cy="277956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d Sells at 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&lt;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&lt;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=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=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&gt;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&gt;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Affecting Bond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1523880"/>
            <a:ext cx="792468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o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ward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Zero Coupon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inuously Compounded Rates (Equivalence, Discrete VS Cont. Compou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ero rate (or spot rate), for matur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ate of interest earned on an investment that provides a payoff only at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7E17-11FA-4F8A-9F1E-28223A6FB6F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219320" y="1857240"/>
          <a:ext cx="6400800" cy="41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57240"/>
                    <a:ext cx="640080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88CB-368C-4743-985A-6EE646F5CA3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2:29:25Z</dcterms:created>
  <dc:creator>VCHARLIN</dc:creator>
  <dc:description/>
  <dc:language>en-US</dc:language>
  <cp:lastModifiedBy>VCHARLIN</cp:lastModifiedBy>
  <dcterms:modified xsi:type="dcterms:W3CDTF">2010-09-25T17:04:01Z</dcterms:modified>
  <cp:revision>38</cp:revision>
  <dc:subject/>
  <dc:title>Slide 1</dc:title>
</cp:coreProperties>
</file>