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C2D-A99E-47CC-BBB9-2D19DE5A7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DAA7440-2F1D-4FB5-A12B-C6CF50D3F6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DE71025-4BCD-4F5A-9F14-0F130C5648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2C46F9-0830-46CA-A44E-33BB730378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5257C2-8F65-46F9-B360-3E49616630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7817097-2AC5-4976-B2FF-A518D57881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D4DEFA-9EA9-49E7-8285-5E0DADC423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22304E-6E00-4696-BF3E-64612481F6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277BBCC-7E34-423C-9E19-7F9F23D609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A98-274D-477C-BD72-092C97AD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CE0524-20F0-46E3-850B-5F4ADF3C92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4BFEB4-A170-44B2-8C10-F6C806FEE2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87D-331C-4B50-8566-7522D1C7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80C-4484-4BDB-99FB-39E5D458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7DD3-E4E5-4826-BB14-120D4EA0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B5C-6C06-4F39-83E7-28F15A36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B95-5B09-4BE1-BFC7-EA3211C7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DB4-F77A-450F-A6BD-75F99DD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C79B-FA1D-40C8-A646-A26C938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449-0943-47BD-B457-CC9BCD7C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7F8-DA4D-4BD6-A131-ADD90A6A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E0BF-2D60-4455-9726-84368136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F17-1ADF-4775-8FE3-47E7FA69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D8E-626A-41FE-988F-B6DB104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8EC7-2BC2-4C87-8290-EA2E9500B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305D4A8E-BFF4-4E58-98BE-2C753BE534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the cash price of a bond we discount each cash flow at the appropriate zero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theoretical price of a two-year bond providing a 6% coupon semiannuall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714680" y="4572000"/>
                <a:ext cx="5090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8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8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39C4-558E-4A37-BAA7-2E167F20C5C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the discount rate that makes the present value of the cash flows on the bond equal to the market price of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the market price of the bond in our example equals its theoretical price of 98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given by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676 or 6.76% with cont. co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990720" y="5029200"/>
                <a:ext cx="708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BD6A-355F-4AFD-9E48-A9B401DAE89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(From H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540160" y="137160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40160" y="13716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40160" y="26575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40160" y="26575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40160" y="53737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40160" y="53737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336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27520" y="151272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70440" y="151272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0008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2737800" y="18511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82520" y="185112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802040" y="185112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997240" y="1851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4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30760" y="21891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768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81328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982960" y="2867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6396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360" y="2867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668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982960" y="3274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96396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360" y="3274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668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982960" y="36831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6396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157360" y="3683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601668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982960" y="4091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396396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57360" y="409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601668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982960" y="4498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963960" y="4498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082840" y="44989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945040" y="449892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982960" y="4908600"/>
            <a:ext cx="63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963960" y="4908600"/>
            <a:ext cx="70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5083200" y="4908600"/>
            <a:ext cx="35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16680" y="4908600"/>
            <a:ext cx="70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A477-9DF3-4D30-B88C-705888E0865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349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How to Construct The YIELD  CURVE (OR How to Determine the ZERO Rates) Using the so-called 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C08B-8CE0-425B-A239-9EB7A4A63A5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/ 97.5   =   0.256                        0.256 x 4 =  .1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 log (1 +  .1026/4 ) =  .10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3-months is 10.127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42840" y="2133720"/>
            <a:ext cx="1523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B202-B860-4BB3-AB82-3307B16E6D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/ 94.9   =   0.5374                        0.5374 x 2 =  .10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2 log (1 +  .10748/2 ) =  .1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6-months is 10.748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2514600"/>
            <a:ext cx="1447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236-E19E-4212-ACEE-679DCF1CB14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267080"/>
            <a:ext cx="7162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 90   =   0.1111                        0.1111 x 1 =  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1 log (1 +  .1111/  1 ) =  .10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ne-yer Zero rate is 10.53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743200" y="2895480"/>
            <a:ext cx="14479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1.5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10681 or 10.6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914400" y="1676520"/>
                <a:ext cx="7385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46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3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442-0127-4603-8D33-0F7C0E8E9F5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2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.80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905120"/>
                <a:ext cx="8077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69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81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B138-98D3-439A-BE82-AA635378E0D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IELD 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736640"/>
            <a:ext cx="769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8E2BFA0C-447F-4A7F-990D-F993C810BB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767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appropriate discount rate is 9% (return for investments having the same risk), then we have, C= 7 and PAR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7/1.09 +  7/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[7 + 100] / 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 9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pproach to build the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ry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66880"/>
            <a:ext cx="6324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ppen if (for some reason to be explained later) the correct discount r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9720" y="304812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38088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bonds are issued with a coupon such that the price would be par (or close to par);  eventually, interest rates change, inflation levels change, etc. therefore, the price of the bond might go up or d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you know the price of the bond (somebody is offering you the bond we mentioned for a specific price).  Assume, Bond_Value =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valuation equation to determi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7692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example, if the PRICE = 93.33, then YTM = 8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343F67D0-AEDD-4B7A-BAD6-63F03C280D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9232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coupon rate and the bond’s yield-to-maturity (YTM) determines if the bond will sell at a premium,  at a discount, or at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3429000"/>
          <a:ext cx="7777080" cy="27795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 Sells at 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l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l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=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=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g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g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Bon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523880"/>
            <a:ext cx="792468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war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ero 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ously Compounded Rates (Equivalence, Discrete VS Cont. Compou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rate (or spot rate), for matur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interest earned on an investment that provides a payoff only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67CF-DA63-4A58-B032-500EED987F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219320" y="1857240"/>
          <a:ext cx="640080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57240"/>
                    <a:ext cx="640080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24E3-4A82-4229-99CE-F84D7D0DE5B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5T17:04:01Z</dcterms:modified>
  <cp:revision>38</cp:revision>
  <dc:subject/>
  <dc:title>Slide 1</dc:title>
</cp:coreProperties>
</file>