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8BE1-E11A-4E87-9FA2-04D3D61D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C91C6A-A138-4B46-B52A-41922447C4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64DBDD-BDC5-457C-9325-D86EF82550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D2A372-45C7-435F-826F-56B5366252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E1F98A-27E5-4052-94E9-7AFCDC05BD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53570D-2298-47AC-A97F-DBDA0A3C7F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735E5B-7F4F-48B7-8290-223F28CDEC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D7AF68-50BF-46E1-97FA-CD4449F1A0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817BF0-1C82-4FDB-B443-1D12F038A6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7408-C246-489A-A602-4F640827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C64919-A624-4A41-91E5-DD1335C18E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5C95B6-2E35-4FC7-A03A-3A4A367892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EE5-3046-44A4-B2B7-0E78F188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5F0-A1AD-412D-9901-6FFAB1D3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31A-F600-440D-8A0C-0F7381EA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7C8-F7A8-4146-A55B-9CD13804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A33-D29C-49F2-9B6A-4A8B26C1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1CA-13FA-477B-AB0E-40461F79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9B4-D869-4688-BD97-B278C0C6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F94-7ECF-4347-A64C-1C7B384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F70-492B-4655-A178-3FCB5624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C2A-1939-4974-8083-515F8912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76E-3F5A-480A-B5CB-E18A428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C3D-2D12-44E7-AEF2-749FEBE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D3EF-73B0-4034-9C3E-9309AD3F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B6769BB0-C8A1-43E2-920D-EFC6027C3B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the cash price of a bond we discount each cash flow at the appropriate zero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example, the theoretical price of a two-year bond providing a 6% coupon semiannuall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714680" y="4572000"/>
                <a:ext cx="50907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8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8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C4D4-4625-4423-9EEE-1BD9F8A6833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Y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the discount rate that makes the present value of the cash flows on the bond equal to the market price of the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at the market price of the bond in our example equals its theoretical price of 98.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given by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676 or 6.76% with cont. co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990720" y="5029200"/>
                <a:ext cx="708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939F-CED2-4127-9345-269985EC56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(From H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540160" y="137160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40160" y="13716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540160" y="26575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540160" y="26575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2540160" y="53737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540160" y="53737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9336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827520" y="151272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870440" y="151272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0008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2737800" y="185112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3782520" y="185112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4802040" y="185112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5997240" y="185112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7464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830760" y="218916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7768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581328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2982960" y="2867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396396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157360" y="2867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01668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2982960" y="3274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96396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5157360" y="32749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601668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2982960" y="36831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396396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5157360" y="36831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601668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2982960" y="4091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396396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5157360" y="4091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601668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2982960" y="4498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963960" y="4498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>
            <a:off x="5082840" y="449892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5945040" y="449892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2982960" y="4908600"/>
            <a:ext cx="63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3963960" y="4908600"/>
            <a:ext cx="70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5083200" y="4908600"/>
            <a:ext cx="35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016680" y="4908600"/>
            <a:ext cx="70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210B-9E44-4315-BC4F-5BCCEA1BF3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534996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How to Construct The YIELD  CURVE (OR How to Determine the ZERO Rates) Using the so-called BOOTSTRA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CBA-0357-4BDF-B5E1-119F08F9305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/ 97.5   =   0.256                        0.256 x 4 =  .1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4 log (1 +  .1026/4 ) =  .10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3-months is 10.127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742840" y="2133720"/>
            <a:ext cx="152388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C167-D647-412E-935B-4DF20987753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/ 94.9   =   0.5374                        0.5374 x 2 =  .107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2 log (1 +  .10748/2 ) =  .10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6-months is 10.748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743200" y="2514600"/>
            <a:ext cx="1447920" cy="17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4942-F39C-46BB-94E6-D3150D7C883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4267080"/>
            <a:ext cx="71629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 90   =   0.1111                        0.1111 x 1 =  .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1 log (1 +  .1111/  1 ) =  .10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one-yer Zero rate is 10.53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743200" y="2895480"/>
            <a:ext cx="14479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1.5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10681 or 10.68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914400" y="1676520"/>
                <a:ext cx="7385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469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53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478B-CC35-4E0F-980A-8337BAF6DA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2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.80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609480" y="1905120"/>
                <a:ext cx="80773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469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36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81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269A-FFFE-46B6-8118-E933C3DA33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YIELD 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3520" y="1736640"/>
            <a:ext cx="7696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81B4E545-D08F-490B-A21F-FC9E84C70B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276720"/>
            <a:ext cx="63244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appropriate discount rate is 9% (return for investments having the same risk), then we have, C= 7 and PAR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7/1.09 +  7/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[7 + 100] / 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 92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57200" y="304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ifferent approach to build the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3520" y="1523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ry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666880"/>
            <a:ext cx="6324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happen if (for some reason to be explained later) the correct discount ra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09720" y="304812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38088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bonds are issued with a coupon such that the price would be par (or close to par);  eventually, interest rates change, inflation levels change, etc. therefore, the price of the bond might go up or d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you know the price of the bond (somebody is offering you the bond we mentioned for a specific price).  Assume, Bond_Value =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valuation equation to determin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87692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evious example, if the PRICE = 93.33, then YTM = 8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86E4D592-81E5-4989-8CDA-92280607EC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79232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he coupon rate and the bond’s yield-to-maturity (YTM) determines if the bond will sell at a premium,  at a discount, or at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3429000"/>
          <a:ext cx="7777080" cy="277956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d Sells at 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l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l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=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=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g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g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Bond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523880"/>
            <a:ext cx="792468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o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war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Zero Coupo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inuously Compounded Rates (Equivalence, Discrete VS Cont. Compou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ero rate (or spot rate), for matur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ate of interest earned on an investment that provides a payoff only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A2AD-E6C7-4DD6-A5DE-01301F6E64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219320" y="1857240"/>
          <a:ext cx="6400800" cy="41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57240"/>
                    <a:ext cx="640080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7EE2-95DD-41F4-9DBE-6577804E2FA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5T17:04:01Z</dcterms:modified>
  <cp:revision>38</cp:revision>
  <dc:subject/>
  <dc:title>Slide 1</dc:title>
</cp:coreProperties>
</file>