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A842A-18A6-4B5B-BAA1-CAC096B65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5CAF69A-FFC5-4C11-B783-979B674E33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24A1073-032D-499E-B717-D51CF6B6EC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989D7BB-8B14-4402-AEC9-00580AEA6A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2B4EE37-079A-4AF3-9A10-14DDAACF1F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01D8ADB-9F84-4637-967D-106F50263F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10B347D-1082-4AB2-8079-D6B57BEC02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D67D4FC-3E22-44D6-9EA1-02E5AE1D389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3206D0-AD3A-4040-9FB3-FEF8A9C403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200F-72CB-43B8-A272-9560109DC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8AFAFC-2F9D-4329-AF7C-087ED156A8F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894A916-88E3-4F03-8862-2C6BAED5DD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8D55-7AA4-4442-A7E0-179DDDB11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6D5A-3633-4DD7-8814-6DE86BDD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A437-B078-4230-AD50-EF947AD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ACDE-F48A-4E3E-B13C-B0BAD9087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A04-CA69-4362-8490-2E591C91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69E3-3BB7-4F2A-BA9D-79DD6CB07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C32-7230-42F6-94C8-BD3ECCE0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43B-6054-4AE2-A405-74CA90F9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379-9006-43C4-A945-189289DA8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3AAA-1AA9-4043-B938-63F0BBCC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ED09-6A52-4F23-9BEC-626BF513A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FC3A-A98B-47BD-BCBB-EBBAA8B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563E-94D1-40EA-8801-E7F8FAB5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22D9F482-181F-42B8-AEA2-75611527E2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alue of a bond is a function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to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on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or’s required rate of return (it should reflect the risk associated with the bond issu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urchase Price or Market Price of a bond is simply the present value of the cash flows, discounted at the appropri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Pri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alculate the cash price of a bond we discount each cash flow at the appropriate zero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ur example, the theoretical price of a two-year bond providing a 6% coupon semiannually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4"/>
              <p:cNvSpPr txBox="1"/>
              <p:nvPr/>
            </p:nvSpPr>
            <p:spPr>
              <a:xfrm>
                <a:off x="1714680" y="4572000"/>
                <a:ext cx="509076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8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4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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68</m:t>
                            </m:r>
                            <m:r>
                              <m:t xml:space="preserve">×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0311-8C76-4CE9-A108-981A18DECDE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 Y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the discount rate that makes the present value of the cash flows on the bond equal to the market price of the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that the market price of the bond in our example equals its theoretical price of 98.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nd yield is given by s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0.0676 or 6.76% with cont. com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990720" y="5029200"/>
                <a:ext cx="7086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3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´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871-BBDC-49CA-9AA3-18F9D419FB4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(From H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2540160" y="137160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2540160" y="13716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2540160" y="26575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2540160" y="26575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2540160" y="5373720"/>
            <a:ext cx="459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540160" y="5373720"/>
            <a:ext cx="458460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9336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3827520" y="151272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4870440" y="151272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000840" y="151272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2737800" y="185112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3782520" y="185112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4802040" y="185112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5997240" y="185112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27464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9"/>
          <p:cNvSpPr/>
          <p:nvPr/>
        </p:nvSpPr>
        <p:spPr>
          <a:xfrm>
            <a:off x="3830760" y="21891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0"/>
          <p:cNvSpPr/>
          <p:nvPr/>
        </p:nvSpPr>
        <p:spPr>
          <a:xfrm>
            <a:off x="477684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1"/>
          <p:cNvSpPr/>
          <p:nvPr/>
        </p:nvSpPr>
        <p:spPr>
          <a:xfrm>
            <a:off x="5813280" y="218916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2"/>
          <p:cNvSpPr/>
          <p:nvPr/>
        </p:nvSpPr>
        <p:spPr>
          <a:xfrm>
            <a:off x="2982960" y="2867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3"/>
          <p:cNvSpPr/>
          <p:nvPr/>
        </p:nvSpPr>
        <p:spPr>
          <a:xfrm>
            <a:off x="396396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5157360" y="2867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5"/>
          <p:cNvSpPr/>
          <p:nvPr/>
        </p:nvSpPr>
        <p:spPr>
          <a:xfrm>
            <a:off x="6016680" y="2867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6"/>
          <p:cNvSpPr/>
          <p:nvPr/>
        </p:nvSpPr>
        <p:spPr>
          <a:xfrm>
            <a:off x="2982960" y="3274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7"/>
          <p:cNvSpPr/>
          <p:nvPr/>
        </p:nvSpPr>
        <p:spPr>
          <a:xfrm>
            <a:off x="396396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5157360" y="32749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6016680" y="3274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2982960" y="36831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396396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5157360" y="36831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3"/>
          <p:cNvSpPr/>
          <p:nvPr/>
        </p:nvSpPr>
        <p:spPr>
          <a:xfrm>
            <a:off x="6016680" y="36831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2982960" y="40910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396396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5157360" y="40910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7"/>
          <p:cNvSpPr/>
          <p:nvPr/>
        </p:nvSpPr>
        <p:spPr>
          <a:xfrm>
            <a:off x="6016680" y="40910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8"/>
          <p:cNvSpPr/>
          <p:nvPr/>
        </p:nvSpPr>
        <p:spPr>
          <a:xfrm>
            <a:off x="2982960" y="44989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9"/>
          <p:cNvSpPr/>
          <p:nvPr/>
        </p:nvSpPr>
        <p:spPr>
          <a:xfrm>
            <a:off x="3963960" y="44989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0"/>
          <p:cNvSpPr/>
          <p:nvPr/>
        </p:nvSpPr>
        <p:spPr>
          <a:xfrm>
            <a:off x="5082840" y="449892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1"/>
          <p:cNvSpPr/>
          <p:nvPr/>
        </p:nvSpPr>
        <p:spPr>
          <a:xfrm>
            <a:off x="5945040" y="449892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2982960" y="4908600"/>
            <a:ext cx="635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3963960" y="4908600"/>
            <a:ext cx="703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4"/>
          <p:cNvSpPr/>
          <p:nvPr/>
        </p:nvSpPr>
        <p:spPr>
          <a:xfrm>
            <a:off x="5083200" y="4908600"/>
            <a:ext cx="358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5"/>
          <p:cNvSpPr/>
          <p:nvPr/>
        </p:nvSpPr>
        <p:spPr>
          <a:xfrm>
            <a:off x="6016680" y="4908600"/>
            <a:ext cx="701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F2C9-3FD4-4D85-A841-E2A44530DB0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534996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  How to Construct The YIELD  CURVE (OR How to Determine the ZERO Rates) Using the so-called BOOTSTRAP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16AF-E645-47E7-86AB-53D4D861F72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5/ 97.5   =   0.256                        0.256 x 4 =  .10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4 log (1 +  .1026/4 ) =  .101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3-months is 10.127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742840" y="2133720"/>
            <a:ext cx="1523880" cy="2133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7E5-5E90-49A8-8FB7-9409CAD74C37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4267080"/>
            <a:ext cx="71629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1/ 94.9   =   0.5374                        0.5374 x 2 =  .107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2 log (1 +  .10748/2 ) =  .104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Zero rate for 6-months is 10.748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743200" y="2514600"/>
            <a:ext cx="1447920" cy="17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447560" y="1599840"/>
            <a:ext cx="5763960" cy="38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85800" y="38088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685800" y="38088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685800" y="166680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666800"/>
            <a:ext cx="4584600" cy="2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07964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973160" y="522360"/>
            <a:ext cx="861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3014640" y="522360"/>
            <a:ext cx="81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n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4146480" y="522360"/>
            <a:ext cx="659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882000" y="860400"/>
            <a:ext cx="9651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1928520" y="860400"/>
            <a:ext cx="907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2948040" y="860400"/>
            <a:ext cx="89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p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4143240" y="860400"/>
            <a:ext cx="648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8"/>
          <p:cNvSpPr/>
          <p:nvPr/>
        </p:nvSpPr>
        <p:spPr>
          <a:xfrm>
            <a:off x="8920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9"/>
          <p:cNvSpPr/>
          <p:nvPr/>
        </p:nvSpPr>
        <p:spPr>
          <a:xfrm>
            <a:off x="1976400" y="119844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ye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0"/>
          <p:cNvSpPr/>
          <p:nvPr/>
        </p:nvSpPr>
        <p:spPr>
          <a:xfrm>
            <a:off x="29224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1"/>
          <p:cNvSpPr/>
          <p:nvPr/>
        </p:nvSpPr>
        <p:spPr>
          <a:xfrm>
            <a:off x="3959280" y="1198440"/>
            <a:ext cx="918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2"/>
          <p:cNvSpPr/>
          <p:nvPr/>
        </p:nvSpPr>
        <p:spPr>
          <a:xfrm>
            <a:off x="1128960" y="1876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3"/>
          <p:cNvSpPr/>
          <p:nvPr/>
        </p:nvSpPr>
        <p:spPr>
          <a:xfrm>
            <a:off x="210996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4"/>
          <p:cNvSpPr/>
          <p:nvPr/>
        </p:nvSpPr>
        <p:spPr>
          <a:xfrm>
            <a:off x="3303360" y="1876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5"/>
          <p:cNvSpPr/>
          <p:nvPr/>
        </p:nvSpPr>
        <p:spPr>
          <a:xfrm>
            <a:off x="4162320" y="1876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7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6"/>
          <p:cNvSpPr/>
          <p:nvPr/>
        </p:nvSpPr>
        <p:spPr>
          <a:xfrm>
            <a:off x="1128960" y="228456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7"/>
          <p:cNvSpPr/>
          <p:nvPr/>
        </p:nvSpPr>
        <p:spPr>
          <a:xfrm>
            <a:off x="210996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8"/>
          <p:cNvSpPr/>
          <p:nvPr/>
        </p:nvSpPr>
        <p:spPr>
          <a:xfrm>
            <a:off x="3303360" y="228456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4162320" y="228456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4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0"/>
          <p:cNvSpPr/>
          <p:nvPr/>
        </p:nvSpPr>
        <p:spPr>
          <a:xfrm>
            <a:off x="1128960" y="269244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1"/>
          <p:cNvSpPr/>
          <p:nvPr/>
        </p:nvSpPr>
        <p:spPr>
          <a:xfrm>
            <a:off x="210996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2"/>
          <p:cNvSpPr/>
          <p:nvPr/>
        </p:nvSpPr>
        <p:spPr>
          <a:xfrm>
            <a:off x="3303360" y="269244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3"/>
          <p:cNvSpPr/>
          <p:nvPr/>
        </p:nvSpPr>
        <p:spPr>
          <a:xfrm>
            <a:off x="4162320" y="269244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34"/>
          <p:cNvSpPr/>
          <p:nvPr/>
        </p:nvSpPr>
        <p:spPr>
          <a:xfrm>
            <a:off x="1128960" y="310032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210996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3303360" y="3100320"/>
            <a:ext cx="29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4162320" y="310032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6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1128960" y="3508200"/>
            <a:ext cx="5234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2109960" y="3508200"/>
            <a:ext cx="579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228480" y="3508200"/>
            <a:ext cx="41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1"/>
          <p:cNvSpPr/>
          <p:nvPr/>
        </p:nvSpPr>
        <p:spPr>
          <a:xfrm>
            <a:off x="4090680" y="3508200"/>
            <a:ext cx="6926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2"/>
          <p:cNvSpPr/>
          <p:nvPr/>
        </p:nvSpPr>
        <p:spPr>
          <a:xfrm>
            <a:off x="1128600" y="3917880"/>
            <a:ext cx="6350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3"/>
          <p:cNvSpPr/>
          <p:nvPr/>
        </p:nvSpPr>
        <p:spPr>
          <a:xfrm>
            <a:off x="2109960" y="3917880"/>
            <a:ext cx="703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4"/>
          <p:cNvSpPr/>
          <p:nvPr/>
        </p:nvSpPr>
        <p:spPr>
          <a:xfrm>
            <a:off x="3228840" y="3917880"/>
            <a:ext cx="358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5"/>
          <p:cNvSpPr/>
          <p:nvPr/>
        </p:nvSpPr>
        <p:spPr>
          <a:xfrm>
            <a:off x="4162320" y="3917880"/>
            <a:ext cx="701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4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6704-B19C-42AC-B002-98BD37A4D8B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4267080"/>
            <a:ext cx="71629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/ 90   =   0.1111                        0.1111 x 1 =  .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 1 log (1 +  .1111/  1 ) =  .105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the one-yer Zero rate is 10.53% (continuously compoun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743200" y="2895480"/>
            <a:ext cx="144792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429000" y="4495680"/>
            <a:ext cx="838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05320" y="4648320"/>
            <a:ext cx="121896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1.5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0.10681 or 10.68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4"/>
              <p:cNvSpPr txBox="1"/>
              <p:nvPr/>
            </p:nvSpPr>
            <p:spPr>
              <a:xfrm>
                <a:off x="914400" y="1676520"/>
                <a:ext cx="7385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469</m:t>
                        </m:r>
                        <m:r>
                          <m:t xml:space="preserve">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536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4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×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E304-D4FA-4FF8-8B24-40E0170118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alculate the 2 year rate we so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0.808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4"/>
              <p:cNvSpPr txBox="1"/>
              <p:nvPr/>
            </p:nvSpPr>
            <p:spPr>
              <a:xfrm>
                <a:off x="609480" y="1905120"/>
                <a:ext cx="807732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69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536</m:t>
                            </m:r>
                            <m:r>
                              <m:t xml:space="preserve">×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681</m:t>
                            </m:r>
                            <m:r>
                              <m:t xml:space="preserve">x</m:t>
                            </m:r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x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88C1-418F-4A09-9F50-70B29636924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YIELD  CUR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33520" y="1736640"/>
            <a:ext cx="769608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F2B57F31-10E7-4DB1-81A9-003F6D3E8F2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ield Curves for Different Risk Class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 Premiums (Yield Spread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"/>
          <p:cNvSpPr/>
          <p:nvPr/>
        </p:nvSpPr>
        <p:spPr>
          <a:xfrm>
            <a:off x="1143000" y="1828800"/>
            <a:ext cx="6858000" cy="40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5"/>
          <p:cNvSpPr/>
          <p:nvPr/>
        </p:nvSpPr>
        <p:spPr>
          <a:xfrm>
            <a:off x="1905120" y="2085840"/>
            <a:ext cx="0" cy="3048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1905120" y="5124600"/>
            <a:ext cx="5410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 rot="10800000">
            <a:off x="1294920" y="2761920"/>
            <a:ext cx="362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3733920" y="53071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rm Left to 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9"/>
          <p:cNvSpPr/>
          <p:nvPr/>
        </p:nvSpPr>
        <p:spPr>
          <a:xfrm flipH="1">
            <a:off x="1828800" y="5124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20"/>
          <p:cNvSpPr/>
          <p:nvPr/>
        </p:nvSpPr>
        <p:spPr>
          <a:xfrm flipH="1">
            <a:off x="1828800" y="3981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1"/>
          <p:cNvSpPr/>
          <p:nvPr/>
        </p:nvSpPr>
        <p:spPr>
          <a:xfrm flipH="1">
            <a:off x="1828800" y="4743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22"/>
          <p:cNvSpPr/>
          <p:nvPr/>
        </p:nvSpPr>
        <p:spPr>
          <a:xfrm flipH="1">
            <a:off x="1828800" y="4362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23"/>
          <p:cNvSpPr/>
          <p:nvPr/>
        </p:nvSpPr>
        <p:spPr>
          <a:xfrm flipH="1">
            <a:off x="1828800" y="3600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24"/>
          <p:cNvSpPr/>
          <p:nvPr/>
        </p:nvSpPr>
        <p:spPr>
          <a:xfrm flipH="1">
            <a:off x="1828800" y="3219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25"/>
          <p:cNvSpPr/>
          <p:nvPr/>
        </p:nvSpPr>
        <p:spPr>
          <a:xfrm flipH="1">
            <a:off x="1828800" y="283860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26"/>
          <p:cNvSpPr/>
          <p:nvPr/>
        </p:nvSpPr>
        <p:spPr>
          <a:xfrm flipH="1">
            <a:off x="1828800" y="245736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27"/>
          <p:cNvSpPr/>
          <p:nvPr/>
        </p:nvSpPr>
        <p:spPr>
          <a:xfrm>
            <a:off x="19051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28"/>
          <p:cNvSpPr/>
          <p:nvPr/>
        </p:nvSpPr>
        <p:spPr>
          <a:xfrm>
            <a:off x="31240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29"/>
          <p:cNvSpPr/>
          <p:nvPr/>
        </p:nvSpPr>
        <p:spPr>
          <a:xfrm>
            <a:off x="25146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30"/>
          <p:cNvSpPr/>
          <p:nvPr/>
        </p:nvSpPr>
        <p:spPr>
          <a:xfrm>
            <a:off x="373392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1"/>
          <p:cNvSpPr/>
          <p:nvPr/>
        </p:nvSpPr>
        <p:spPr>
          <a:xfrm>
            <a:off x="43434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32"/>
          <p:cNvSpPr/>
          <p:nvPr/>
        </p:nvSpPr>
        <p:spPr>
          <a:xfrm>
            <a:off x="49528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33"/>
          <p:cNvSpPr/>
          <p:nvPr/>
        </p:nvSpPr>
        <p:spPr>
          <a:xfrm>
            <a:off x="5562720" y="512928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1295280" y="1955880"/>
            <a:ext cx="533520" cy="32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5"/>
          <p:cNvSpPr/>
          <p:nvPr/>
        </p:nvSpPr>
        <p:spPr>
          <a:xfrm>
            <a:off x="1733400" y="5160960"/>
            <a:ext cx="61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dec" pos="804960"/>
                <a:tab algn="dec" pos="1433520"/>
                <a:tab algn="dec" pos="2155680"/>
                <a:tab algn="dec" pos="278460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mth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3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6 mth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 y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5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7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  10 y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2"/>
          <p:cNvSpPr/>
          <p:nvPr/>
        </p:nvSpPr>
        <p:spPr>
          <a:xfrm flipH="1">
            <a:off x="1828800" y="20764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3"/>
          <p:cNvSpPr/>
          <p:nvPr/>
        </p:nvSpPr>
        <p:spPr>
          <a:xfrm>
            <a:off x="617220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4"/>
          <p:cNvSpPr/>
          <p:nvPr/>
        </p:nvSpPr>
        <p:spPr>
          <a:xfrm>
            <a:off x="6781680" y="5124600"/>
            <a:ext cx="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5"/>
          <p:cNvSpPr/>
          <p:nvPr/>
        </p:nvSpPr>
        <p:spPr>
          <a:xfrm>
            <a:off x="1890720" y="4365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46"/>
          <p:cNvSpPr/>
          <p:nvPr/>
        </p:nvSpPr>
        <p:spPr>
          <a:xfrm>
            <a:off x="1905120" y="4746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47"/>
          <p:cNvSpPr/>
          <p:nvPr/>
        </p:nvSpPr>
        <p:spPr>
          <a:xfrm>
            <a:off x="1890720" y="39844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48"/>
          <p:cNvSpPr/>
          <p:nvPr/>
        </p:nvSpPr>
        <p:spPr>
          <a:xfrm>
            <a:off x="1890720" y="3603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9"/>
          <p:cNvSpPr/>
          <p:nvPr/>
        </p:nvSpPr>
        <p:spPr>
          <a:xfrm>
            <a:off x="1890720" y="3222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0"/>
          <p:cNvSpPr/>
          <p:nvPr/>
        </p:nvSpPr>
        <p:spPr>
          <a:xfrm>
            <a:off x="1890720" y="282744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1"/>
          <p:cNvSpPr/>
          <p:nvPr/>
        </p:nvSpPr>
        <p:spPr>
          <a:xfrm>
            <a:off x="1890720" y="24462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2"/>
          <p:cNvSpPr/>
          <p:nvPr/>
        </p:nvSpPr>
        <p:spPr>
          <a:xfrm>
            <a:off x="1890720" y="207972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3"/>
          <p:cNvSpPr/>
          <p:nvPr/>
        </p:nvSpPr>
        <p:spPr>
          <a:xfrm>
            <a:off x="7315200" y="20797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4"/>
          <p:cNvSpPr/>
          <p:nvPr/>
        </p:nvSpPr>
        <p:spPr>
          <a:xfrm>
            <a:off x="7315200" y="5127480"/>
            <a:ext cx="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5"/>
          <p:cNvSpPr/>
          <p:nvPr/>
        </p:nvSpPr>
        <p:spPr>
          <a:xfrm>
            <a:off x="1938240" y="5540400"/>
            <a:ext cx="541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dec" pos="272880"/>
                <a:tab algn="l" pos="533520"/>
                <a:tab algn="dec" pos="2336760"/>
                <a:tab algn="dec" pos="3316320"/>
                <a:tab algn="dec" pos="3944880"/>
                <a:tab algn="dec" pos="4572000"/>
                <a:tab algn="dec" pos="5199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BB Corporat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overnment 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7"/>
          <p:cNvSpPr/>
          <p:nvPr/>
        </p:nvSpPr>
        <p:spPr>
          <a:xfrm>
            <a:off x="2057400" y="5661000"/>
            <a:ext cx="41436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58"/>
          <p:cNvSpPr/>
          <p:nvPr/>
        </p:nvSpPr>
        <p:spPr>
          <a:xfrm>
            <a:off x="3776760" y="5661000"/>
            <a:ext cx="4143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1"/>
          <p:cNvSpPr/>
          <p:nvPr/>
        </p:nvSpPr>
        <p:spPr>
          <a:xfrm>
            <a:off x="1905120" y="3327480"/>
            <a:ext cx="4800600" cy="76176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65"/>
          <p:cNvSpPr/>
          <p:nvPr/>
        </p:nvSpPr>
        <p:spPr>
          <a:xfrm rot="21270000">
            <a:off x="1828440" y="2933640"/>
            <a:ext cx="4800600" cy="762120"/>
          </a:xfrm>
          <a:custGeom>
            <a:avLst/>
            <a:gdLst>
              <a:gd name="textAreaLeft" fmla="*/ 0 w 4800600"/>
              <a:gd name="textAreaRight" fmla="*/ 4800960 w 48006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3024" h="480">
                <a:moveTo>
                  <a:pt x="0" y="480"/>
                </a:moveTo>
                <a:cubicBezTo>
                  <a:pt x="90" y="455"/>
                  <a:pt x="287" y="384"/>
                  <a:pt x="542" y="330"/>
                </a:cubicBezTo>
                <a:cubicBezTo>
                  <a:pt x="797" y="276"/>
                  <a:pt x="1117" y="213"/>
                  <a:pt x="1531" y="158"/>
                </a:cubicBezTo>
                <a:cubicBezTo>
                  <a:pt x="1945" y="103"/>
                  <a:pt x="2713" y="33"/>
                  <a:pt x="3024" y="0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67"/>
          <p:cNvSpPr/>
          <p:nvPr/>
        </p:nvSpPr>
        <p:spPr>
          <a:xfrm>
            <a:off x="6248520" y="2819520"/>
            <a:ext cx="228600" cy="533160"/>
          </a:xfrm>
          <a:custGeom>
            <a:avLst/>
            <a:gdLst>
              <a:gd name="textAreaLeft" fmla="*/ 0 w 228600"/>
              <a:gd name="textAreaRight" fmla="*/ 8244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8"/>
          <p:cNvSpPr/>
          <p:nvPr/>
        </p:nvSpPr>
        <p:spPr>
          <a:xfrm>
            <a:off x="6477120" y="2819520"/>
            <a:ext cx="825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50021"/>
                </a:solidFill>
                <a:latin typeface="Arial"/>
              </a:rPr>
              <a:t>Yiel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5400000">
            <a:off x="2228400" y="1809720"/>
            <a:ext cx="343080" cy="1143000"/>
          </a:xfrm>
          <a:custGeom>
            <a:avLst/>
            <a:gdLst>
              <a:gd name="textAreaLeft" fmla="*/ 0 w 343080"/>
              <a:gd name="textAreaRight" fmla="*/ 123840 w 3430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514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2767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appropriate discount rate is 9% (return for investments having the same risk), then we have, C= 7 and PAR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7/1.09 +  7/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[7 + 100] / 1.09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$ 92.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30492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different approach to build the Yield 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800280" y="514440"/>
            <a:ext cx="7543800" cy="58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533520" y="15238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ry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66680" y="1752480"/>
            <a:ext cx="701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5248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54380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77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34120" y="1600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1828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1828800"/>
            <a:ext cx="64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 1                  2                3                4      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7692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86600" y="1143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+ P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90720" y="2666880"/>
            <a:ext cx="63244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ond with a notional amount (or par amount or PAR) equal to $ 100 pays a 7% interest per year; and matures in 5 years.  How much would you pay for the bo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ould happen if (for some reason to be explained later) the correct discount rat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8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5.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0666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533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 =  ?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Valuation Formu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838080" y="1596960"/>
                <a:ext cx="7696440" cy="31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on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alue</m:t>
                            </m:r>
                          </m:sub>
                        </m:sSub>
                      </m:e>
                      <m:e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C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i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M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AR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909720" y="3048120"/>
                <a:ext cx="6637320" cy="13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IC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AR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228600" y="38088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bonds are issued with a coupon such that the price would be par (or close to par);  eventually, interest rates change, inflation levels change, etc. therefore, the price of the bond might go up or d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you know the price of the bond (somebody is offering you the bond we mentioned for a specific price).  Assume, Bond_Value = Pr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solve the valuation equation to determine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87692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R that satisfies the above equation (PRICE, PAR, M, and C are all known) is called YTM [Yield to maturit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vious example, if the PRICE = 93.33, then YTM = 8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2362320" y="6286680"/>
            <a:ext cx="403848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5eadf"/>
                </a:solidFill>
                <a:latin typeface="Arial"/>
              </a:rPr>
              <a:t>CHAPTER 6 – Bond Valuation and Interest 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8668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- </a:t>
            </a:r>
            <a:fld id="{06F90D2F-4040-4216-8A68-EDC13F61614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120" y="1828440"/>
            <a:ext cx="7923240" cy="10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he coupon rate and the bond’s yield-to-maturity (YTM) determines if the bond will sell at a premium,  at a discount, or at p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55640" y="3429000"/>
          <a:ext cx="7777080" cy="2779560"/>
        </p:xfrm>
        <a:graphic>
          <a:graphicData uri="http://schemas.openxmlformats.org/drawingml/2006/table">
            <a:tbl>
              <a:tblPr/>
              <a:tblGrid>
                <a:gridCol w="2592360"/>
                <a:gridCol w="2592360"/>
                <a:gridCol w="2592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d Sells at a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l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l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o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=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=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pon &gt; YT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&gt; Fa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u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s Affecting Bond Pr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1523880"/>
            <a:ext cx="7924680" cy="41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o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orward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Zero Coupon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inuously Compounded Rates (Equivalence, Discrete VS Cont. Compound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ro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zero rate (or spot rate), for maturit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rate of interest earned on an investment that provides a payoff only at tim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5C0B-367B-45A7-8431-31E70691789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250920" y="6248520"/>
            <a:ext cx="75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undamentals of Futures and Options Markets, 7th Ed, Ch 4, Copyright © John C. Hull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1219320" y="1857240"/>
          <a:ext cx="6400800" cy="41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57240"/>
                    <a:ext cx="6400800" cy="41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C463-A96F-4A9A-9B0C-E0167490DB3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3T22:29:25Z</dcterms:created>
  <dc:creator>VCHARLIN</dc:creator>
  <dc:description/>
  <dc:language>en-US</dc:language>
  <cp:lastModifiedBy>VCHARLIN</cp:lastModifiedBy>
  <dcterms:modified xsi:type="dcterms:W3CDTF">2010-09-25T17:04:01Z</dcterms:modified>
  <cp:revision>38</cp:revision>
  <dc:subject/>
  <dc:title>Slide 1</dc:title>
</cp:coreProperties>
</file>