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816-CBBE-4281-8A5C-CD7761C9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C4FD-96EA-4123-A068-D895EB8C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211-89BB-4C51-89C7-BAA83FEE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41C-404D-496C-BB5A-7BE9144E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376-534F-4098-B0EF-D6D7C3AA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6F1-0A8F-4120-9151-386E7DBC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455-52C6-4623-9E68-FF4C3735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2E0-9316-4A95-BCF5-CB18A49F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7AD-AA2C-4D9F-AAC4-035BD652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88B-FE17-423E-9463-99B69D9C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57A-9261-403E-8FF4-50A6D94A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1B2-80B0-4F0C-B168-907DAA7C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7B6D-6EB0-4217-AC5F-E288152D1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9907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Income  (Bond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s to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b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cepts/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 and forwar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structure of interest rates (Yield cur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and conv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isk, credit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arbi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portfoli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2:29:25Z</dcterms:created>
  <dc:creator>VCHARLIN</dc:creator>
  <dc:description/>
  <dc:language>en-US</dc:language>
  <cp:lastModifiedBy>VCHARLIN</cp:lastModifiedBy>
  <dcterms:modified xsi:type="dcterms:W3CDTF">2010-09-24T01:13:27Z</dcterms:modified>
  <cp:revision>5</cp:revision>
  <dc:subject/>
  <dc:title>Slide 1</dc:title>
</cp:coreProperties>
</file>