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385-326C-41DE-AE6B-0B5A32D0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09D-A596-4418-AADF-56184F0D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E18-A8A6-4054-B141-63DC8A9F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4BB-5B9D-4599-B8A2-3412DAC7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5DA-1BF2-4A13-BE34-D588DF18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C47-2E57-4FB3-B108-9EED739E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052-36EC-4023-AD04-1335B6B3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59B-57E8-429D-8303-5767CB76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8F9-2C0E-4EAE-8B4B-5773F3DE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635-2394-4477-BE3E-2301C3F2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674-3E3A-4C7F-9F15-4DAF2F9C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FCE-FF20-4553-A12C-094E6411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543E-1EB8-4EFB-A5B9-D5F266053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99072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Income  (Bond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s to be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bo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ncepts/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 and forward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structure of interest rates (Yield cur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 and conv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risk, credit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arbi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portfoli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2:29:25Z</dcterms:created>
  <dc:creator>VCHARLIN</dc:creator>
  <dc:description/>
  <dc:language>en-US</dc:language>
  <cp:lastModifiedBy>VCHARLIN</cp:lastModifiedBy>
  <dcterms:modified xsi:type="dcterms:W3CDTF">2010-09-24T01:13:27Z</dcterms:modified>
  <cp:revision>5</cp:revision>
  <dc:subject/>
  <dc:title>Slide 1</dc:title>
</cp:coreProperties>
</file>