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36B2-1FB6-496C-98B3-C26D1A2C3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42DA-180A-4C90-89E1-A780559B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6998-0294-468E-9E66-84C2E6135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59DF-5878-45E9-BAAD-7166DB49F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ADDF-F5F4-4D06-8CAE-27630B58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5192-FD44-4F3E-8771-B271E778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27BD-07CC-4431-B325-C82E031C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8799-829E-47BC-AAAD-5EA1B44D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A4F4-5EAE-4823-9D0B-B603A3A0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383E-4820-46F4-AA5A-60A14327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8929-E614-4C7C-9487-E8552363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935B-B990-45ED-9135-070BC618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B122-DE68-4DEA-A5E7-AF19300AF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990720"/>
            <a:ext cx="419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xed Income  (Bonds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s to be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a bo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concepts/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t and forward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 structure of interest rates (Yield cur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tion and conv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risk, credit ra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 arbit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 portfoli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22:29:25Z</dcterms:created>
  <dc:creator>VCHARLIN</dc:creator>
  <dc:description/>
  <dc:language>en-US</dc:language>
  <cp:lastModifiedBy>VCHARLIN</cp:lastModifiedBy>
  <dcterms:modified xsi:type="dcterms:W3CDTF">2010-09-24T01:13:27Z</dcterms:modified>
  <cp:revision>5</cp:revision>
  <dc:subject/>
  <dc:title>Slide 1</dc:title>
</cp:coreProperties>
</file>