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E02-FD24-4990-9C61-A4DECA56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054-82CB-44D0-B118-781661D1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0CA-B824-4FCC-AC75-950056A6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30F-67D5-4040-892E-9E1A87C8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1A6F-42AF-4350-B96C-41FE4F49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7E2-41BE-4452-86E3-B8005044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A21-9A34-48D5-92C3-ED9392F9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54E-CEA1-4B74-89D3-0E63537B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5F9-3891-4092-8AC9-F2ED1A0B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B87-AEDE-4D3D-AC07-F3A1FC90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837-2379-43D2-B4CA-DF6654F1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D28-1EFA-40D4-AA85-FE6C734C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9CBA-E5A1-495D-A3DC-0CC19F803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990720"/>
            <a:ext cx="419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 Income  (Bonds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s to be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bo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concepts/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t and forward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structure of interest rates (Yield cur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ion and conv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risk, credit r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arbi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portfoli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2:29:25Z</dcterms:created>
  <dc:creator>VCHARLIN</dc:creator>
  <dc:description/>
  <dc:language>en-US</dc:language>
  <cp:lastModifiedBy>VCHARLIN</cp:lastModifiedBy>
  <dcterms:modified xsi:type="dcterms:W3CDTF">2010-09-24T01:13:27Z</dcterms:modified>
  <cp:revision>5</cp:revision>
  <dc:subject/>
  <dc:title>Slide 1</dc:title>
</cp:coreProperties>
</file>