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77E-0AB1-4CE2-BFB7-56976927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905-AA90-40F0-A2EB-8D8AF5C8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DD5-9505-4935-9DC2-28B3208D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522-564F-4208-85F4-2D408555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477-923B-4F12-B616-675EF5DE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B090-6C9E-44FE-94EF-65018E62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BAB0-FFAE-4C8F-8AEE-7EF36A2E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F0E7-E554-4A3B-BA7F-BA54B096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34DA-9E56-4616-8301-13898CD8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3A2C-9C64-4E56-8B25-BB690385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6E47-492E-4CB1-B937-1FD74B1B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14E5-67F4-4BBB-8DCB-47EC4B63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37C9-FE84-48DD-8BFD-E21D1C5AC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990720"/>
            <a:ext cx="419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xed Income  (Bonds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s to be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 bo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concepts/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t and forward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structure of interest rates (Yield cur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ion and conv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risk, credit ra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arbit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portfoli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22:29:25Z</dcterms:created>
  <dc:creator>VCHARLIN</dc:creator>
  <dc:description/>
  <dc:language>en-US</dc:language>
  <cp:lastModifiedBy>VCHARLIN</cp:lastModifiedBy>
  <dcterms:modified xsi:type="dcterms:W3CDTF">2010-09-24T01:13:27Z</dcterms:modified>
  <cp:revision>5</cp:revision>
  <dc:subject/>
  <dc:title>Slide 1</dc:title>
</cp:coreProperties>
</file>