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16B-7EE4-4E7C-A4AD-4F98648E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C34-986B-4446-B31B-8C543F7D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EA2-478B-4FFC-9735-0D1FADE5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09D-B295-471B-A3AF-4EB0B057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952-17C7-4D93-85B4-9E93D1EF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F94-3E53-4C9B-8C9E-EF473E92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D30-08AA-4C49-9E0D-8658F6D5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30D-D33C-44B6-B9CB-82247736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89C-3E51-43A5-A06A-FF8C717F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03A-96FC-4F31-B41E-4C972E73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C21-5CBB-4BA4-BFEE-092B5944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972-3AEF-4B70-B594-EB968E0D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D1DA-4372-4317-98BD-F1EB3FD1C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99072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 Income  (Bonds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s to be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bo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concepts/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t and forward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structure of interest rates (Yield cur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ion and conv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risk, credit r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arbi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portfoli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2:29:25Z</dcterms:created>
  <dc:creator>VCHARLIN</dc:creator>
  <dc:description/>
  <dc:language>en-US</dc:language>
  <cp:lastModifiedBy>VCHARLIN</cp:lastModifiedBy>
  <dcterms:modified xsi:type="dcterms:W3CDTF">2010-09-24T01:13:27Z</dcterms:modified>
  <cp:revision>5</cp:revision>
  <dc:subject/>
  <dc:title>Slide 1</dc:title>
</cp:coreProperties>
</file>