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760-B767-46A0-B155-2CE4B909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F4F-727E-4FB8-9FD6-4EEEDC5C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020-A968-4385-B243-CFF58464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3F0-38F3-4D72-B757-8F6ED331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DB6-36A9-4063-9D91-7D6E34C3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3E9-4C0C-49EA-875A-DACFF6C5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395-FA87-44BD-935E-A54AD002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054-0E9C-45C4-8A1D-4B940A6F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0DF-CA55-4439-9543-4788677F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455-2ACE-4D6A-ABB7-479F5E2E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9DC-8FBD-40E0-B65B-250AAF7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7EF-2326-4615-894F-E187A9F8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1916-3171-4D5A-AB8D-75064BB47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335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(Arbitrage Pricing Theo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Stephen A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9625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 A. 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OBEL PRIZE FOR THIS G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450880" cy="32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3429000" y="3048120"/>
            <a:ext cx="281952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6858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ssum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762120" y="1371600"/>
                <a:ext cx="76960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+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mr>
                    </m:m>
                    <m:m>
                      <m:mr>
                        <m:e/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  <m:m>
                      <m:mr>
                        <m:e/>
                        <m:e>
                          <m:eqArr>
                            <m:e/>
                            <m:e/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746280" y="3200400"/>
            <a:ext cx="7940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return on asse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if all indices ar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9144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914400" y="236232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1905120" y="2209680"/>
            <a:ext cx="25905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2285640"/>
            <a:ext cx="759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943600" y="2286000"/>
            <a:ext cx="17524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(f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8006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of the return with respect to the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90720" y="3200400"/>
                <a:ext cx="2851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90720" y="4343400"/>
                <a:ext cx="373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038480" y="5334120"/>
                <a:ext cx="40197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040280" y="32828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419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  ….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04920"/>
            <a:ext cx="457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no arbitrage argument (in equilibrium, a portfolio that offers no risk and can be created with no wealth, must earn a zero return) we will show that we can express the return of an ass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121932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pected return of a portfolio with a “unit” sensitivity to the k index or factor and 0 exposure to all the other i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562720" y="2819520"/>
            <a:ext cx="220968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 between CAPM and 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between the CAPM and the APT is that the CAPM identifies the measure of systematic risk (the market) as a result of an equilibrium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T does not use an equilibrium argument so it does not identify the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factor APT where the single factor is the market is the CA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need 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 does not assume individuals are driven by mean-variance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1219320"/>
            <a:ext cx="73152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n, Roll and Ross [198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4 macro-economic variables that were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of industrial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default 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sts in yiel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nticipated 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Performance of the CAPM and A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short answer is the empirical PERFORMANCE of both models is just so and 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066680"/>
            <a:ext cx="73915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 Performanc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p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ynor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nse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2 ((Modigliani)^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 Managers, Structure of Fees, Importance When Repor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9-05T16:49:35Z</dcterms:modified>
  <cp:revision>145</cp:revision>
  <dc:subject/>
  <dc:title>Slide 1</dc:title>
</cp:coreProperties>
</file>