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724-2452-4C1E-92E0-65FCC575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577-81BF-4D79-8E73-2AFCEE2F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2C9-C005-46ED-BA17-563A8A3A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AC2-CB61-4AC7-A711-F8D5000B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282-0741-402B-8852-C4CC3DBC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46B-AAD2-4526-ACFC-03BE78F9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8AE-ADD7-4835-B29F-AD7DC24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47B-F379-4DC0-9968-D8F7EBC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DA9-3524-4A29-89D5-A9B1E5AF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57A-E120-4F4B-ADAE-AC9A6335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868-63ED-4A41-B406-8DFE290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A49-74FB-48C1-8EA8-F392D97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08A-A109-43D6-95B9-A80DEABE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(Arbitrage Pricing The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tephen A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962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A. 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BEL PRIZE FOR THIS G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450880" cy="32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429000" y="3048120"/>
            <a:ext cx="28195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62120" y="1371600"/>
                <a:ext cx="7696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+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  <m:m>
                      <m:mr>
                        <m:e/>
                        <m:e>
                          <m:eqArr>
                            <m:e/>
                            <m:e/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6280" y="3200400"/>
            <a:ext cx="7940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return on ass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if all indices ar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914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14400" y="2362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905120" y="2209680"/>
            <a:ext cx="25905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228564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943600" y="2286000"/>
            <a:ext cx="17524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(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006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of the return with respect to th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90720" y="320040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90720" y="4343400"/>
                <a:ext cx="373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038480" y="5334120"/>
                <a:ext cx="4019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040280" y="3282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  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no arbitrage argument (in equilibrium, a portfolio that offers no risk and can be created with no wealth, must earn a zero return) we will show that we can express the return of an as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ected return of a portfolio with a “unit” sensitivity to the k index or factor and 0 exposure to all the other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720" y="2819520"/>
            <a:ext cx="2209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CAPM and 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CAPM and the APT is that the CAPM identifies the measure of systematic risk (the market) as a result of an equilibrium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does not use an equilibrium argument so it does not identify th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actor APT where the single factor is the market is the C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need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assume individuals are driven by mean-varianc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19320"/>
            <a:ext cx="7315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n, Roll and Ross [198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4 macro-economic variables that were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f industrial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default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s in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ticipated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Performance of the CAPM and 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hort answer is the empirical PERFORMANCE of both models is just so and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066680"/>
            <a:ext cx="7391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 Performanc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p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n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se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((Modigliani)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, Structure of Fees, Importance When Repor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5T16:49:35Z</dcterms:modified>
  <cp:revision>145</cp:revision>
  <dc:subject/>
  <dc:title>Slide 1</dc:title>
</cp:coreProperties>
</file>