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699-3591-4FD6-9E7F-2307EF7B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E59-3FBC-430A-8A0B-862B7424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DEC-6F42-4315-9C46-732FDCA0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912-160D-4A53-8060-65E59BFB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0F2-21EA-470D-8AD1-3FBF6E52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835-3133-474B-AFF5-0CA902B7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404-0F74-4F6F-8E4B-F664DF73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34B-C458-4D79-921A-4FCFB1C1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0A0-61F0-41D5-843B-0142B280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1E9-D6EE-411B-8D94-B5480A37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9436-A219-47C2-9DA1-DF6E7A8C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3BE-A6C2-4307-B5A0-D703425D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8C12-D69A-45BB-8839-31307EABD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5335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T (Arbitrage Pricing Theo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by Stephen A 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9625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. A. 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NOBEL PRIZE FOR THIS GU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2450880" cy="3262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3429000" y="3048120"/>
            <a:ext cx="281952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68580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ssum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762120" y="1371600"/>
                <a:ext cx="76960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m>
                            <m:mr>
                              <m:e>
                                <m:r>
                                  <m:t xml:space="preserve">+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mr>
                    </m:m>
                    <m:m>
                      <m:mr>
                        <m:e/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  <m:m>
                      <m:mr>
                        <m:e/>
                        <m:e>
                          <m:eqArr>
                            <m:e/>
                            <m:e/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746280" y="3200400"/>
            <a:ext cx="7940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return on asse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return if all indices ar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914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914400" y="23623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1905120" y="2209680"/>
            <a:ext cx="25905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562360" y="2285640"/>
            <a:ext cx="759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943600" y="2286000"/>
            <a:ext cx="17524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(fa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80060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 of the return with respect to the 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90720" y="3200400"/>
                <a:ext cx="2851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990720" y="4343400"/>
                <a:ext cx="3733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038480" y="5334120"/>
                <a:ext cx="40197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040280" y="32828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4419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  ….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04920"/>
            <a:ext cx="4572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no arbitrage argument (in equilibrium, a portfolio that offers no risk and can be created with no wealth, must earn a zero return) we will show that we can express the return of an ass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121932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pected return of a portfolio with a “unit” sensitivity to the k index or factor and 0 exposure to all the other i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562720" y="2819520"/>
            <a:ext cx="220968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ce between CAPM and A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between the CAPM and the APT is that the CAPM identifies the measure of systematic risk (the market) as a result of an equilibrium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T does not use an equilibrium argument so it does not identify the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ngle factor APT where the single factor is the market is the CA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T does not need market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T does not assume individuals are driven by mean-variance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1219320"/>
            <a:ext cx="73152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n, Roll and Ross [198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4 macro-economic variables that were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of industrial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default risk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sts in yield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ticipated 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Performance of the CAPM and A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short answer is the empirical PERFORMANCE of both models is just so and 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066680"/>
            <a:ext cx="73915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 Managers Performance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p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ynor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nse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2 ((Modigliani)^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 Managers, Structure of Fees, Importance When Reporting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9-05T16:49:35Z</dcterms:modified>
  <cp:revision>145</cp:revision>
  <dc:subject/>
  <dc:title>Slide 1</dc:title>
</cp:coreProperties>
</file>