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F5D-FD01-4681-B10F-88A01A19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008-388C-4ED0-95C8-9D5FE44F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3AF-CBF5-4A72-B6D6-E2315E44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95B-1B13-4562-AA43-5DC0BA30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BB1-E25C-4BC0-B89C-196A699F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843-CDE8-4C48-B0D6-E77EDE0E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E54-2A85-4FBC-AE76-59DBD844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C84-C5AE-4717-9268-08E878A4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EE2-6CFD-4D14-AD2B-AF4D3616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D52-91CE-4B53-A2C4-74882BF3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5AB-478E-4EE5-8EC4-D301CB8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30F-C669-4B5C-BDF8-C7F60A7D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CE12-F2EE-47AD-BFB1-294444D68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335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T (Arbitrage Pricing Theo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Stephen A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9625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. A. 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OBEL PRIZE FOR THIS G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450880" cy="3262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3429000" y="3048120"/>
            <a:ext cx="281952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6858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ssum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762120" y="1371600"/>
                <a:ext cx="76960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+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mr>
                    </m:m>
                    <m:m>
                      <m:mr>
                        <m:e/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  <m:m>
                      <m:mr>
                        <m:e/>
                        <m:e>
                          <m:eqArr>
                            <m:e/>
                            <m:e/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46280" y="3200400"/>
            <a:ext cx="7940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return on asse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return if all indices ar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914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914400" y="23623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1905120" y="2209680"/>
            <a:ext cx="25905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2285640"/>
            <a:ext cx="759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943600" y="2286000"/>
            <a:ext cx="17524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(f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8006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of the return with respect to the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90720" y="3200400"/>
                <a:ext cx="285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90720" y="4343400"/>
                <a:ext cx="373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038480" y="5334120"/>
                <a:ext cx="40197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040280" y="32828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419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  ….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04920"/>
            <a:ext cx="457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no arbitrage argument (in equilibrium, a portfolio that offers no risk and can be created with no wealth, must earn a zero return) we will show that we can express the return of an ass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12193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pected return of a portfolio with a “unit” sensitivity to the k index or factor and 0 exposure to all the other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562720" y="2819520"/>
            <a:ext cx="22096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 between CAPM and A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between the CAPM and the APT is that the CAPM identifies the measure of systematic risk (the market) as a result of an equilibrium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T does not use an equilibrium argument so it does not identify the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factor APT where the single factor is the market is the CA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does not need 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does not assume individuals are driven by mean-variance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1219320"/>
            <a:ext cx="73152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n, Roll and Ross [198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4 macro-economic variables that were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of industrial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default 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sts in yiel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ticipated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Performance of the CAPM and A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short answer is the empirical PERFORMANCE of both models is just so and 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066680"/>
            <a:ext cx="73915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 Managers Performanc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p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ynor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nse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2 ((Modigliani)^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 Managers, Structure of Fees, Importance When Repor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9-05T16:49:35Z</dcterms:modified>
  <cp:revision>145</cp:revision>
  <dc:subject/>
  <dc:title>Slide 1</dc:title>
</cp:coreProperties>
</file>