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2B8-6A1F-4EB9-A6FF-5E531728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80F-0D3C-485A-A8F8-D96098A0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E5C-9F92-4AC0-9AF7-A3DF5636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EBD-EACB-4710-9609-9A56ADF4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268-C8F1-4AFE-9706-00866D2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68C-1AF7-450D-96F7-D8A61B01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C42-46C6-4147-A0BE-1F0BBE0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762-E630-41CE-B5CC-E337D0D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DCD-0D13-4CF2-A93E-7C105B1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E95-A76B-4CF8-9E98-2612B14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A0C-8B0A-46F1-9966-74C957B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A2D-5F31-429F-935B-F119FA2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3322-E670-4092-9E1D-D8994100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1219320"/>
                <a:ext cx="576900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6680" y="685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ly, and more form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57480" y="2000160"/>
            <a:ext cx="647640" cy="1828800"/>
          </a:xfrm>
          <a:custGeom>
            <a:avLst/>
            <a:gdLst>
              <a:gd name="textAreaLeft" fmla="*/ 0 w 647640"/>
              <a:gd name="textAreaRight" fmla="*/ 234000 w 647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3376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33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ystematic (“error”)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86600" y="1371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ISK =  Systematic RISK     +     non-systematic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4864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 VAR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+   VAR  (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04920"/>
            <a:ext cx="7315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M, Issues and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’s 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5909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80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pe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arpe Rati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:  The tangent portfolio has the maximum Sharp Ratio of any portfolio or stock in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2743200"/>
          <a:ext cx="58672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5867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pe’s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’s portfolio is a combination of the tangent portfolio and the riskless as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everybody’s portfolio of risky assets is the portfolio of all risky assets --- the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mplies that everybody must be holding the market portfolio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holds the sam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everybody’s portfolio is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Market Line and Capital Marke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5"/>
          <p:cNvSpPr/>
          <p:nvPr/>
        </p:nvSpPr>
        <p:spPr>
          <a:xfrm>
            <a:off x="3492360" y="836640"/>
            <a:ext cx="5651640" cy="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1280" y="1440"/>
            <a:ext cx="2971800" cy="1089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492360" y="274680"/>
            <a:ext cx="5472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</a:rPr>
              <a:t>Estimación del beta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9640" y="1413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jemplo: Beta con respecto a índice de mercado IPSA de Co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beta copec"/>
          <p:cNvPicPr/>
          <p:nvPr/>
        </p:nvPicPr>
        <p:blipFill>
          <a:blip r:embed="rId2"/>
          <a:stretch/>
        </p:blipFill>
        <p:spPr>
          <a:xfrm>
            <a:off x="1415880" y="1908000"/>
            <a:ext cx="6135840" cy="4489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6227640" y="3457440"/>
                <a:ext cx="939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7"/>
          <p:cNvSpPr/>
          <p:nvPr/>
        </p:nvSpPr>
        <p:spPr>
          <a:xfrm>
            <a:off x="539640" y="608652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* Retornos mensuales, estimación a septiembr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6477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IN56A – Primavera 2009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 Gonzalo Maturana F.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032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fact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87280" y="2781360"/>
          <a:ext cx="720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81360"/>
                    <a:ext cx="720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144792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le factor model equation defines a linear fit to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ff"/>
                </a:solidFill>
                <a:latin typeface="Arial"/>
                <a:ea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 ha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everal independent observations of the rate of return and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or is measured by the vertical distance from a point to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M (Capital Asset Pricing Mod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harpe, Trey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contributions by Mossin, Lintn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one in the six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048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Sharpe, 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investors are price takers (cannot affect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ngle-period investmen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ments are limited to traded financial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taxes, regulations, short-selling constraints and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tion is costless and available to all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are rational mean-variance optimizers (risk averse individu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mogeneous expectations (all investors believe the same abo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 and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can borrow/ lend at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9800" y="54928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66880" y="1447920"/>
            <a:ext cx="35049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666880" y="1827720"/>
            <a:ext cx="380952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609120"/>
            <a:ext cx="3657600" cy="26672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457200" cy="2209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05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048120"/>
            <a:ext cx="304920" cy="304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00200"/>
            <a:ext cx="304920" cy="304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Market Line (C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093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72392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(actually, critical) observ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vestor puts a fraction of his/her wealth in (i) the risk free asset; and (ii)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ll investors MUST hold the risky asset in the sam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y MUST hold the same risky (tangent) portfoli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4956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838080"/>
            <a:ext cx="71629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ket portfolio (M) is an effici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ortfolio = Tang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ML shows different combinations of the risk-free asset and the market (M) portfolio; investors select a position along the CML line according to risk preferences.  (Passive investment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09680" y="4495680"/>
                <a:ext cx="51055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given risky (i) security, we have that the return of that security can be written as (CAPM Model, security market l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92200" y="1779480"/>
                <a:ext cx="657720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ternative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600200"/>
            <a:ext cx="5790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is to match the slope of the CML equation at point M, with the slope of the efficient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2T14:00:50Z</dcterms:modified>
  <cp:revision>142</cp:revision>
  <dc:subject/>
  <dc:title>Slide 1</dc:title>
</cp:coreProperties>
</file>