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86DC-7B83-4443-9ADB-2C2A6824F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E331-9256-4FB5-9834-A2B3BCC5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9C1C-37CC-4448-9357-6DFBCE501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89F1-A920-4B8F-B1F0-2C669D3A4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371E-1301-473A-9D45-E9EF7C3C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787F-6147-4E6B-A50D-DC405D30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99CF-C0F8-4289-8351-58013C6A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5548-03A2-4EF7-8882-B60797BB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E25E-5567-4AD0-93BA-340833A9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90AC-C447-4A69-9906-EF83AC9F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8FF7-326A-4AC5-AA77-8E29314C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5FB2-4E93-4C9F-AC9F-DA2B10D5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25E1-B22C-4A01-9E58-B683FB1E1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362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rtfolio Theory &amp; Related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447920" y="1219320"/>
                <a:ext cx="5769000" cy="17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m>
                                <m:mr>
                                  <m:e/>
                                  <m:e/>
                                </m:mr>
                              </m:m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</m:m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E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e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1066680" y="6858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ernatively, and more form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5400000">
            <a:off x="4857480" y="2000160"/>
            <a:ext cx="647640" cy="1828800"/>
          </a:xfrm>
          <a:custGeom>
            <a:avLst/>
            <a:gdLst>
              <a:gd name="textAreaLeft" fmla="*/ 0 w 647640"/>
              <a:gd name="textAreaRight" fmla="*/ 234000 w 6476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38680" y="3581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atic 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5333760" y="31240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53352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systematic (“error”)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7086600" y="13716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45720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RISK =  Systematic RISK     +     non-systematic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5486400"/>
            <a:ext cx="7543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(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 =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x  VAR (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  +   VAR  (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04920"/>
            <a:ext cx="73152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M, Issues and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ll’s cri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2590920"/>
            <a:ext cx="5790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98072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pe Rat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harpe Ratio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:  The tangent portfolio has the maximum Sharp Ratio of any portfolio or stock in the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447920" y="2743200"/>
          <a:ext cx="586728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743200"/>
                    <a:ext cx="586728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arpe’s Ins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body’s portfolio is a combination of the tangent portfolio and the riskless ass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m of everybody’s portfolio of risky assets is the portfolio of all risky assets --- the market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mplies that everybody must be holding the market portfolio 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body holds the same portf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 of everybody’s portfolio is the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rity Market Line and Capital Marke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2082960"/>
            <a:ext cx="914400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5"/>
          <p:cNvSpPr/>
          <p:nvPr/>
        </p:nvSpPr>
        <p:spPr>
          <a:xfrm>
            <a:off x="3492360" y="836640"/>
            <a:ext cx="5651640" cy="0"/>
          </a:xfrm>
          <a:prstGeom prst="line">
            <a:avLst/>
          </a:prstGeom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71280" y="1440"/>
            <a:ext cx="2971800" cy="1089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8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3492360" y="274680"/>
            <a:ext cx="5472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808080"/>
                </a:solidFill>
                <a:latin typeface="Arial"/>
              </a:rPr>
              <a:t>Estimación del beta (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39640" y="141300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Ejemplo: Beta con respecto a índice de mercado IPSA de Co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7" descr="beta copec"/>
          <p:cNvPicPr/>
          <p:nvPr/>
        </p:nvPicPr>
        <p:blipFill>
          <a:blip r:embed="rId2"/>
          <a:stretch/>
        </p:blipFill>
        <p:spPr>
          <a:xfrm>
            <a:off x="1415880" y="1908000"/>
            <a:ext cx="6135840" cy="44895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8"/>
              <p:cNvSpPr txBox="1"/>
              <p:nvPr/>
            </p:nvSpPr>
            <p:spPr>
              <a:xfrm>
                <a:off x="6227640" y="3457440"/>
                <a:ext cx="9399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Text Box 7"/>
          <p:cNvSpPr/>
          <p:nvPr/>
        </p:nvSpPr>
        <p:spPr>
          <a:xfrm>
            <a:off x="539640" y="6086520"/>
            <a:ext cx="799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808080"/>
                </a:solidFill>
                <a:latin typeface="Arial"/>
              </a:rPr>
              <a:t>* Retornos mensuales, estimación a septiembre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95280" y="6477120"/>
            <a:ext cx="828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IN56A – Primavera 2009</a:t>
            </a: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      </a:t>
            </a: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                   Gonzalo Maturana F.</a:t>
            </a: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000" spc="-1" strike="noStrike">
                <a:solidFill>
                  <a:srgbClr val="808080"/>
                </a:solidFill>
                <a:latin typeface="Arial"/>
              </a:rPr>
              <a:t>                 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03280"/>
            <a:ext cx="7848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ngle facto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187280" y="2781360"/>
          <a:ext cx="7201080" cy="37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781360"/>
                    <a:ext cx="720108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04920" y="144792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ngle factor model equation defines a linear fit to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99ff"/>
                </a:solidFill>
                <a:latin typeface="Arial"/>
                <a:ea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e hav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several independent observations of the rate of return and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rror is measured by the vertical distance from a point to the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533520"/>
            <a:ext cx="7391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APM (Capital Asset Pricing Mode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ed by Sharpe, Trey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 contributions by Mossin, Lintner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done in the six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943600" y="3200400"/>
            <a:ext cx="2048040" cy="2895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66680" y="3962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iam Sharpe, Nobel Prize, Economics,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dividual investors are price takers (cannot affect p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ngle-period investment horiz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vestments are limited to traded financial as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o taxes, regulations, short-selling constraints and transaction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formation is costless and available to all inve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vestors are rational mean-variance optimizers (risk averse individu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mogeneous expectations (all investors believe the same about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’s and </a:t>
            </a:r>
            <a:r>
              <a:rPr b="1" lang="el-GR" sz="3200" spc="-1" strike="noStrike">
                <a:solidFill>
                  <a:srgbClr val="000000"/>
                </a:solidFill>
                <a:latin typeface="Verdana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’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vestors can borrow/ lend at 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ssumption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" dur="1" fill="hold"/>
                                  <p:tgtEl>
                                    <p:spTgt spid="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0560" y="13716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9800" y="5492880"/>
            <a:ext cx="4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666880" y="1447920"/>
            <a:ext cx="350496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2666880" y="1827720"/>
            <a:ext cx="3809520" cy="213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219320" y="609120"/>
            <a:ext cx="3657600" cy="266724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914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733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3276720"/>
            <a:ext cx="457200" cy="2209680"/>
          </a:xfrm>
          <a:custGeom>
            <a:avLst/>
            <a:gdLst>
              <a:gd name="textAreaLeft" fmla="*/ 292320 w 457200"/>
              <a:gd name="textAreaRight" fmla="*/ 457560 w 45720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5053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1600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=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3048120"/>
            <a:ext cx="304920" cy="3045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1600200"/>
            <a:ext cx="304920" cy="3049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43434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 Market Line (C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2209320" y="274320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38080" y="838080"/>
            <a:ext cx="7239240" cy="46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(actually, critical) observati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investor puts a fraction of his/her wealth in (i) the risk free asset; and (ii) the tangent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all investors MUST hold the risky asset in the same propo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they MUST hold the same risky (tangent) portfolio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NGENT PORTFOL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4495680"/>
            <a:ext cx="1066680" cy="381240"/>
          </a:xfrm>
          <a:prstGeom prst="rightArrow">
            <a:avLst>
              <a:gd name="adj1" fmla="val 50000"/>
              <a:gd name="adj2" fmla="val 69948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66680" y="838080"/>
            <a:ext cx="716292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arket portfolio (M) is an efficient portf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 portfolio = Tangent portf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ML shows different combinations of the risk-free asset and the market (M) portfolio; investors select a position along the CML line according to risk preferences.  (Passive investment strate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L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209680" y="4495680"/>
                <a:ext cx="510552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</m:e>
                        <m:e>
                          <m:f>
                            <m:num>
                              <m:r>
                                <m:t xml:space="preserve">E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den>
                          </m:f>
                        </m:e>
                      </m:mr>
                    </m:m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66680" y="838080"/>
            <a:ext cx="7696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a given risky (i) security, we have that the return of that security can be written as (CAPM Model, security market lin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492200" y="1779480"/>
                <a:ext cx="6577200" cy="415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</m:e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</m:mr>
                        </m:m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E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e/>
                            <m:e/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lternatively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</m:m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E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e/>
                            <m:e/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</m:e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v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600200"/>
            <a:ext cx="57909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dea is to match the slope of the CML equation at point M, with the slope of the efficient front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20:48:00Z</dcterms:created>
  <dc:creator>VCHARLIN</dc:creator>
  <dc:description/>
  <dc:language>en-US</dc:language>
  <cp:lastModifiedBy>VCHARLIN</cp:lastModifiedBy>
  <dcterms:modified xsi:type="dcterms:W3CDTF">2010-09-02T14:00:50Z</dcterms:modified>
  <cp:revision>142</cp:revision>
  <dc:subject/>
  <dc:title>Slide 1</dc:title>
</cp:coreProperties>
</file>