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jpeg" ContentType="image/jpeg"/>
  <Override PartName="/ppt/media/image5.wmf" ContentType="image/x-wmf"/>
  <Override PartName="/ppt/media/image6.wmf" ContentType="image/x-wmf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BB10E-B596-41F8-AD82-AC95D86C8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C81C7-B5A5-4E36-BB4F-A00B00FD3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3FA92-DEE8-4F6C-BCF2-CFD751DFC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95E79-2E2F-4128-9098-F80BE77C7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57C34-74A8-4FD5-B996-DBA0F6144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83752-728D-4178-AEFC-764A1EF09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D735E-20ED-434C-B5F0-55CD68B08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1A7DB-DC24-4917-8A98-0D87DA8E4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9CDCC-088D-443B-9151-EC99AD5E2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50936-8747-40BC-9061-65A688382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56B16-E25C-432C-9E54-C80938B46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361FF-482D-4792-B548-5CC5CBCEC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10E2A-9EFA-48C6-B7F3-6DD3242BBF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362320"/>
            <a:ext cx="6934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Portfolio Theory &amp; Related Top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1447920" y="1219320"/>
                <a:ext cx="5769000" cy="176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/>
                      <m:e>
                        <m:r>
                          <m:t xml:space="preserve">E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−</m:t>
                        </m:r>
                        <m:m>
                          <m:mr>
                            <m:e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F</m:t>
                                  </m:r>
                                </m:sub>
                              </m:sSub>
                              <m:m>
                                <m:mr>
                                  <m:e/>
                                  <m:e/>
                                </m:mr>
                              </m:m>
                            </m:e>
                            <m:e/>
                            <m:e>
                              <m:sSub>
                                <m:e>
                                  <m:r>
                                    <m:t xml:space="preserve">β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</m:mr>
                        </m:m>
                        <m:m>
                          <m:mr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E</m:t>
                                  </m:r>
                                  <m:r>
                                    <m:t xml:space="preserve">(</m:t>
                                  </m:r>
                                  <m:sSub>
                                    <m:e>
                                      <m:r>
                                        <m:t xml:space="preserve">r</m:t>
                                      </m:r>
                                    </m:e>
                                    <m:sub>
                                      <m:r>
                                        <m:t xml:space="preserve">M</m:t>
                                      </m:r>
                                    </m:sub>
                                  </m:sSub>
                                  <m:r>
                                    <m:t xml:space="preserve">)</m:t>
                                  </m:r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R</m:t>
                                      </m:r>
                                    </m:e>
                                    <m:sub>
                                      <m:r>
                                        <m:t xml:space="preserve">F</m:t>
                                      </m:r>
                                    </m:sub>
                                  </m:sSub>
                                </m:e>
                              </m:d>
                            </m:e>
                            <m:e>
                              <m:r>
                                <m:t xml:space="preserve">+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ε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</m:mr>
                        </m:m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73" name=""/>
          <p:cNvSpPr/>
          <p:nvPr/>
        </p:nvSpPr>
        <p:spPr>
          <a:xfrm>
            <a:off x="1066680" y="68580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ternatively, and more forma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rot="5400000">
            <a:off x="4857480" y="2000160"/>
            <a:ext cx="647640" cy="1828800"/>
          </a:xfrm>
          <a:custGeom>
            <a:avLst/>
            <a:gdLst>
              <a:gd name="textAreaLeft" fmla="*/ 0 w 647640"/>
              <a:gd name="textAreaRight" fmla="*/ 234000 w 64764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638680" y="358128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atic 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5333760" y="312408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19920" y="533520"/>
            <a:ext cx="281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n-systematic (“error”)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7086600" y="1371600"/>
            <a:ext cx="3808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990720" y="4572000"/>
            <a:ext cx="685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TAL RISK =  Systematic RISK     +     non-systematic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914400" y="5486400"/>
            <a:ext cx="75438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AR(r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  =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x  VAR (r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   +   VAR  (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ε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685800" y="304920"/>
            <a:ext cx="7315200" cy="65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PM, Issues and Observ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oma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oll’s criti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62120" y="2590920"/>
            <a:ext cx="5790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1980720" y="1600200"/>
            <a:ext cx="4876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PPENDI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arpe Rat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harpe Ratio 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ct:  The tangent portfolio has the maximum Sharp Ratio of any portfolio or stock in the mark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1447920" y="2743200"/>
          <a:ext cx="5867280" cy="155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2743200"/>
                    <a:ext cx="5867280" cy="15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harpe’s Insigh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wo fa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body’s portfolio is a combination of the tangent portfolio and the riskless asse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um of everybody’s portfolio of risky assets is the portfolio of all risky assets --- the market portfol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mplies that everybody must be holding the market portfolio beca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ybody holds the same portfol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m of everybody’s portfolio is the mark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urity Market Line and Capital Market 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2082960"/>
            <a:ext cx="9144000" cy="37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Line 5"/>
          <p:cNvSpPr/>
          <p:nvPr/>
        </p:nvSpPr>
        <p:spPr>
          <a:xfrm>
            <a:off x="3492360" y="836640"/>
            <a:ext cx="5651640" cy="0"/>
          </a:xfrm>
          <a:prstGeom prst="line">
            <a:avLst/>
          </a:prstGeom>
          <a:ln w="22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6"/>
          <p:cNvSpPr/>
          <p:nvPr/>
        </p:nvSpPr>
        <p:spPr>
          <a:xfrm>
            <a:off x="0" y="6453360"/>
            <a:ext cx="914400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6" descr=""/>
          <p:cNvPicPr/>
          <p:nvPr/>
        </p:nvPicPr>
        <p:blipFill>
          <a:blip r:embed="rId1"/>
          <a:stretch/>
        </p:blipFill>
        <p:spPr>
          <a:xfrm>
            <a:off x="71280" y="1440"/>
            <a:ext cx="2971800" cy="108900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8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9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0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8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2"/>
          <p:cNvSpPr/>
          <p:nvPr/>
        </p:nvSpPr>
        <p:spPr>
          <a:xfrm>
            <a:off x="3492360" y="274680"/>
            <a:ext cx="54723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808080"/>
                </a:solidFill>
                <a:latin typeface="Arial"/>
              </a:rPr>
              <a:t>Estimación del beta (I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539640" y="1413000"/>
            <a:ext cx="79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808080"/>
                </a:solidFill>
                <a:latin typeface="Arial"/>
              </a:rPr>
              <a:t>Ejemplo: Beta con respecto a índice de mercado IPSA de Cope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2"/>
          <p:cNvSpPr/>
          <p:nvPr/>
        </p:nvSpPr>
        <p:spPr>
          <a:xfrm>
            <a:off x="0" y="2228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3"/>
          <p:cNvSpPr/>
          <p:nvPr/>
        </p:nvSpPr>
        <p:spPr>
          <a:xfrm>
            <a:off x="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4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15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17" descr="beta copec"/>
          <p:cNvPicPr/>
          <p:nvPr/>
        </p:nvPicPr>
        <p:blipFill>
          <a:blip r:embed="rId2"/>
          <a:stretch/>
        </p:blipFill>
        <p:spPr>
          <a:xfrm>
            <a:off x="1415880" y="1908000"/>
            <a:ext cx="6135840" cy="448956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19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Object 18"/>
              <p:cNvSpPr txBox="1"/>
              <p:nvPr/>
            </p:nvSpPr>
            <p:spPr>
              <a:xfrm>
                <a:off x="6227640" y="3457440"/>
                <a:ext cx="939960" cy="4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0,7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8" name="Text Box 7"/>
          <p:cNvSpPr/>
          <p:nvPr/>
        </p:nvSpPr>
        <p:spPr>
          <a:xfrm>
            <a:off x="539640" y="6086520"/>
            <a:ext cx="799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* Retornos mensuales, estimación a septiembre 200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395280" y="6477120"/>
            <a:ext cx="828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808080"/>
                </a:solidFill>
                <a:latin typeface="Arial"/>
              </a:rPr>
              <a:t>IN56A – Primavera 2009</a:t>
            </a:r>
            <a:r>
              <a:rPr b="1" lang="es-ES_tradnl" sz="1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es-ES_tradnl" sz="1000" spc="-1" strike="noStrike">
                <a:solidFill>
                  <a:srgbClr val="808080"/>
                </a:solidFill>
                <a:latin typeface="Arial"/>
              </a:rPr>
              <a:t>      </a:t>
            </a:r>
            <a:r>
              <a:rPr b="1" lang="es-ES_tradnl" sz="1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es-ES_tradnl" sz="1000" spc="-1" strike="noStrike">
                <a:solidFill>
                  <a:srgbClr val="808080"/>
                </a:solidFill>
                <a:latin typeface="Arial"/>
              </a:rPr>
              <a:t>                   Gonzalo Maturana F.</a:t>
            </a:r>
            <a:r>
              <a:rPr b="1" lang="es-ES_tradnl" sz="1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es-ES_tradnl" sz="1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es-ES_tradnl" sz="1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es-ES_tradnl" sz="1000" spc="-1" strike="noStrike">
                <a:solidFill>
                  <a:srgbClr val="808080"/>
                </a:solidFill>
                <a:latin typeface="Arial"/>
              </a:rPr>
              <a:t>                  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503280"/>
            <a:ext cx="784872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ingle factor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1187280" y="2781360"/>
          <a:ext cx="7201080" cy="3743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2781360"/>
                    <a:ext cx="7201080" cy="374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"/>
          <p:cNvSpPr/>
          <p:nvPr/>
        </p:nvSpPr>
        <p:spPr>
          <a:xfrm>
            <a:off x="304920" y="1447920"/>
            <a:ext cx="8569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ngle factor model equation defines a linear fit to dat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99ff"/>
                </a:solidFill>
                <a:latin typeface="Arial"/>
                <a:ea typeface="Arial"/>
              </a:rPr>
              <a:t>  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We have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 several independent observations of the rate of return and fa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Error is measured by the vertical distance from a point to the 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838080" y="533520"/>
            <a:ext cx="739152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CAPM (Capital Asset Pricing Model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veloped by Sharpe, Treyn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ter contributions by Mossin, Lintner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l done in the six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943600" y="3200400"/>
            <a:ext cx="2048040" cy="28954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066680" y="39625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lliam Sharpe, Nobel Prize, Economics, 19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Individual investors are price takers (cannot affect pric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ingle-period investment horiz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Investments are limited to traded financial ass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No taxes, regulations, short-selling constraints and transaction co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Assump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be0e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be0e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be0e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4" dur="1" fill="hold"/>
                                  <p:tgtEl>
                                    <p:spTgt spid="4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be0e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Information is costless and available to all inves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Investors are rational mean-variance optimizers (risk averse individual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Homogeneous expectations (all investors believe the same about </a:t>
            </a:r>
            <a:r>
              <a:rPr b="1" i="1" lang="en-US" sz="3200" spc="-1" strike="noStrike">
                <a:solidFill>
                  <a:srgbClr val="000000"/>
                </a:solidFill>
                <a:latin typeface="Verdana"/>
              </a:rPr>
              <a:t>r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’s and </a:t>
            </a:r>
            <a:r>
              <a:rPr b="1" lang="el-GR" sz="3200" spc="-1" strike="noStrike">
                <a:solidFill>
                  <a:srgbClr val="000000"/>
                </a:solidFill>
                <a:latin typeface="Verdana"/>
              </a:rPr>
              <a:t>σ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’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Investors can borrow/ lend at R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Verdana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Assumptions (cont’d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be0e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be0e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be0e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8" dur="1" fill="hold"/>
                                  <p:tgtEl>
                                    <p:spTgt spid="47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be0e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066680" y="5562720"/>
            <a:ext cx="68580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1219320" y="1371240"/>
            <a:ext cx="0" cy="4343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10560" y="1371600"/>
            <a:ext cx="46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59800" y="5492880"/>
            <a:ext cx="49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000000"/>
                </a:solidFill>
                <a:latin typeface="Arial"/>
              </a:rPr>
              <a:t>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2666880" y="1447920"/>
            <a:ext cx="3504960" cy="2894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 flipV="1">
            <a:off x="2666880" y="1827720"/>
            <a:ext cx="3809520" cy="2133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1219320" y="609120"/>
            <a:ext cx="3657600" cy="2667240"/>
          </a:xfrm>
          <a:prstGeom prst="line">
            <a:avLst/>
          </a:prstGeom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91440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8600" y="3733920"/>
            <a:ext cx="83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09480" y="3276720"/>
            <a:ext cx="457200" cy="2209680"/>
          </a:xfrm>
          <a:custGeom>
            <a:avLst/>
            <a:gdLst>
              <a:gd name="textAreaLeft" fmla="*/ 292320 w 457200"/>
              <a:gd name="textAreaRight" fmla="*/ 457560 w 457200"/>
              <a:gd name="textAreaTop" fmla="*/ 57600 h 2209680"/>
              <a:gd name="textAreaBottom" fmla="*/ 2152080 h 2209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3505320" y="18288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419720" y="16002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 = 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066680" y="3048120"/>
            <a:ext cx="304920" cy="304560"/>
          </a:xfrm>
          <a:prstGeom prst="diamond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24080" y="1600200"/>
            <a:ext cx="304920" cy="304920"/>
          </a:xfrm>
          <a:prstGeom prst="diamond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600200" y="4343400"/>
            <a:ext cx="312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pital Market Line (CM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 flipV="1">
            <a:off x="2209320" y="2743200"/>
            <a:ext cx="22860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838080" y="838080"/>
            <a:ext cx="7239240" cy="46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ortant (actually, critical) observation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investor puts a fraction of his/her wealth in (i) the risk free asset; and (ii) the tangent portfol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t, all investors MUST hold the risky asset in the same propor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us, they MUST hold the same risky (tangent) portfolio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NGENT PORTFOLI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IS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RKET PORTFOL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143000" y="4495680"/>
            <a:ext cx="1066680" cy="381240"/>
          </a:xfrm>
          <a:prstGeom prst="rightArrow">
            <a:avLst>
              <a:gd name="adj1" fmla="val 50000"/>
              <a:gd name="adj2" fmla="val 69948"/>
            </a:avLst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066680" y="838080"/>
            <a:ext cx="7162920" cy="40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market portfolio (M) is an efficient portfol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ket portfolio = Tangent portfol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CML shows different combinations of the risk-free asset and the market (M) portfolio; investors select a position along the CML line according to risk preferences.  (Passive investment strateg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ML eq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2209680" y="4495680"/>
                <a:ext cx="5105520" cy="111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m>
                      <m:mr>
                        <m:e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F</m:t>
                              </m:r>
                            </m:sub>
                          </m:sSub>
                        </m:e>
                        <m:e>
                          <m:r>
                            <m:t xml:space="preserve">+</m:t>
                          </m:r>
                        </m:e>
                        <m:e>
                          <m:f>
                            <m:num>
                              <m:r>
                                <m:t xml:space="preserve">E</m:t>
                              </m:r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M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F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σ</m:t>
                                  </m:r>
                                </m:e>
                                <m:sub>
                                  <m:r>
                                    <m:t xml:space="preserve">M</m:t>
                                  </m:r>
                                </m:sub>
                              </m:sSub>
                            </m:den>
                          </m:f>
                        </m:e>
                      </m:mr>
                    </m:m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066680" y="838080"/>
            <a:ext cx="76964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 a given risky (i) security, we have that the return of that security can be written as (CAPM Model, security market lin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1492200" y="1779480"/>
                <a:ext cx="6577200" cy="415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E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m>
                          <m:mr>
                            <m:e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F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+</m:t>
                              </m:r>
                            </m:e>
                            <m:e>
                              <m:f>
                                <m:num>
                                  <m:sSub>
                                    <m:e>
                                      <m:r>
                                        <m:t xml:space="preserve">σ</m:t>
                                      </m:r>
                                    </m:e>
                                    <m:sub>
                                      <m:sSub>
                                        <m:e>
                                          <m:r>
                                            <m:t xml:space="preserve">r</m:t>
                                          </m:r>
                                        </m:e>
                                        <m:sub>
                                          <m:r>
                                            <m:t xml:space="preserve">i</m:t>
                                          </m:r>
                                        </m:sub>
                                      </m:sSub>
                                      <m:r>
                                        <m:t xml:space="preserve">M</m:t>
                                      </m:r>
                                    </m:sub>
                                  </m:sSub>
                                </m:num>
                                <m:den>
                                  <m:sSubSup>
                                    <m:e>
                                      <m:r>
                                        <m:t xml:space="preserve">σ</m:t>
                                      </m:r>
                                    </m:e>
                                    <m:sub>
                                      <m:r>
                                        <m:t xml:space="preserve">M</m:t>
                                      </m:r>
                                    </m:sub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bSup>
                                </m:den>
                              </m:f>
                            </m:e>
                          </m:mr>
                        </m:m>
                        <m:m>
                          <m:mr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E</m:t>
                                  </m:r>
                                  <m:r>
                                    <m:t xml:space="preserve">(</m:t>
                                  </m:r>
                                  <m:sSub>
                                    <m:e>
                                      <m:r>
                                        <m:t xml:space="preserve">r</m:t>
                                      </m:r>
                                    </m:e>
                                    <m:sub>
                                      <m:r>
                                        <m:t xml:space="preserve">M</m:t>
                                      </m:r>
                                    </m:sub>
                                  </m:sSub>
                                  <m:r>
                                    <m:t xml:space="preserve">)</m:t>
                                  </m:r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R</m:t>
                                      </m:r>
                                    </m:e>
                                    <m:sub>
                                      <m:r>
                                        <m:t xml:space="preserve">F</m:t>
                                      </m:r>
                                    </m:sub>
                                  </m:sSub>
                                </m:e>
                              </m:d>
                            </m:e>
                            <m:e/>
                            <m:e/>
                          </m:mr>
                        </m:m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lternatively</m:t>
                        </m:r>
                      </m:e>
                      <m:e>
                        <m:r>
                          <m:t xml:space="preserve">E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m>
                          <m:mr>
                            <m:e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F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+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β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</m:mr>
                        </m:m>
                        <m:m>
                          <m:mr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E</m:t>
                                  </m:r>
                                  <m:r>
                                    <m:t xml:space="preserve">(</m:t>
                                  </m:r>
                                  <m:sSub>
                                    <m:e>
                                      <m:r>
                                        <m:t xml:space="preserve">r</m:t>
                                      </m:r>
                                    </m:e>
                                    <m:sub>
                                      <m:r>
                                        <m:t xml:space="preserve">M</m:t>
                                      </m:r>
                                    </m:sub>
                                  </m:sSub>
                                  <m:r>
                                    <m:t xml:space="preserve">)</m:t>
                                  </m:r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R</m:t>
                                      </m:r>
                                    </m:e>
                                    <m:sub>
                                      <m:r>
                                        <m:t xml:space="preserve">F</m:t>
                                      </m:r>
                                    </m:sub>
                                  </m:sSub>
                                </m:e>
                              </m:d>
                            </m:e>
                            <m:e/>
                            <m:e/>
                          </m:mr>
                        </m:m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where</m:t>
                        </m:r>
                      </m:e>
                      <m:e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M</m:t>
                                </m:r>
                              </m:sub>
                            </m:sSub>
                          </m:num>
                          <m:den>
                            <m:sSubSup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cov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var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600200"/>
            <a:ext cx="579096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idea is to match the slope of the CML equation at point M, with the slope of the efficient front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e No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19T20:48:00Z</dcterms:created>
  <dc:creator>VCHARLIN</dc:creator>
  <dc:description/>
  <dc:language>en-US</dc:language>
  <cp:lastModifiedBy>VCHARLIN</cp:lastModifiedBy>
  <dcterms:modified xsi:type="dcterms:W3CDTF">2010-09-02T14:00:50Z</dcterms:modified>
  <cp:revision>142</cp:revision>
  <dc:subject/>
  <dc:title>Slide 1</dc:title>
</cp:coreProperties>
</file>