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25B9-0A58-41F4-AE05-72E2A561D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1BB4-167E-41F0-84AB-67C94162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45AE-7384-488A-B1F6-47E863FB2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FD65-726C-4454-81E8-17B549AAE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9A69-BD27-423D-995C-6F32B675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3709-C188-4625-A383-6A0C1FE8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DC86-DFC6-46A0-8E37-F3BB0F0F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1B11-334E-48F9-BD89-6F130CC8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5054-AE6C-4C4C-A554-8E1FEE49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8D2F-A9F6-4738-9A71-55B78939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43CE-0111-4A9D-9F51-5EF65D0D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74E9-FB0F-4D06-86EC-441FA4BF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A55F-02F2-4B28-A8EA-E2A251A49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362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ortfolio Theory &amp; Related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7920" y="198108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of 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14400" y="1066680"/>
            <a:ext cx="716292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d if shortselling is NOT allow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would happen to the previous Optimization Probl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676520" y="10666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N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200400" y="609480"/>
                <a:ext cx="274320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ω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σ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ω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762120" y="22860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. 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600200" y="2819520"/>
                <a:ext cx="5943600" cy="21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μ</m:t>
                        </m:r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nd</m:t>
                              </m:r>
                            </m:e>
                          </m:mr>
                        </m:m>
                        <m:m>
                          <m:mr>
                            <m:e/>
                            <m:e>
                              <m:d>
                                <m:dPr>
                                  <m:begChr m:val="⟨"/>
                                  <m:endChr m:val="⟩"/>
                                </m:dPr>
                                <m:e>
                                  <m:r>
                                    <m:t xml:space="preserve">1</m:t>
                                  </m:r>
                                </m:e>
                              </m:d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r>
                                    <m:t xml:space="preserve">ω</m:t>
                                  </m:r>
                                </m:e>
                              </m:d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e>
                            <m:e/>
                          </m:mr>
                        </m:m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lso</m:t>
                              </m:r>
                            </m:e>
                            <m:e/>
                          </m:mr>
                        </m:m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for</m:t>
                              </m:r>
                            </m:e>
                            <m:e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,</m:t>
                              </m:r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457200" y="51055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, we cannot use Lagrange multipliers, this is a quadratic optimization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066680" y="5562720"/>
            <a:ext cx="685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219320" y="137124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0560" y="137160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68080" y="564192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666880" y="1447920"/>
            <a:ext cx="624816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2666880" y="1827720"/>
            <a:ext cx="6248160" cy="213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32767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 variance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2895480" y="2895120"/>
            <a:ext cx="1828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48320" y="5335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icient Front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9907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28195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943600"/>
            <a:ext cx="6781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t us add the risk free (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as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4640" y="472428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4495680"/>
            <a:ext cx="304920" cy="990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219320" y="914400"/>
            <a:ext cx="2743200" cy="35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142280" y="434340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24280" y="20574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ngent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123720" y="213372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22096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14400" y="609480"/>
            <a:ext cx="6095880" cy="40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angent portfolio can be determined noting that if we include the risk free (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asset,  then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- &lt;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{1}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 left to invest in the risk free as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47920" y="342900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  derivatio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066680" y="5562720"/>
            <a:ext cx="685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219320" y="137124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0560" y="137160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68080" y="564192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666880" y="1447920"/>
            <a:ext cx="624816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666880" y="1827720"/>
            <a:ext cx="6248160" cy="213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48320" y="5335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icient Front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9907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4640" y="472428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4495680"/>
            <a:ext cx="304920" cy="990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219320" y="914400"/>
            <a:ext cx="2743200" cy="35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142280" y="434340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24280" y="20574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ngent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123720" y="213372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22096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44956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investing pos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2209320" y="3352680"/>
            <a:ext cx="8384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2743200"/>
            <a:ext cx="152640" cy="152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05320" y="3124080"/>
            <a:ext cx="152280" cy="152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743200"/>
            <a:ext cx="152640" cy="152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91120" y="1752480"/>
            <a:ext cx="152280" cy="152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3124080"/>
            <a:ext cx="152640" cy="152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2590920"/>
            <a:ext cx="152640" cy="152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81480" y="3124080"/>
            <a:ext cx="152640" cy="152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15000" y="3352680"/>
            <a:ext cx="152280" cy="152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3200400"/>
            <a:ext cx="152280" cy="152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72200" y="3429000"/>
            <a:ext cx="152280" cy="152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1828800"/>
            <a:ext cx="152280" cy="152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00800" y="434340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ividual risky as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5943240" y="37335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6324480" y="36576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6857640" y="3505320"/>
            <a:ext cx="3049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066680" y="5562720"/>
            <a:ext cx="685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219320" y="137124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0560" y="137160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68080" y="564192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666880" y="1447920"/>
            <a:ext cx="624816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2666880" y="1827720"/>
            <a:ext cx="6248160" cy="213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48320" y="5335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icient Front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76920" y="9907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4640" y="472428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4495680"/>
            <a:ext cx="304920" cy="990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219320" y="914400"/>
            <a:ext cx="2743200" cy="35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142280" y="434340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24280" y="20574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ngent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123720" y="213372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22096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2209320" y="3352680"/>
            <a:ext cx="129564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352680" y="4114800"/>
                <a:ext cx="403884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m>
                      <m:m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</m:e>
                        <m:e>
                          <m:r>
                            <m:t xml:space="preserve">(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</m:den>
                          </m:f>
                        </m:e>
                      </m:mr>
                    </m:m>
                    <m:r>
                      <m:t xml:space="preserve">)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636480"/>
            <a:ext cx="830592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one–fund theor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utcome of including the risk–free rate into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owitz framework is that when participants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rrow and lend at the risk–free rate, the efficient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now the linear combination of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the tan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fol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“one–fund theorem” says that there exist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 portfolio, T (tangent or market portfolio) of risky assets, such that any efficient portfolio can be constructed as a linear combination of the tangent portfolio and the risk–free asset (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838080" y="53352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owitz approach: main points, issues and general observation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1952640"/>
            <a:ext cx="8001000" cy="51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ersification reduces risk (although NOT all risks can be elimin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ors hold frontier portfol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we include the risk-free asset, optimal portfolios are linear combinations of the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set and the tangent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imating the covariance matrix can be tri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 many entries!!   (1 + 2 + …   + 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0.5 x ( N + N x 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all that the matrix MUST be positive definite (positive eigenvalu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optimal portfolio today might change (not be optimal) in the next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2306880" cy="3276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48320" y="1447920"/>
            <a:ext cx="3581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ry Markowi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bel Prize, Economics, 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219320" y="4724280"/>
          <a:ext cx="6987960" cy="1798920"/>
        </p:xfrm>
        <a:graphic>
          <a:graphicData uri="http://schemas.openxmlformats.org/drawingml/2006/table">
            <a:tbl>
              <a:tblPr/>
              <a:tblGrid>
                <a:gridCol w="3259080"/>
                <a:gridCol w="3456000"/>
                <a:gridCol w="272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erchant of Ven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 ventures are not in one bottom trusted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 to one place; nor is my whole e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4800600" y="304812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Power of Diver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5105520"/>
            <a:ext cx="1523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3657600" y="2209320"/>
            <a:ext cx="13716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52760" y="493560"/>
            <a:ext cx="6241680" cy="42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ting the covariance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challenging issue is to deal with the correlation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all 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Y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838080" y="3657600"/>
                <a:ext cx="7329600" cy="20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ρ</m:t>
                        </m:r>
                        <m:r>
                          <m:t xml:space="preserve">≈</m:t>
                        </m:r>
                        <m:f>
                          <m:num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</m:e>
                                  </m:nary>
                                </m:e>
                                <m:e>
                                  <m:r>
                                    <m:t xml:space="preserve">−</m:t>
                                  </m:r>
                                </m:e>
                                <m:e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nary>
                                        <m:naryPr>
                                          <m:chr m:val="∑"/>
                                          <m:subHide m:val="1"/>
                                          <m:supHide m:val="1"/>
                                        </m:naryPr>
                                        <m:sub/>
                                        <m:sup/>
                                        <m:e>
                                          <m:sSub>
                                            <m:e>
                                              <m:r>
                                                <m:t xml:space="preserve">y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</m:sub>
                                          </m:sSub>
                                        </m:e>
                                      </m:nary>
                                    </m:e>
                                  </m:nary>
                                </m:e>
                              </m:mr>
                            </m:m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m>
                                  <m:mr>
                                    <m:e>
                                      <m:m>
                                        <m:mr>
                                          <m:e>
                                            <m:r>
                                              <m:t xml:space="preserve">[</m:t>
                                            </m:r>
                                            <m:r>
                                              <m:t xml:space="preserve">n</m:t>
                                            </m:r>
                                            <m:nary>
                                              <m:naryPr>
                                                <m:chr m:val="∑"/>
                                                <m:subHide m:val="1"/>
                                                <m:supHide m:val="1"/>
                                              </m:naryPr>
                                              <m:sub/>
                                              <m:sup/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x</m:t>
                                                    </m:r>
                                                  </m:e>
                                                  <m:sub>
                                                    <m:sSup>
                                                      <m:e>
                                                        <m:r>
                                                          <m:t xml:space="preserve">i</m:t>
                                                        </m:r>
                                                      </m:e>
                                                      <m:sup>
                                                        <m:r>
                                                          <m:t xml:space="preserve">2</m:t>
                                                        </m:r>
                                                      </m:sup>
                                                    </m:sSup>
                                                  </m:sub>
                                                </m:sSub>
                                              </m:e>
                                            </m:nary>
                                          </m:e>
                                          <m:e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(</m:t>
                                            </m:r>
                                            <m:nary>
                                              <m:naryPr>
                                                <m:chr m:val="∑"/>
                                                <m:subHide m:val="1"/>
                                                <m:supHide m:val="1"/>
                                              </m:naryPr>
                                              <m:sub/>
                                              <m:sup/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x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i</m:t>
                                                    </m:r>
                                                  </m:sub>
                                                </m:sSub>
                                                <m:sSup>
                                                  <m:e>
                                                    <m:r>
                                                      <m:t xml:space="preserve">)</m:t>
                                                    </m:r>
                                                  </m:e>
                                                  <m:sup>
                                                    <m:r>
                                                      <m:t xml:space="preserve">2</m:t>
                                                    </m:r>
                                                  </m:sup>
                                                </m:sSup>
                                                <m:r>
                                                  <m:t xml:space="preserve">]</m:t>
                                                </m:r>
                                              </m:e>
                                            </m:nary>
                                          </m:e>
                                        </m:mr>
                                      </m:m>
                                    </m:e>
                                    <m:e>
                                      <m:m>
                                        <m:mr>
                                          <m:e>
                                            <m:r>
                                              <m:t xml:space="preserve">[</m:t>
                                            </m:r>
                                            <m:r>
                                              <m:t xml:space="preserve">n</m:t>
                                            </m:r>
                                            <m:nary>
                                              <m:naryPr>
                                                <m:chr m:val="∑"/>
                                                <m:subHide m:val="1"/>
                                                <m:supHide m:val="1"/>
                                              </m:naryPr>
                                              <m:sub/>
                                              <m:sup/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y</m:t>
                                                    </m:r>
                                                  </m:e>
                                                  <m:sub>
                                                    <m:sSup>
                                                      <m:e>
                                                        <m:r>
                                                          <m:t xml:space="preserve">i</m:t>
                                                        </m:r>
                                                      </m:e>
                                                      <m:sup>
                                                        <m:r>
                                                          <m:t xml:space="preserve">2</m:t>
                                                        </m:r>
                                                      </m:sup>
                                                    </m:sSup>
                                                  </m:sub>
                                                </m:sSub>
                                              </m:e>
                                            </m:nary>
                                          </m:e>
                                          <m:e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(</m:t>
                                            </m:r>
                                            <m:nary>
                                              <m:naryPr>
                                                <m:chr m:val="∑"/>
                                                <m:subHide m:val="1"/>
                                                <m:supHide m:val="1"/>
                                              </m:naryPr>
                                              <m:sub/>
                                              <m:sup/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y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i</m:t>
                                                    </m:r>
                                                  </m:sub>
                                                </m:sSub>
                                                <m:sSup>
                                                  <m:e>
                                                    <m:r>
                                                      <m:t xml:space="preserve">)</m:t>
                                                    </m:r>
                                                  </m:e>
                                                  <m:sup>
                                                    <m:r>
                                                      <m:t xml:space="preserve">2</m:t>
                                                    </m:r>
                                                  </m:sup>
                                                </m:sSup>
                                              </m:e>
                                            </m:nary>
                                          </m:e>
                                        </m:mr>
                                      </m:m>
                                    </m:e>
                                  </m:mr>
                                </m:m>
                              </m:e>
                            </m:rad>
                            <m:r>
                              <m:t xml:space="preserve">]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09480" y="380880"/>
            <a:ext cx="5105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alternative to make life easier is to assume, for instanc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295280" y="1211400"/>
                <a:ext cx="7162920" cy="37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/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hings</m:t>
                              </m:r>
                              <m:m>
                                <m:mr>
                                  <m:e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ike</m:t>
                                    </m:r>
                                  </m:e>
                                  <m:e>
                                    <m:eqArr>
                                      <m:e/>
                                      <m:e/>
                                    </m:eqArr>
                                  </m:e>
                                </m:mr>
                              </m:m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m>
                          <m:mr>
                            <m:e/>
                            <m:e/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</m:m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m>
                          <m:mr>
                            <m:e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ndex</m:t>
                              </m:r>
                              <m:sSub>
                                <m:e>
                                  <m:r>
                                    <m:t xml:space="preserve">)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get</m:t>
                              </m:r>
                            </m:e>
                          </m:mr>
                        </m:m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ndex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an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estimate</m:t>
                              </m:r>
                              <m:m>
                                <m:mr>
                                  <m:e/>
                                  <m:e>
                                    <m:sSub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β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  <m:e/>
                                </m:mr>
                              </m:m>
                            </m:e>
                          </m:mr>
                        </m:m>
                        <m:m>
                          <m:mr>
                            <m:e>
                              <m:eqArr>
                                <m:e/>
                                <m:e/>
                              </m:eqAr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we</m:t>
                              </m:r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re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K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s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easy</m:t>
                              </m:r>
                              <m:m>
                                <m:mr>
                                  <m:e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o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stimate</m:t>
                                    </m:r>
                                    <m:m>
                                      <m:mr>
                                        <m:e/>
                                        <m:e>
                                          <m:d>
                                            <m:dPr>
                                              <m:begChr m:val="["/>
                                              <m:endChr m:val="]"/>
                                            </m:dPr>
                                            <m:e>
                                              <m:r>
                                                <m:t xml:space="preserve">σ</m:t>
                                              </m:r>
                                            </m:e>
                                          </m:d>
                                        </m:e>
                                        <m:e>
                                          <m:r>
                                            <m:t xml:space="preserve">(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its</m:t>
                                          </m:r>
                                          <m:m>
                                            <m:mr>
                                              <m:e/>
                                              <m:e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entries</m:t>
                                                </m:r>
                                                <m:r>
                                                  <m:t xml:space="preserve">)</m:t>
                                                </m:r>
                                              </m:e>
                                            </m:mr>
                                          </m:m>
                                        </m:e>
                                      </m:mr>
                                    </m:m>
                                  </m:e>
                                </m:mr>
                              </m:m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1905120" y="54100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lude details (derivation of correlation matrix + other nice propert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5335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owitz contribution, the real thing more formall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752480"/>
            <a:ext cx="7467480" cy="36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we have n assets, whose expected returns will be denoted, for simplicity, as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…,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so, assume we know the full covariance matrix [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.  And let us say that we want to get an expected return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question i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re the weights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such that we get the return we want with minimum ris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76520" y="10666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N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200400" y="609480"/>
                <a:ext cx="274320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ω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σ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ω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762120" y="22860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. 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286000" y="2514600"/>
                <a:ext cx="2709720" cy="34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μ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</m:e>
                      <m:e/>
                      <m:e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533520" y="57150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s us call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 the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solves the minimization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86400" y="335268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he ½  factor is just for convenience, minimizing       ½  Var OR Var is the sa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809520" y="1981080"/>
            <a:ext cx="25146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95280" y="1752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of/ Derivatio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219320" y="1295280"/>
            <a:ext cx="6476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 we can get a general expression (since we know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), for the efficient frontier, that is, 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variance) of the portfolio as a function of the expected portfolio return (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3880" y="2438280"/>
            <a:ext cx="37339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formula, 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5562720"/>
            <a:ext cx="685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219320" y="137124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0560" y="137160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68080" y="564192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666880" y="1447920"/>
            <a:ext cx="624816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2666880" y="1827720"/>
            <a:ext cx="6248160" cy="213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2895480"/>
            <a:ext cx="44956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47242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 variance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209680" y="3124080"/>
            <a:ext cx="3812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48320" y="5335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icient Front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4038120" y="990720"/>
            <a:ext cx="8384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28195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24280" y="19051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mal portfolios (this 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19320" y="1371600"/>
            <a:ext cx="678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we have two portfolios on the efficient frontier (I and II); we will show that any optimal portfolio can be expressed as a combination of these two portfolios.  This result is known as “The Two Fund Theorem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20:48:00Z</dcterms:created>
  <dc:creator>VCHARLIN</dc:creator>
  <dc:description/>
  <dc:language>en-US</dc:language>
  <cp:lastModifiedBy>VCHARLIN</cp:lastModifiedBy>
  <dcterms:modified xsi:type="dcterms:W3CDTF">2010-08-26T13:32:49Z</dcterms:modified>
  <cp:revision>121</cp:revision>
  <dc:subject/>
  <dc:title>Slide 1</dc:title>
</cp:coreProperties>
</file>