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1DE-3CCD-427E-ACF1-2E23C945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F56-127A-460F-9F62-9975D58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F82-45DB-40D1-9BB1-923E8D3F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728-9753-4F6B-92A6-F8B7CE2E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6FF-ACB3-45EB-A519-D7BEF064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0F5-3C5A-4FB7-B516-6A2F70F9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806-F634-4CC8-B5B5-C39FA79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A49-40C5-4461-B8D4-B0830C5B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1D8-6667-48F3-9F59-CBE7DE50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633-99E2-4247-917F-CB078AD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DFE-B490-450D-8D2C-1B26E1A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45C-0544-4C69-AAA4-54AE01A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2FA7-7FD2-4835-B051-5C780DB34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19810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1066680"/>
            <a:ext cx="7162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if shortselling is NOT allow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ould happen to the previous Optimization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819520"/>
                <a:ext cx="59436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lso</m:t>
                              </m:r>
                            </m:e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57200" y="510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we cannot use Lagrange multipliers, this is a quadratic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276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895480" y="28951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678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add the risk free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609480"/>
            <a:ext cx="609588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ngent portfolio can be determined noting that if we include the risk free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sset,  the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- &lt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{1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left to invest in the risk free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 derivatio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vesting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20932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1240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7524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59092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2004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4290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3434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risky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43240" y="37335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3244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57640" y="35053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209320" y="33526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52680" y="4114800"/>
                <a:ext cx="40388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636480"/>
            <a:ext cx="83059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e–fund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come of including the risk–free rate 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framework is that when participan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nd lend at the risk–free rate, the efficien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now the linear combination of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one–fund theorem” says that there exis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rtfolio, T (tangent or market portfolio) of risky assets, such that any efficient portfolio can be constructed as a linear combination of the tangent portfolio and the risk–free asset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witz approach: main points, issues and general observ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52640"/>
            <a:ext cx="8001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fication reduces risk (although NOT all risks can be elimi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hold frontier portfol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include the risk-free asset, optimal portfolios are linear combinations of the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et and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ing the covariance matrix can be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any entries!!   (1 + 2 + …  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5 x ( N + N x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 the matrix MUST be positive definite (positive eigen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ptimal portfolio today might change (not be optimal) in the nex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230688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44792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ry Marko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19320" y="4724280"/>
          <a:ext cx="6987960" cy="1798920"/>
        </p:xfrm>
        <a:graphic>
          <a:graphicData uri="http://schemas.openxmlformats.org/drawingml/2006/table">
            <a:tbl>
              <a:tblPr/>
              <a:tblGrid>
                <a:gridCol w="3259080"/>
                <a:gridCol w="3456000"/>
                <a:gridCol w="27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erchant of Ve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ventures are not in one bottom trust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to one place; nor is my whole e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800600" y="3048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wer of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1055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657600" y="22093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2760" y="493560"/>
            <a:ext cx="62416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hallenging issue is to deal with the correl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38080" y="3657600"/>
                <a:ext cx="732960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≈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nary>
                                </m:e>
                              </m:mr>
                            </m:m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m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rad>
                            <m:r>
                              <m:t xml:space="preserve">]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3808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alternative to make life easier is to assume, for inst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1211400"/>
                <a:ext cx="7162920" cy="37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ings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ke</m:t>
                                    </m:r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ndex</m:t>
                              </m:r>
                              <m:sSub>
                                <m:e>
                                  <m:r>
                                    <m:t xml:space="preserve">)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t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de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stimate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>
                              <m:eqArr>
                                <m:e/>
                                <m:e/>
                              </m:eqAr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e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asy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timate</m:t>
                                    </m:r>
                                    <m:m>
                                      <m:mr>
                                        <m:e/>
                                        <m:e>
                                          <m:d>
                                            <m:dPr>
                                              <m:begChr m:val="["/>
                                              <m:endChr m:val="]"/>
                                            </m:dPr>
                                            <m:e>
                                              <m:r>
                                                <m:t xml:space="preserve">σ</m:t>
                                              </m:r>
                                            </m:e>
                                          </m:d>
                                        </m:e>
                                        <m:e>
                                          <m:r>
                                            <m:t xml:space="preserve">(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ts</m:t>
                                          </m:r>
                                          <m:m>
                                            <m:mr>
                                              <m:e/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entries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05120" y="5410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etails (derivation of correlation matrix + other nice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33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contribution, the real thing more form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46748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n assets, whose expected returns will be denoted, for simplicity, as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assume we know the full covariance matrix [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.  And let us say that we want to get an expected retur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stion 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weights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ch that we get the return we want with minimum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86000" y="2514600"/>
                <a:ext cx="27097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3352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s us call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th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solves the min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352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½  factor is just for convenience, minimizing       ½  Var OR Var is the 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809520" y="19810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752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/ Deriv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295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can get a general expression (since we know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), for the efficient frontier, that is,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ariance) of the portfolio as a function of the expected portfolio return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243828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ormula,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09680" y="312408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038120" y="9907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905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 portfolios (this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13716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two portfolios on the efficient frontier (I and II); we will show that any optimal portfolio can be expressed as a combination of these two portfolios.  This result is known as “The Two Fund Theor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26T13:32:49Z</dcterms:modified>
  <cp:revision>121</cp:revision>
  <dc:subject/>
  <dc:title>Slide 1</dc:title>
</cp:coreProperties>
</file>