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EB4-A0AF-4F8D-8982-3534C171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205-47D5-49C0-A13F-D85371F6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84E-B927-48ED-9C49-9988C2C4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2498-8BFD-4441-B419-78C49AC1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0BB-4A9B-4632-A864-FA48457B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36D-1E53-43BE-85EC-7B5BDF5B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BC1-B810-4EAE-807D-39313D49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413-86EC-40CC-99DA-5566D1E5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3A7-3168-4C27-821A-C63BBD32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6B0-DBED-4C71-AC1D-84071093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ADF-DDA0-4AE3-8663-7878B234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0C8-0AE2-42BF-9980-E0DBC75D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BA2D-92FD-4808-BE33-EF26E963C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19810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of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1066680"/>
            <a:ext cx="71629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if shortselling is NOT allow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ould happen to the previous Optimization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76520" y="1066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00400" y="609480"/>
                <a:ext cx="27432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ω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762120" y="2286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.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600200" y="2819520"/>
                <a:ext cx="5943600" cy="21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lso</m:t>
                              </m:r>
                            </m:e>
                            <m:e/>
                          </m:mr>
                        </m:m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457200" y="5105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we cannot use Lagrange multipliers, this is a quadratic opt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276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varianc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895480" y="289512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819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678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us add the risk free 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609480"/>
            <a:ext cx="609588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ngent portfolio can be determined noting that if we include the risk free 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sset,  then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- &lt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{1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 left to invest in the risk free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 derivatio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4956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investing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20932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7432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31240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7432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17524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124080"/>
            <a:ext cx="15264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259092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3124080"/>
            <a:ext cx="15264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3526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32004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4290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43434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risky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943240" y="37335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63244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57640" y="35053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209320" y="33526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52680" y="4114800"/>
                <a:ext cx="403884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)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636480"/>
            <a:ext cx="830592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ne–fund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come of including the risk–free rate in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witz framework is that when participants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 and lend at the risk–free rate, the efficien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now the linear combination of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tan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one–fund theorem” says that there exist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portfolio, T (tangent or market portfolio) of risky assets, such that any efficient portfolio can be constructed as a linear combination of the tangent portfolio and the risk–free asset 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5335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owitz approach: main points, issues and general observa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952640"/>
            <a:ext cx="800100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rsification reduces risk (although NOT all risks can be elimin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hold frontier portfol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include the risk-free asset, optimal portfolios are linear combinations of the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et and the 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ing the covariance matrix can be tr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 many entries!!   (1 + 2 + …  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.5 x ( N + N x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ll that the matrix MUST be positive definite (positive eigen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ptimal portfolio today might change (not be optimal) in the next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2306880" cy="32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8320" y="1447920"/>
            <a:ext cx="358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ry Markow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bel Prize, Economics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19320" y="4724280"/>
          <a:ext cx="6987960" cy="1798920"/>
        </p:xfrm>
        <a:graphic>
          <a:graphicData uri="http://schemas.openxmlformats.org/drawingml/2006/table">
            <a:tbl>
              <a:tblPr/>
              <a:tblGrid>
                <a:gridCol w="3259080"/>
                <a:gridCol w="3456000"/>
                <a:gridCol w="272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erchant of Ve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ventures are not in one bottom trusted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 to one place; nor is my whole e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800600" y="30481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ower of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510552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3657600" y="220932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2760" y="493560"/>
            <a:ext cx="62416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ng the covarianc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hallenging issue is to deal with the correl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38080" y="3657600"/>
                <a:ext cx="732960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≈</m:t>
                        </m:r>
                        <m:f>
                          <m:num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r>
                                    <m:t xml:space="preserve">−</m:t>
                                  </m:r>
                                </m:e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nary>
                                </m:e>
                              </m:mr>
                            </m:m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m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[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sSup>
                                                      <m:e>
                                                        <m:r>
                                                          <m:t xml:space="preserve">i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  <m:r>
                                                  <m:t xml:space="preserve">]</m:t>
                                                </m:r>
                                              </m:e>
                                            </m:nary>
                                          </m:e>
                                        </m:mr>
                                      </m:m>
                                    </m:e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[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  <m:sub>
                                                    <m:sSup>
                                                      <m:e>
                                                        <m:r>
                                                          <m:t xml:space="preserve">i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</m:e>
                                            </m:nary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rad>
                            <m:r>
                              <m:t xml:space="preserve">]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38088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alternative to make life easier is to assume, for instan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95280" y="1211400"/>
                <a:ext cx="7162920" cy="37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ings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ke</m:t>
                                    </m:r>
                                  </m:e>
                                  <m:e>
                                    <m:eqArr>
                                      <m:e/>
                                      <m:e/>
                                    </m:eqAr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ndex</m:t>
                              </m:r>
                              <m:sSub>
                                <m:e>
                                  <m:r>
                                    <m:t xml:space="preserve">)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et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de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stimate</m:t>
                              </m:r>
                              <m:m>
                                <m:mr>
                                  <m:e/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>
                              <m:eqArr>
                                <m:e/>
                                <m:e/>
                              </m:eqAr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e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asy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stimate</m:t>
                                    </m:r>
                                    <m:m>
                                      <m:mr>
                                        <m:e/>
                                        <m:e>
                                          <m:d>
                                            <m:dPr>
                                              <m:begChr m:val="["/>
                                              <m:endChr m:val="]"/>
                                            </m:dPr>
                                            <m:e>
                                              <m:r>
                                                <m:t xml:space="preserve">σ</m:t>
                                              </m:r>
                                            </m:e>
                                          </m:d>
                                        </m:e>
                                        <m:e>
                                          <m:r>
                                            <m:t xml:space="preserve">(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ts</m:t>
                                          </m:r>
                                          <m:m>
                                            <m:mr>
                                              <m:e/>
                                              <m:e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entries</m:t>
                                                </m:r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905120" y="5410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details (derivation of correlation matrix + other nice proper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533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witz contribution, the real thing more formal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467480" cy="36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n assets, whose expected returns will be denoted, for simplicity, as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, assume we know the full covariance matrix [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.  And let us say that we want to get an expected return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stion 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weights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ch that we get the return we want with minimum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1066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200400" y="609480"/>
                <a:ext cx="27432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ω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762120" y="2286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.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86000" y="2514600"/>
                <a:ext cx="27097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/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33520" y="5715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s us call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th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solves the min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352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½  factor is just for convenience, minimizing       ½  Var OR Var is the s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809520" y="1981080"/>
            <a:ext cx="2514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752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/ Deriv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295280"/>
            <a:ext cx="647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e can get a general expression (since we know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), for the efficient frontier, that is,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ariance) of the portfolio as a function of the expected portfolio return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3880" y="2438280"/>
            <a:ext cx="3733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formula,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89548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472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varianc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209680" y="312408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038120" y="99072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2819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1905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al portfolios (this 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137160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two portfolios on the efficient frontier (I and II); we will show that any optimal portfolio can be expressed as a combination of these two portfolios.  This result is known as “The Two Fund Theor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8-26T13:32:49Z</dcterms:modified>
  <cp:revision>121</cp:revision>
  <dc:subject/>
  <dc:title>Slide 1</dc:title>
</cp:coreProperties>
</file>