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BED4-D836-4284-B971-C181097CA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F62D-BFBD-4660-8983-912E7135B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D79F-45CA-45E4-8CEC-A92985E8F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476E-79A2-40B8-A37E-7BC5EECFE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448C-B150-46FA-8CB8-1B5EB80A0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7724-D8F1-4387-B888-3E221F2B8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E804-3E77-49BA-8A11-96A884EAC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9C54-59F0-4A21-BDF2-2A5CC5C5E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272F-E201-4F70-9CCC-B289DBE9B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A3DA-C94F-4646-B74E-5AA6A07A6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E152-1BCB-403C-AA0E-A3FEFA02A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EFE6-6FBD-4610-9C4C-A2D6DE7F7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70D3-6642-4B56-91E4-7D9A7DEE5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BB8D-8C75-467C-BF39-57AE33E50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41F7-074D-4D38-8D24-0DFACD063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6994-0EBA-4E5B-8CB8-0FFB6F613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F9E8-D79E-4B95-9D71-6282BD25A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26AC-EA79-4C4B-94C9-E68FFFDD3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93B8-152A-42F7-8932-D3F1D6187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3482-951D-4C61-81D7-2776E776D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7A7-46ED-4B4F-A65B-3DD787DA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5F33-FDE6-42D7-9C70-64BC9297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94D-00D9-49E8-B1BC-C0430513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F049-A031-4633-BDD2-56A2821A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177D-585B-45EE-A2FB-4107BC85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55D6-25ED-4440-937C-5281E481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0AA4-95C9-4B8E-ADAE-E9ADB9E1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8D5-98CD-4D9D-93D1-B060E7DE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D0E3-3B42-43C6-A739-75C23CFD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592-A0A4-4E3A-9208-B075E40E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3EDB-9AB9-40A5-A517-7A0B99AB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533-B729-4864-AAF8-6FDEAAA7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A39E-CF0D-4133-9BF8-862A8C352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62120" y="762120"/>
            <a:ext cx="701028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der now a portfolio that is  made up of two risky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l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we know the covariance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=   cov (1, 2) = 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=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 rot="16200000">
            <a:off x="6191280" y="5314680"/>
            <a:ext cx="647640" cy="2057400"/>
          </a:xfrm>
          <a:custGeom>
            <a:avLst/>
            <a:gdLst>
              <a:gd name="textAreaLeft" fmla="*/ 414000 w 647640"/>
              <a:gd name="textAreaRight" fmla="*/ 648000 w 647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781680" y="63244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80880" y="838080"/>
            <a:ext cx="83059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we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=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+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SQRT (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+  2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09480" y="48006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981080" y="4648320"/>
            <a:ext cx="5639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85800" y="4876920"/>
            <a:ext cx="7543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us use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s a parameter, we can call i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simplicity (note tha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 –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  For a given value of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 can calculate  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see what happ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4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8"/>
          <p:cNvSpPr/>
          <p:nvPr/>
        </p:nvSpPr>
        <p:spPr>
          <a:xfrm flipH="1">
            <a:off x="2666160" y="1447920"/>
            <a:ext cx="3124440" cy="144756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9"/>
          <p:cNvSpPr/>
          <p:nvPr/>
        </p:nvSpPr>
        <p:spPr>
          <a:xfrm flipH="1" flipV="1">
            <a:off x="2666160" y="281880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172200" y="2133720"/>
            <a:ext cx="198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n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n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 flipH="1">
            <a:off x="4571640" y="373392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 flipH="1" flipV="1">
            <a:off x="5943600" y="1600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858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given value of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2743200" y="4572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5"/>
          <p:cNvSpPr/>
          <p:nvPr/>
        </p:nvSpPr>
        <p:spPr>
          <a:xfrm flipV="1">
            <a:off x="3276720" y="2057040"/>
            <a:ext cx="4572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bod8237x_0705"/>
          <p:cNvPicPr/>
          <p:nvPr/>
        </p:nvPicPr>
        <p:blipFill>
          <a:blip r:embed="rId1"/>
          <a:stretch/>
        </p:blipFill>
        <p:spPr>
          <a:xfrm>
            <a:off x="914400" y="3808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rc 6"/>
          <p:cNvSpPr/>
          <p:nvPr/>
        </p:nvSpPr>
        <p:spPr>
          <a:xfrm flipH="1">
            <a:off x="2666160" y="1447920"/>
            <a:ext cx="3124440" cy="144756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rc 7"/>
          <p:cNvSpPr/>
          <p:nvPr/>
        </p:nvSpPr>
        <p:spPr>
          <a:xfrm flipH="1" flipV="1">
            <a:off x="2666160" y="281880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172200" y="2133720"/>
            <a:ext cx="198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s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n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>
            <a:off x="4571640" y="373392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H="1" flipV="1">
            <a:off x="5943600" y="1600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858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given value of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2286000" y="4800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est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 flipV="1">
            <a:off x="1981080" y="2895120"/>
            <a:ext cx="685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609480" y="9144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the portfolio (that is, the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  that will minimize the varianc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828800" y="3200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33520" y="220968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438280" y="35812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8"/>
              <p:cNvSpPr txBox="1"/>
              <p:nvPr/>
            </p:nvSpPr>
            <p:spPr>
              <a:xfrm>
                <a:off x="1752480" y="3073320"/>
                <a:ext cx="6477120" cy="23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call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at</m:t>
                              </m:r>
                              <m:m>
                                <m:mr>
                                  <m:e/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ρ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Line 9"/>
          <p:cNvSpPr/>
          <p:nvPr/>
        </p:nvSpPr>
        <p:spPr>
          <a:xfrm>
            <a:off x="1600200" y="266688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447920" y="22860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of  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2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rc 6"/>
          <p:cNvSpPr/>
          <p:nvPr/>
        </p:nvSpPr>
        <p:spPr>
          <a:xfrm flipH="1">
            <a:off x="2666160" y="1447920"/>
            <a:ext cx="3124440" cy="144756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rc 7"/>
          <p:cNvSpPr/>
          <p:nvPr/>
        </p:nvSpPr>
        <p:spPr>
          <a:xfrm flipH="1" flipV="1">
            <a:off x="2666160" y="281880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172200" y="2133720"/>
            <a:ext cx="198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s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n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H="1">
            <a:off x="4571640" y="373392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 flipH="1" flipV="1">
            <a:off x="5943600" y="1600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858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given value of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380880" y="61722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 VARIANCE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 flipV="1">
            <a:off x="1447920" y="2895120"/>
            <a:ext cx="121896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ine 2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6"/>
          <p:cNvSpPr/>
          <p:nvPr/>
        </p:nvSpPr>
        <p:spPr>
          <a:xfrm flipH="1">
            <a:off x="2666160" y="1447920"/>
            <a:ext cx="3124440" cy="144756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7"/>
          <p:cNvSpPr/>
          <p:nvPr/>
        </p:nvSpPr>
        <p:spPr>
          <a:xfrm flipH="1" flipV="1">
            <a:off x="2666160" y="281880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943600" y="1295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380880" y="228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se now we have two risky assets (1 and 2) plus the risk free asset.  Lets us look at possible combinations or portfolio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4"/>
          <p:cNvSpPr/>
          <p:nvPr/>
        </p:nvSpPr>
        <p:spPr>
          <a:xfrm>
            <a:off x="4191120" y="380988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5"/>
          <p:cNvSpPr/>
          <p:nvPr/>
        </p:nvSpPr>
        <p:spPr>
          <a:xfrm>
            <a:off x="1143000" y="419112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6"/>
          <p:cNvSpPr/>
          <p:nvPr/>
        </p:nvSpPr>
        <p:spPr>
          <a:xfrm>
            <a:off x="5715000" y="137160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7"/>
          <p:cNvSpPr/>
          <p:nvPr/>
        </p:nvSpPr>
        <p:spPr>
          <a:xfrm>
            <a:off x="838080" y="42670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80880" y="472428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 flipV="1">
            <a:off x="1295280" y="3429000"/>
            <a:ext cx="6172200" cy="914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4267080" y="4038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670572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V="1">
            <a:off x="1295280" y="1066680"/>
            <a:ext cx="5105520" cy="3200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400800" y="914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 flipV="1">
            <a:off x="1219320" y="1066680"/>
            <a:ext cx="2666880" cy="327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190512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6"/>
          <p:cNvSpPr/>
          <p:nvPr/>
        </p:nvSpPr>
        <p:spPr>
          <a:xfrm>
            <a:off x="2438280" y="21337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762120" y="62485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= optimal risky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rc 6"/>
          <p:cNvSpPr/>
          <p:nvPr/>
        </p:nvSpPr>
        <p:spPr>
          <a:xfrm flipH="1">
            <a:off x="3809160" y="2057400"/>
            <a:ext cx="3124440" cy="144792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rc 7"/>
          <p:cNvSpPr/>
          <p:nvPr/>
        </p:nvSpPr>
        <p:spPr>
          <a:xfrm flipH="1" flipV="1">
            <a:off x="3809160" y="342828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7162920" y="1981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5410080" y="4343400"/>
            <a:ext cx="15264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143000" y="419112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6858000" y="198108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838080" y="42670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380880" y="472428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57913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 flipV="1">
            <a:off x="1219320" y="1294920"/>
            <a:ext cx="5638680" cy="30481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762120" y="62485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= optimal risky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4724280" y="2895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6"/>
          <p:cNvSpPr/>
          <p:nvPr/>
        </p:nvSpPr>
        <p:spPr>
          <a:xfrm flipH="1" flipV="1">
            <a:off x="4495320" y="2590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rc 27"/>
          <p:cNvSpPr/>
          <p:nvPr/>
        </p:nvSpPr>
        <p:spPr>
          <a:xfrm flipV="1">
            <a:off x="1447920" y="2895480"/>
            <a:ext cx="1371600" cy="1067040"/>
          </a:xfrm>
          <a:custGeom>
            <a:avLst/>
            <a:gdLst>
              <a:gd name="textAreaLeft" fmla="*/ 0 w 1371600"/>
              <a:gd name="textAreaRight" fmla="*/ 1371960 w 1371600"/>
              <a:gd name="textAreaTop" fmla="*/ 360 h 1067040"/>
              <a:gd name="textAreaBottom" fmla="*/ 1067760 h 10670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28"/>
          <p:cNvSpPr/>
          <p:nvPr/>
        </p:nvSpPr>
        <p:spPr>
          <a:xfrm flipV="1">
            <a:off x="3276720" y="1218240"/>
            <a:ext cx="3047760" cy="1066680"/>
          </a:xfrm>
          <a:custGeom>
            <a:avLst/>
            <a:gdLst>
              <a:gd name="textAreaLeft" fmla="*/ 0 w 3047760"/>
              <a:gd name="textAreaRight" fmla="*/ 3048120 w 304776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29"/>
          <p:cNvSpPr/>
          <p:nvPr/>
        </p:nvSpPr>
        <p:spPr>
          <a:xfrm flipV="1">
            <a:off x="3809880" y="1523160"/>
            <a:ext cx="1143000" cy="1295640"/>
          </a:xfrm>
          <a:custGeom>
            <a:avLst/>
            <a:gdLst>
              <a:gd name="textAreaLeft" fmla="*/ 0 w 1143000"/>
              <a:gd name="textAreaRight" fmla="*/ 1143360 w 1143000"/>
              <a:gd name="textAreaTop" fmla="*/ -360 h 1295640"/>
              <a:gd name="textAreaBottom" fmla="*/ 1295640 h 129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0"/>
          <p:cNvSpPr/>
          <p:nvPr/>
        </p:nvSpPr>
        <p:spPr>
          <a:xfrm>
            <a:off x="4495680" y="11430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3200400" y="57913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ding          Borrow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1295280" y="457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fference 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3"/>
          <p:cNvSpPr/>
          <p:nvPr/>
        </p:nvSpPr>
        <p:spPr>
          <a:xfrm>
            <a:off x="1981080" y="129528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4"/>
          <p:cNvSpPr/>
          <p:nvPr/>
        </p:nvSpPr>
        <p:spPr>
          <a:xfrm>
            <a:off x="2057400" y="1676520"/>
            <a:ext cx="60948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5"/>
          <p:cNvSpPr/>
          <p:nvPr/>
        </p:nvSpPr>
        <p:spPr>
          <a:xfrm>
            <a:off x="2590920" y="1066680"/>
            <a:ext cx="2209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219320" y="1371600"/>
            <a:ext cx="7467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sk &amp; Retur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unny mix-and-match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question is:  What is the right mix of risk and return (for a given investor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990720" y="914400"/>
            <a:ext cx="7010280" cy="43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in general terms the return of a risky asset (r), that is, an asset whose return is subject to uncertainty, can be written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(r) = 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{ E(r) – 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143000" y="54864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free  rate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Risk Pre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 flipV="1">
            <a:off x="1981080" y="3504960"/>
            <a:ext cx="7621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 flipH="1" flipV="1">
            <a:off x="4724280" y="4266720"/>
            <a:ext cx="609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 rot="16200000">
            <a:off x="4476600" y="2914560"/>
            <a:ext cx="495360" cy="1981080"/>
          </a:xfrm>
          <a:custGeom>
            <a:avLst/>
            <a:gdLst>
              <a:gd name="textAreaLeft" fmla="*/ 316440 w 495360"/>
              <a:gd name="textAreaRight" fmla="*/ 495720 w 4953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09480" y="685800"/>
            <a:ext cx="800100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a portfolio P made up of two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isk free asset (return =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isky asset (return =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781680" y="2057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2600280" y="3505320"/>
                <a:ext cx="5392800" cy="26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r</m:t>
                        </m:r>
                        <m:m>
                          <m:mr>
                            <m:e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  <m:m>
                          <m:mr>
                            <m:e/>
                            <m:e/>
                          </m:mr>
                        </m:m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t xml:space="preserve">ωr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</m:e>
                          </m:mr>
                        </m:m>
                        <m:m>
                          <m:mr>
                            <m:e/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t xml:space="preserve">ωE</m:t>
                              </m:r>
                              <m:r>
                                <m:t xml:space="preserve">(</m:t>
                              </m:r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</m:e>
                          </m:mr>
                        </m:m>
                        <m:m>
                          <m:mr>
                            <m:e/>
                            <m:e>
                              <m:r>
                                <m:t xml:space="preserve">ω</m:t>
                              </m:r>
                              <m:r>
                                <m:t xml:space="preserve">(</m:t>
                              </m:r>
                              <m:r>
                                <m:t xml:space="preserve">E</m:t>
                              </m:r>
                              <m:r>
                                <m:t xml:space="preserve">(</m:t>
                              </m:r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" name="Line 7"/>
          <p:cNvSpPr/>
          <p:nvPr/>
        </p:nvSpPr>
        <p:spPr>
          <a:xfrm flipH="1">
            <a:off x="4038480" y="2362320"/>
            <a:ext cx="2743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 rot="16200000">
            <a:off x="3848040" y="2095200"/>
            <a:ext cx="380880" cy="2590920"/>
          </a:xfrm>
          <a:custGeom>
            <a:avLst/>
            <a:gdLst>
              <a:gd name="textAreaLeft" fmla="*/ 0 w 380880"/>
              <a:gd name="textAreaRight" fmla="*/ 137520 w 38088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1752480" y="533520"/>
                <a:ext cx="5791320" cy="45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oting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at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m>
                                <m:mr>
                                  <m:e>
                                    <m:r>
                                      <m:t xml:space="preserve">P</m:t>
                                    </m:r>
                                    <m:m>
                                      <m:mr>
                                        <m:e/>
                                        <m:e>
                                          <m:sSup>
                                            <m:e>
                                              <m:r>
                                                <m:t xml:space="preserve">ω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e>
                                      </m:mr>
                                    </m:m>
                                  </m:e>
                                  <m:e>
                                    <m:m>
                                      <m:m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Var</m:t>
                                          </m:r>
                                          <m:m>
                                            <m:m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e>
                                                <m:eqArr>
                                                  <m:e/>
                                                  <m:e/>
                                                </m:eqArr>
                                              </m:e>
                                            </m:mr>
                                          </m:m>
                                        </m:e>
                                        <m:e>
                                          <m:eqArr>
                                            <m:e/>
                                            <m:e/>
                                          </m:eqArr>
                                        </m:e>
                                      </m:mr>
                                    </m:m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ω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  <m:m>
                          <m:mr>
                            <m:e/>
                            <m:e/>
                            <m:e>
                              <m:eqArr>
                                <m:e/>
                                <m:e/>
                              </m:eqArr>
                            </m:e>
                          </m:mr>
                        </m:m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m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E</m:t>
                              </m:r>
                              <m:r>
                                <m:t xml:space="preserve">(</m:t>
                              </m:r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ally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m>
                          <m:m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f>
                                    <m:num>
                                      <m:r>
                                        <m:t xml:space="preserve">E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F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</m:e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  <m:e/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2057400" y="-304920"/>
                <a:ext cx="3895560" cy="17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  <m:e>
                              <m:eqArr>
                                <m:e/>
                                <m:e/>
                              </m:eqArr>
                            </m:e>
                          </m:mr>
                        </m:m>
                      </m:e>
                      <m:e/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m>
                          <m:m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f>
                                    <m:num>
                                      <m:r>
                                        <m:t xml:space="preserve">E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F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</m:e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  <m:e/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" name="Text Box 3"/>
          <p:cNvSpPr/>
          <p:nvPr/>
        </p:nvSpPr>
        <p:spPr>
          <a:xfrm>
            <a:off x="4114800" y="45720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APITAL ALLOCATIO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143000" y="594360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1371600" y="2438280"/>
            <a:ext cx="0" cy="3733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V="1">
            <a:off x="1371600" y="2209320"/>
            <a:ext cx="541008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7"/>
              <p:cNvSpPr txBox="1"/>
              <p:nvPr/>
            </p:nvSpPr>
            <p:spPr>
              <a:xfrm>
                <a:off x="7238880" y="5943600"/>
                <a:ext cx="6746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Text Box 8"/>
          <p:cNvSpPr/>
          <p:nvPr/>
        </p:nvSpPr>
        <p:spPr>
          <a:xfrm>
            <a:off x="152280" y="2133720"/>
            <a:ext cx="1524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04920" y="5105520"/>
            <a:ext cx="1523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990720" y="48769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2"/>
          <p:cNvSpPr/>
          <p:nvPr/>
        </p:nvSpPr>
        <p:spPr>
          <a:xfrm flipH="1" flipV="1">
            <a:off x="4266720" y="365724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3"/>
          <p:cNvSpPr/>
          <p:nvPr/>
        </p:nvSpPr>
        <p:spPr>
          <a:xfrm rot="16200000">
            <a:off x="5181480" y="2057040"/>
            <a:ext cx="762120" cy="152388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410080" y="3200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5"/>
          <p:cNvSpPr/>
          <p:nvPr/>
        </p:nvSpPr>
        <p:spPr>
          <a:xfrm rot="16200000">
            <a:off x="4038480" y="1066680"/>
            <a:ext cx="380880" cy="1447560"/>
          </a:xfrm>
          <a:custGeom>
            <a:avLst/>
            <a:gdLst>
              <a:gd name="textAreaLeft" fmla="*/ 243360 w 380880"/>
              <a:gd name="textAreaRight" fmla="*/ 381240 w 3808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3733920" y="2133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7"/>
          <p:cNvSpPr/>
          <p:nvPr/>
        </p:nvSpPr>
        <p:spPr>
          <a:xfrm>
            <a:off x="4572000" y="228600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9"/>
              <p:cNvSpPr txBox="1"/>
              <p:nvPr/>
            </p:nvSpPr>
            <p:spPr>
              <a:xfrm>
                <a:off x="3657600" y="5943600"/>
                <a:ext cx="4986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" name="Line 20"/>
          <p:cNvSpPr/>
          <p:nvPr/>
        </p:nvSpPr>
        <p:spPr>
          <a:xfrm>
            <a:off x="380988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1"/>
          <p:cNvSpPr/>
          <p:nvPr/>
        </p:nvSpPr>
        <p:spPr>
          <a:xfrm>
            <a:off x="914400" y="3657600"/>
            <a:ext cx="3124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609480" y="37339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2000" y="328680"/>
            <a:ext cx="4964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ty Fun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391520" cy="36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ut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 ( r 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expected retur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coefficient of risk aver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variance of retu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4"/>
          <p:cNvGraphicFramePr/>
          <p:nvPr/>
        </p:nvGraphicFramePr>
        <p:xfrm>
          <a:off x="3733920" y="1371600"/>
          <a:ext cx="3733560" cy="13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371600"/>
                    <a:ext cx="373356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720" y="53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ty as a Function of Allocation to the Risky Asset,            and  A=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bod8237x_0606"/>
          <p:cNvPicPr/>
          <p:nvPr/>
        </p:nvPicPr>
        <p:blipFill>
          <a:blip r:embed="rId1"/>
          <a:stretch/>
        </p:blipFill>
        <p:spPr>
          <a:xfrm>
            <a:off x="1314360" y="1390680"/>
            <a:ext cx="6639120" cy="4410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4724280" y="685800"/>
                <a:ext cx="685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720" y="53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nding the Optimal Complete Portfolio Using Indifference Curve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bod8237x_0608"/>
          <p:cNvPicPr/>
          <p:nvPr/>
        </p:nvPicPr>
        <p:blipFill>
          <a:blip r:embed="rId1"/>
          <a:stretch/>
        </p:blipFill>
        <p:spPr>
          <a:xfrm>
            <a:off x="1847880" y="1238400"/>
            <a:ext cx="5173560" cy="4754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...............</cp:lastModifiedBy>
  <dcterms:modified xsi:type="dcterms:W3CDTF">2010-08-20T19:05:48Z</dcterms:modified>
  <cp:revision>86</cp:revision>
  <dc:subject/>
  <dc:title>Slide 1</dc:title>
</cp:coreProperties>
</file>