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A7EB-CE01-4AC3-9D8F-85D217496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41F9-91A8-4ED1-B8E0-FDC69103C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D520-CC4F-417A-B680-ABCB704B5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1B43-EEEC-4792-90C1-8D45C1F50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1A49-2A2B-4B18-90A2-4D3D30D55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B48F-5443-45F8-A30E-3F0D3C295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79AB-6946-4AA8-A8F4-55F2C3EE7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7C6A-A511-4505-BD1A-AFCE4FCAF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15F0-A173-49C6-AFD5-8821FF78C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BB49-52C5-45F5-A168-A82BBE4B2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AE5E-5C01-43FD-AFA6-505B3761C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DAEE-E3C5-401E-9C16-31B78CC9D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FF59-2859-4B94-8A3D-633909B7A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196B-B9C7-4004-AA12-26AA95EAE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D47A-6AFB-4996-9491-AB8D27425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3AFE-CBC6-4D20-A4C9-FBF5BE2DB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B3FE-759B-4F6D-ACF0-7E4278D5D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5883-0988-4476-B7C1-22903E08B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B013-88DE-4619-84AB-CFB4D2FB7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8D4F-4793-478D-A221-820F9873C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553-7884-4469-98EE-1BFBBB1D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D84F-646A-4703-A344-CB0A2953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C7E-B78A-4542-B447-7411854D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011-FB18-4821-B389-342DD0C1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27B-51FE-4FCF-89BF-C751FB4F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325-CC8F-426A-9FE8-2337F960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FB9-577E-4221-A5AD-61C66F1F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928-64B8-4778-A135-0376E930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015-5CCC-480A-B9AE-8D77E695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92A-B301-4467-BE05-71E73BEA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51E-5B6B-440E-ACDB-C4AF59CF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A9F-27EA-4921-AE41-F0878A3B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CA46-719E-4E35-BF8B-B17A0C32C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62120" y="762120"/>
            <a:ext cx="701028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der now a portfolio that is  made up of two risky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l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we know the covariance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=   cov (1, 2) =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=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 rot="16200000">
            <a:off x="6191280" y="5314680"/>
            <a:ext cx="647640" cy="2057400"/>
          </a:xfrm>
          <a:custGeom>
            <a:avLst/>
            <a:gdLst>
              <a:gd name="textAreaLeft" fmla="*/ 414000 w 647640"/>
              <a:gd name="textAreaRight" fmla="*/ 648000 w 647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781680" y="63244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80880" y="838080"/>
            <a:ext cx="8305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we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=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SQRT (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+  2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09480" y="48006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981080" y="4648320"/>
            <a:ext cx="5639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85800" y="4876920"/>
            <a:ext cx="7543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us us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a parameter, we can call i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simplicity (note tha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 –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  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 can calculate  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see what happ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4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8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9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172200" y="213372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4571640" y="37339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 flipH="1" flipV="1">
            <a:off x="5943600" y="1600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858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743200" y="4572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 flipV="1">
            <a:off x="3276720" y="2057040"/>
            <a:ext cx="4572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bod8237x_0705"/>
          <p:cNvPicPr/>
          <p:nvPr/>
        </p:nvPicPr>
        <p:blipFill>
          <a:blip r:embed="rId1"/>
          <a:stretch/>
        </p:blipFill>
        <p:spPr>
          <a:xfrm>
            <a:off x="914400" y="3808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 6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rc 7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172200" y="213372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s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4571640" y="37339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H="1" flipV="1">
            <a:off x="5943600" y="1600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858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286000" y="4800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 flipV="1">
            <a:off x="1981080" y="2895120"/>
            <a:ext cx="685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609480" y="914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the portfolio (that is, the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  that will minimize the varian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828800" y="3200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33520" y="22096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438280" y="35812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8"/>
              <p:cNvSpPr txBox="1"/>
              <p:nvPr/>
            </p:nvSpPr>
            <p:spPr>
              <a:xfrm>
                <a:off x="1752480" y="3073320"/>
                <a:ext cx="6477120" cy="23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call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at</m:t>
                              </m:r>
                              <m:m>
                                <m:mr>
                                  <m:e/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Line 9"/>
          <p:cNvSpPr/>
          <p:nvPr/>
        </p:nvSpPr>
        <p:spPr>
          <a:xfrm>
            <a:off x="1600200" y="266688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447920" y="2286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of 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rc 6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rc 7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172200" y="213372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s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H="1">
            <a:off x="4571640" y="37339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 flipH="1" flipV="1">
            <a:off x="5943600" y="1600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858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80880" y="61722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 VARIANC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 flipV="1">
            <a:off x="1447920" y="2895120"/>
            <a:ext cx="121896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6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7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943600" y="1295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80880" y="228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se now we have two risky assets (1 and 2) plus the risk free asset.  Lets us look at possible combinations or portfolio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4"/>
          <p:cNvSpPr/>
          <p:nvPr/>
        </p:nvSpPr>
        <p:spPr>
          <a:xfrm>
            <a:off x="4191120" y="380988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>
            <a:off x="1143000" y="419112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5715000" y="137160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7"/>
          <p:cNvSpPr/>
          <p:nvPr/>
        </p:nvSpPr>
        <p:spPr>
          <a:xfrm>
            <a:off x="838080" y="42670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80880" y="472428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 flipV="1">
            <a:off x="1295280" y="3429000"/>
            <a:ext cx="617220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426708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67057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V="1">
            <a:off x="1295280" y="1066680"/>
            <a:ext cx="5105520" cy="320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40080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 flipV="1">
            <a:off x="1219320" y="1066680"/>
            <a:ext cx="2666880" cy="327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19051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2438280" y="21337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762120" y="62485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= optimal risky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rc 6"/>
          <p:cNvSpPr/>
          <p:nvPr/>
        </p:nvSpPr>
        <p:spPr>
          <a:xfrm flipH="1">
            <a:off x="3809160" y="2057400"/>
            <a:ext cx="3124440" cy="144792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rc 7"/>
          <p:cNvSpPr/>
          <p:nvPr/>
        </p:nvSpPr>
        <p:spPr>
          <a:xfrm flipH="1" flipV="1">
            <a:off x="3809160" y="342828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7162920" y="1981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5410080" y="4343400"/>
            <a:ext cx="15264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143000" y="419112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6858000" y="198108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838080" y="42670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380880" y="472428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57913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V="1">
            <a:off x="1219320" y="1294920"/>
            <a:ext cx="5638680" cy="30481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762120" y="62485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= optimal risky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4724280" y="2895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6"/>
          <p:cNvSpPr/>
          <p:nvPr/>
        </p:nvSpPr>
        <p:spPr>
          <a:xfrm flipH="1" flipV="1">
            <a:off x="4495320" y="2590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27"/>
          <p:cNvSpPr/>
          <p:nvPr/>
        </p:nvSpPr>
        <p:spPr>
          <a:xfrm flipV="1">
            <a:off x="1447920" y="2895480"/>
            <a:ext cx="1371600" cy="1067040"/>
          </a:xfrm>
          <a:custGeom>
            <a:avLst/>
            <a:gdLst>
              <a:gd name="textAreaLeft" fmla="*/ 0 w 1371600"/>
              <a:gd name="textAreaRight" fmla="*/ 1371960 w 1371600"/>
              <a:gd name="textAreaTop" fmla="*/ 360 h 1067040"/>
              <a:gd name="textAreaBottom" fmla="*/ 1067760 h 1067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28"/>
          <p:cNvSpPr/>
          <p:nvPr/>
        </p:nvSpPr>
        <p:spPr>
          <a:xfrm flipV="1">
            <a:off x="3276720" y="1218240"/>
            <a:ext cx="3047760" cy="1066680"/>
          </a:xfrm>
          <a:custGeom>
            <a:avLst/>
            <a:gdLst>
              <a:gd name="textAreaLeft" fmla="*/ 0 w 3047760"/>
              <a:gd name="textAreaRight" fmla="*/ 3048120 w 304776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29"/>
          <p:cNvSpPr/>
          <p:nvPr/>
        </p:nvSpPr>
        <p:spPr>
          <a:xfrm flipV="1">
            <a:off x="3809880" y="1523160"/>
            <a:ext cx="1143000" cy="1295640"/>
          </a:xfrm>
          <a:custGeom>
            <a:avLst/>
            <a:gdLst>
              <a:gd name="textAreaLeft" fmla="*/ 0 w 1143000"/>
              <a:gd name="textAreaRight" fmla="*/ 1143360 w 1143000"/>
              <a:gd name="textAreaTop" fmla="*/ -360 h 1295640"/>
              <a:gd name="textAreaBottom" fmla="*/ 1295640 h 129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0"/>
          <p:cNvSpPr/>
          <p:nvPr/>
        </p:nvSpPr>
        <p:spPr>
          <a:xfrm>
            <a:off x="4495680" y="11430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3200400" y="57913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ding          Borrow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1295280" y="457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fference 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3"/>
          <p:cNvSpPr/>
          <p:nvPr/>
        </p:nvSpPr>
        <p:spPr>
          <a:xfrm>
            <a:off x="1981080" y="129528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4"/>
          <p:cNvSpPr/>
          <p:nvPr/>
        </p:nvSpPr>
        <p:spPr>
          <a:xfrm>
            <a:off x="2057400" y="1676520"/>
            <a:ext cx="6094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5"/>
          <p:cNvSpPr/>
          <p:nvPr/>
        </p:nvSpPr>
        <p:spPr>
          <a:xfrm>
            <a:off x="2590920" y="106668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219320" y="1371600"/>
            <a:ext cx="7467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k &amp; Retur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unny mix-and-match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question is:  What is the right mix of risk and return (for a given investor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990720" y="914400"/>
            <a:ext cx="7010280" cy="43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in general terms the return of a risky asset (r), that is, an asset whose return is subject to uncertainty, can be written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(r) = 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{ E(r) – 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143000" y="54864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free  rate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isk 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 flipV="1">
            <a:off x="1981080" y="3504960"/>
            <a:ext cx="7621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 flipH="1" flipV="1">
            <a:off x="4724280" y="4266720"/>
            <a:ext cx="609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 rot="16200000">
            <a:off x="4476600" y="2914560"/>
            <a:ext cx="495360" cy="1981080"/>
          </a:xfrm>
          <a:custGeom>
            <a:avLst/>
            <a:gdLst>
              <a:gd name="textAreaLeft" fmla="*/ 316440 w 495360"/>
              <a:gd name="textAreaRight" fmla="*/ 495720 w 4953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09480" y="685800"/>
            <a:ext cx="800100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a portfolio P made up of two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isk free asset (return =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isky asset (return =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781680" y="2057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2600280" y="3505320"/>
                <a:ext cx="5392800" cy="26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r</m:t>
                        </m:r>
                        <m:m>
                          <m:mr>
                            <m:e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t xml:space="preserve">ωr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</m:e>
                          </m:mr>
                        </m:m>
                        <m:m>
                          <m:mr>
                            <m:e/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t xml:space="preserve">ωE</m:t>
                              </m:r>
                              <m:r>
                                <m:t xml:space="preserve">(</m:t>
                              </m:r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</m:mr>
                        </m:m>
                        <m:m>
                          <m:mr>
                            <m:e/>
                            <m:e>
                              <m:r>
                                <m:t xml:space="preserve">ω</m:t>
                              </m:r>
                              <m:r>
                                <m:t xml:space="preserve">(</m:t>
                              </m:r>
                              <m:r>
                                <m:t xml:space="preserve">E</m:t>
                              </m:r>
                              <m:r>
                                <m:t xml:space="preserve">(</m:t>
                              </m:r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Line 7"/>
          <p:cNvSpPr/>
          <p:nvPr/>
        </p:nvSpPr>
        <p:spPr>
          <a:xfrm flipH="1">
            <a:off x="4038480" y="2362320"/>
            <a:ext cx="2743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 rot="16200000">
            <a:off x="3848040" y="2095200"/>
            <a:ext cx="380880" cy="2590920"/>
          </a:xfrm>
          <a:custGeom>
            <a:avLst/>
            <a:gdLst>
              <a:gd name="textAreaLeft" fmla="*/ 0 w 380880"/>
              <a:gd name="textAreaRight" fmla="*/ 137520 w 38088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1752480" y="533520"/>
                <a:ext cx="5791320" cy="45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ting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at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m>
                                <m:mr>
                                  <m:e>
                                    <m:r>
                                      <m:t xml:space="preserve">P</m:t>
                                    </m:r>
                                    <m:m>
                                      <m:mr>
                                        <m:e/>
                                        <m:e>
                                          <m:sSup>
                                            <m:e>
                                              <m:r>
                                                <m:t xml:space="preserve">ω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e>
                                      </m:mr>
                                    </m:m>
                                  </m:e>
                                  <m:e>
                                    <m:m>
                                      <m:m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Var</m:t>
                                          </m:r>
                                          <m:m>
                                            <m:m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e>
                                                <m:eqArr>
                                                  <m:e/>
                                                  <m:e/>
                                                </m:eqArr>
                                              </m:e>
                                            </m:mr>
                                          </m:m>
                                        </m:e>
                                        <m:e>
                                          <m:eqArr>
                                            <m:e/>
                                            <m:e/>
                                          </m:eqArr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ω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  <m:m>
                          <m:mr>
                            <m:e/>
                            <m:e/>
                            <m:e>
                              <m:eqArr>
                                <m:e/>
                                <m:e/>
                              </m:eqArr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E</m:t>
                              </m:r>
                              <m:r>
                                <m:t xml:space="preserve">(</m:t>
                              </m:r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ally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m>
                          <m:m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f>
                                    <m:num>
                                      <m:r>
                                        <m:t xml:space="preserve">E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2057400" y="-304920"/>
                <a:ext cx="389556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  <m:e>
                              <m:eqArr>
                                <m:e/>
                                <m:e/>
                              </m:eqArr>
                            </m:e>
                          </m:mr>
                        </m:m>
                      </m:e>
                      <m:e/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m>
                          <m:m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f>
                                    <m:num>
                                      <m:r>
                                        <m:t xml:space="preserve">E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" name="Text Box 3"/>
          <p:cNvSpPr/>
          <p:nvPr/>
        </p:nvSpPr>
        <p:spPr>
          <a:xfrm>
            <a:off x="4114800" y="45720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PITAL ALLOCATIO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143000" y="594360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371600" y="2438280"/>
            <a:ext cx="0" cy="3733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V="1">
            <a:off x="1371600" y="2209320"/>
            <a:ext cx="54100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7238880" y="5943600"/>
                <a:ext cx="6746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152280" y="2133720"/>
            <a:ext cx="1524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04920" y="5105520"/>
            <a:ext cx="1523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990720" y="48769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"/>
          <p:cNvSpPr/>
          <p:nvPr/>
        </p:nvSpPr>
        <p:spPr>
          <a:xfrm flipH="1" flipV="1">
            <a:off x="4266720" y="365724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 rot="16200000">
            <a:off x="5181480" y="2057040"/>
            <a:ext cx="762120" cy="152388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41008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 rot="16200000">
            <a:off x="4038480" y="1066680"/>
            <a:ext cx="380880" cy="1447560"/>
          </a:xfrm>
          <a:custGeom>
            <a:avLst/>
            <a:gdLst>
              <a:gd name="textAreaLeft" fmla="*/ 243360 w 380880"/>
              <a:gd name="textAreaRight" fmla="*/ 381240 w 3808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733920" y="2133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7"/>
          <p:cNvSpPr/>
          <p:nvPr/>
        </p:nvSpPr>
        <p:spPr>
          <a:xfrm>
            <a:off x="4572000" y="228600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9"/>
              <p:cNvSpPr txBox="1"/>
              <p:nvPr/>
            </p:nvSpPr>
            <p:spPr>
              <a:xfrm>
                <a:off x="3657600" y="5943600"/>
                <a:ext cx="4986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" name="Line 20"/>
          <p:cNvSpPr/>
          <p:nvPr/>
        </p:nvSpPr>
        <p:spPr>
          <a:xfrm>
            <a:off x="380988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1"/>
          <p:cNvSpPr/>
          <p:nvPr/>
        </p:nvSpPr>
        <p:spPr>
          <a:xfrm>
            <a:off x="914400" y="3657600"/>
            <a:ext cx="3124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609480" y="37339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2000" y="328680"/>
            <a:ext cx="4964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391520" cy="36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ut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 ( r 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expected retur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coefficient of risk aver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variance of retu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3733920" y="1371600"/>
          <a:ext cx="3733560" cy="13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371600"/>
                    <a:ext cx="373356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ty as a Function of Allocation to the Risky Asset,            and  A=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bod8237x_0606"/>
          <p:cNvPicPr/>
          <p:nvPr/>
        </p:nvPicPr>
        <p:blipFill>
          <a:blip r:embed="rId1"/>
          <a:stretch/>
        </p:blipFill>
        <p:spPr>
          <a:xfrm>
            <a:off x="1314360" y="1390680"/>
            <a:ext cx="6639120" cy="441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4724280" y="685800"/>
                <a:ext cx="685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nding the Optimal Complete Portfolio Using Indifference Curve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bod8237x_0608"/>
          <p:cNvPicPr/>
          <p:nvPr/>
        </p:nvPicPr>
        <p:blipFill>
          <a:blip r:embed="rId1"/>
          <a:stretch/>
        </p:blipFill>
        <p:spPr>
          <a:xfrm>
            <a:off x="1847880" y="1238400"/>
            <a:ext cx="5173560" cy="475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...............</cp:lastModifiedBy>
  <dcterms:modified xsi:type="dcterms:W3CDTF">2010-08-20T19:05:48Z</dcterms:modified>
  <cp:revision>86</cp:revision>
  <dc:subject/>
  <dc:title>Slide 1</dc:title>
</cp:coreProperties>
</file>