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70C3-5E17-4D9C-8AE7-0D71A6626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7775-1EE7-4232-8F1A-AD3B1C996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A821-53C5-4A38-837B-71CBD68F5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B9D2-94E9-4B81-8D8F-2E43309C0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4779-BB48-454A-A34E-1CD31F2B3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99AD-0141-421E-98ED-00BFF4023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0209-E3AE-4794-BBBB-ECD37044B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2B72-C3C4-47B9-99FB-177C443B5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12DA-9778-4E4D-AB55-E6B29E677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0F88-DBE0-47CC-BE12-2ED3CFAAE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FB88-3101-4AED-AD1B-34DD0AD1F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4BF4-15DC-42B1-B201-E6F63A35C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D4E4-5CDD-49E0-9967-3AC2B8C1D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9444-C7FF-475D-BA46-A8A10C16D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20B8-1585-48F7-BD51-D73867BC4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BE77-5E2A-46E9-8817-A6846F029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58AB-CFCA-44EE-A8EB-104AD9F97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653C-2E8D-4594-AC78-24A917423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E01E-CFD7-4BFF-8241-1B3C39030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5408-72B3-4313-9442-B42033C96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D3AD-6419-4C93-BD5D-329CE896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87B6-FF63-4B35-8233-2663C7E3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C16B-CBFF-4B09-82DD-0CDB12655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3EA0-2518-438D-9701-AE40FED21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F98B-02F4-49B0-9612-ECBEA91D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B6E7-3F8E-4741-B97E-6C082965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BD66-92B4-425F-B8F2-C1645BB3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6D1A-4572-4737-B459-612AC54B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7790-0E7C-4629-88A2-D219CD10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7365-F182-4D8E-995E-EF6A2917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99EC-9B4C-4D23-A10C-3E6303B4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C70C-E93B-42D1-A55C-28206E41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2B05-215A-4445-A159-89E2F16AA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914400" y="2362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ortfolio Theory &amp; Related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762120" y="762120"/>
            <a:ext cx="7010280" cy="61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der now a portfolio that is  made up of two risky as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al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we know the covariance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=   cov (1, 2) =  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 = 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 rot="16200000">
            <a:off x="6191280" y="5314680"/>
            <a:ext cx="647640" cy="2057400"/>
          </a:xfrm>
          <a:custGeom>
            <a:avLst/>
            <a:gdLst>
              <a:gd name="textAreaLeft" fmla="*/ 414000 w 647640"/>
              <a:gd name="textAreaRight" fmla="*/ 648000 w 647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6781680" y="632448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r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80880" y="838080"/>
            <a:ext cx="8305920" cy="33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, we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 =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 +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=  SQRT (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+  2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09480" y="48006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1981080" y="4648320"/>
            <a:ext cx="5639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685800" y="4876920"/>
            <a:ext cx="7543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us use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s a parameter, we can call it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simplicity (note that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1 –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  For a given value of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e can calculate  E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see what happ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Line 4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15000" y="1219320"/>
            <a:ext cx="82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6868080" y="5641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rc 8"/>
          <p:cNvSpPr/>
          <p:nvPr/>
        </p:nvSpPr>
        <p:spPr>
          <a:xfrm flipH="1">
            <a:off x="2666160" y="1447920"/>
            <a:ext cx="3124440" cy="1447560"/>
          </a:xfrm>
          <a:custGeom>
            <a:avLst/>
            <a:gdLst>
              <a:gd name="textAreaLeft" fmla="*/ -360 w 3124440"/>
              <a:gd name="textAreaRight" fmla="*/ 3124440 w 312444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rc 9"/>
          <p:cNvSpPr/>
          <p:nvPr/>
        </p:nvSpPr>
        <p:spPr>
          <a:xfrm flipH="1" flipV="1">
            <a:off x="2666160" y="2818800"/>
            <a:ext cx="1600200" cy="1066680"/>
          </a:xfrm>
          <a:custGeom>
            <a:avLst/>
            <a:gdLst>
              <a:gd name="textAreaLeft" fmla="*/ -360 w 1600200"/>
              <a:gd name="textAreaRight" fmla="*/ 1600200 w 1600200"/>
              <a:gd name="textAreaTop" fmla="*/ -360 h 1066680"/>
              <a:gd name="textAreaBottom" fmla="*/ 1066680 h 10666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6172200" y="2133720"/>
            <a:ext cx="1981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% in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% in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 flipH="1">
            <a:off x="4571640" y="3733920"/>
            <a:ext cx="1523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2"/>
          <p:cNvSpPr/>
          <p:nvPr/>
        </p:nvSpPr>
        <p:spPr>
          <a:xfrm flipH="1" flipV="1">
            <a:off x="5943600" y="16002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685800" y="228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given value of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2743200" y="45720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t fron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5"/>
          <p:cNvSpPr/>
          <p:nvPr/>
        </p:nvSpPr>
        <p:spPr>
          <a:xfrm flipV="1">
            <a:off x="3276720" y="2057040"/>
            <a:ext cx="4572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bod8237x_0705"/>
          <p:cNvPicPr/>
          <p:nvPr/>
        </p:nvPicPr>
        <p:blipFill>
          <a:blip r:embed="rId1"/>
          <a:stretch/>
        </p:blipFill>
        <p:spPr>
          <a:xfrm>
            <a:off x="914400" y="38088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Line 2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15000" y="1219320"/>
            <a:ext cx="82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6868080" y="5641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rc 6"/>
          <p:cNvSpPr/>
          <p:nvPr/>
        </p:nvSpPr>
        <p:spPr>
          <a:xfrm flipH="1">
            <a:off x="2666160" y="1447920"/>
            <a:ext cx="3124440" cy="1447560"/>
          </a:xfrm>
          <a:custGeom>
            <a:avLst/>
            <a:gdLst>
              <a:gd name="textAreaLeft" fmla="*/ -360 w 3124440"/>
              <a:gd name="textAreaRight" fmla="*/ 3124440 w 312444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rc 7"/>
          <p:cNvSpPr/>
          <p:nvPr/>
        </p:nvSpPr>
        <p:spPr>
          <a:xfrm flipH="1" flipV="1">
            <a:off x="2666160" y="2818800"/>
            <a:ext cx="1600200" cy="1066680"/>
          </a:xfrm>
          <a:custGeom>
            <a:avLst/>
            <a:gdLst>
              <a:gd name="textAreaLeft" fmla="*/ -360 w 1600200"/>
              <a:gd name="textAreaRight" fmla="*/ 1600200 w 1600200"/>
              <a:gd name="textAreaTop" fmla="*/ -360 h 1066680"/>
              <a:gd name="textAreaBottom" fmla="*/ 1066680 h 10666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6172200" y="2133720"/>
            <a:ext cx="1981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% is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% in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"/>
          <p:cNvSpPr/>
          <p:nvPr/>
        </p:nvSpPr>
        <p:spPr>
          <a:xfrm flipH="1">
            <a:off x="4571640" y="3733920"/>
            <a:ext cx="1523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 flipH="1" flipV="1">
            <a:off x="5943600" y="16002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685800" y="228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given value of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2286000" y="4800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esting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"/>
          <p:cNvSpPr/>
          <p:nvPr/>
        </p:nvSpPr>
        <p:spPr>
          <a:xfrm flipV="1">
            <a:off x="1981080" y="2895120"/>
            <a:ext cx="685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609480" y="9144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is the portfolio (that is, the </a:t>
            </a:r>
            <a:r>
              <a:rPr b="1" lang="el-GR" sz="2400" spc="-1" strike="noStrike">
                <a:solidFill>
                  <a:srgbClr val="000000"/>
                </a:solidFill>
                <a:latin typeface="Verdana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  that will minimize the varianc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828800" y="320040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533520" y="220968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2438280" y="358128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8"/>
              <p:cNvSpPr txBox="1"/>
              <p:nvPr/>
            </p:nvSpPr>
            <p:spPr>
              <a:xfrm>
                <a:off x="1752480" y="3073320"/>
                <a:ext cx="6477120" cy="23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num>
                          <m:den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call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hat</m:t>
                              </m:r>
                              <m:m>
                                <m:mr>
                                  <m:e/>
                                  <m:e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sub>
                                    </m:sSub>
                                  </m:e>
                                  <m:e/>
                                </m:mr>
                              </m:m>
                            </m:e>
                          </m:mr>
                        </m: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ρ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Line 9"/>
          <p:cNvSpPr/>
          <p:nvPr/>
        </p:nvSpPr>
        <p:spPr>
          <a:xfrm>
            <a:off x="1600200" y="266688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1447920" y="22860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oof  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Line 2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315000" y="1219320"/>
            <a:ext cx="82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6868080" y="5641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rc 6"/>
          <p:cNvSpPr/>
          <p:nvPr/>
        </p:nvSpPr>
        <p:spPr>
          <a:xfrm flipH="1">
            <a:off x="2666160" y="1447920"/>
            <a:ext cx="3124440" cy="1447560"/>
          </a:xfrm>
          <a:custGeom>
            <a:avLst/>
            <a:gdLst>
              <a:gd name="textAreaLeft" fmla="*/ -360 w 3124440"/>
              <a:gd name="textAreaRight" fmla="*/ 3124440 w 312444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rc 7"/>
          <p:cNvSpPr/>
          <p:nvPr/>
        </p:nvSpPr>
        <p:spPr>
          <a:xfrm flipH="1" flipV="1">
            <a:off x="2666160" y="2818800"/>
            <a:ext cx="1600200" cy="1066680"/>
          </a:xfrm>
          <a:custGeom>
            <a:avLst/>
            <a:gdLst>
              <a:gd name="textAreaLeft" fmla="*/ -360 w 1600200"/>
              <a:gd name="textAreaRight" fmla="*/ 1600200 w 1600200"/>
              <a:gd name="textAreaTop" fmla="*/ -360 h 1066680"/>
              <a:gd name="textAreaBottom" fmla="*/ 1066680 h 10666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6172200" y="2133720"/>
            <a:ext cx="1981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% is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% in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 flipH="1">
            <a:off x="4571640" y="3733920"/>
            <a:ext cx="1523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0"/>
          <p:cNvSpPr/>
          <p:nvPr/>
        </p:nvSpPr>
        <p:spPr>
          <a:xfrm flipH="1" flipV="1">
            <a:off x="5943600" y="16002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685800" y="228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given value of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380880" y="617220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UM VARIANCE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3"/>
          <p:cNvSpPr/>
          <p:nvPr/>
        </p:nvSpPr>
        <p:spPr>
          <a:xfrm flipV="1">
            <a:off x="1447920" y="2895120"/>
            <a:ext cx="121896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Line 2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315000" y="1219320"/>
            <a:ext cx="82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6868080" y="5641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rc 6"/>
          <p:cNvSpPr/>
          <p:nvPr/>
        </p:nvSpPr>
        <p:spPr>
          <a:xfrm flipH="1">
            <a:off x="2666160" y="1447920"/>
            <a:ext cx="3124440" cy="1447560"/>
          </a:xfrm>
          <a:custGeom>
            <a:avLst/>
            <a:gdLst>
              <a:gd name="textAreaLeft" fmla="*/ -360 w 3124440"/>
              <a:gd name="textAreaRight" fmla="*/ 3124440 w 312444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rc 7"/>
          <p:cNvSpPr/>
          <p:nvPr/>
        </p:nvSpPr>
        <p:spPr>
          <a:xfrm flipH="1" flipV="1">
            <a:off x="2666160" y="2818800"/>
            <a:ext cx="1600200" cy="1066680"/>
          </a:xfrm>
          <a:custGeom>
            <a:avLst/>
            <a:gdLst>
              <a:gd name="textAreaLeft" fmla="*/ -360 w 1600200"/>
              <a:gd name="textAreaRight" fmla="*/ 1600200 w 1600200"/>
              <a:gd name="textAreaTop" fmla="*/ -360 h 1066680"/>
              <a:gd name="textAreaBottom" fmla="*/ 1066680 h 10666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5943600" y="1295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380880" y="2286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se now we have two risky assets (1 and 2) plus the risk free asset.  Lets us look at possible combinations or portfolio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4"/>
          <p:cNvSpPr/>
          <p:nvPr/>
        </p:nvSpPr>
        <p:spPr>
          <a:xfrm>
            <a:off x="4191120" y="3809880"/>
            <a:ext cx="152280" cy="2286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5"/>
          <p:cNvSpPr/>
          <p:nvPr/>
        </p:nvSpPr>
        <p:spPr>
          <a:xfrm>
            <a:off x="1143000" y="4191120"/>
            <a:ext cx="152280" cy="2286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6"/>
          <p:cNvSpPr/>
          <p:nvPr/>
        </p:nvSpPr>
        <p:spPr>
          <a:xfrm>
            <a:off x="5715000" y="1371600"/>
            <a:ext cx="152280" cy="2286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7"/>
          <p:cNvSpPr/>
          <p:nvPr/>
        </p:nvSpPr>
        <p:spPr>
          <a:xfrm>
            <a:off x="838080" y="42670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380880" y="4724280"/>
            <a:ext cx="99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9"/>
          <p:cNvSpPr/>
          <p:nvPr/>
        </p:nvSpPr>
        <p:spPr>
          <a:xfrm flipV="1">
            <a:off x="1295280" y="3429000"/>
            <a:ext cx="6172200" cy="914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0"/>
          <p:cNvSpPr/>
          <p:nvPr/>
        </p:nvSpPr>
        <p:spPr>
          <a:xfrm>
            <a:off x="4267080" y="4038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1"/>
          <p:cNvSpPr/>
          <p:nvPr/>
        </p:nvSpPr>
        <p:spPr>
          <a:xfrm>
            <a:off x="6705720" y="3581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2"/>
          <p:cNvSpPr/>
          <p:nvPr/>
        </p:nvSpPr>
        <p:spPr>
          <a:xfrm flipV="1">
            <a:off x="1295280" y="1066680"/>
            <a:ext cx="5105520" cy="3200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6400800" y="914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4"/>
          <p:cNvSpPr/>
          <p:nvPr/>
        </p:nvSpPr>
        <p:spPr>
          <a:xfrm flipV="1">
            <a:off x="1219320" y="1066680"/>
            <a:ext cx="2666880" cy="3276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5"/>
          <p:cNvSpPr/>
          <p:nvPr/>
        </p:nvSpPr>
        <p:spPr>
          <a:xfrm>
            <a:off x="1905120" y="1600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6"/>
          <p:cNvSpPr/>
          <p:nvPr/>
        </p:nvSpPr>
        <p:spPr>
          <a:xfrm>
            <a:off x="2438280" y="213372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7"/>
          <p:cNvSpPr/>
          <p:nvPr/>
        </p:nvSpPr>
        <p:spPr>
          <a:xfrm>
            <a:off x="762120" y="624852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 = optimal risky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Line 2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315000" y="1219320"/>
            <a:ext cx="82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6868080" y="5641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rc 6"/>
          <p:cNvSpPr/>
          <p:nvPr/>
        </p:nvSpPr>
        <p:spPr>
          <a:xfrm flipH="1">
            <a:off x="3809160" y="2057400"/>
            <a:ext cx="3124440" cy="1447920"/>
          </a:xfrm>
          <a:custGeom>
            <a:avLst/>
            <a:gdLst>
              <a:gd name="textAreaLeft" fmla="*/ -360 w 3124440"/>
              <a:gd name="textAreaRight" fmla="*/ 3124440 w 312444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rc 7"/>
          <p:cNvSpPr/>
          <p:nvPr/>
        </p:nvSpPr>
        <p:spPr>
          <a:xfrm flipH="1" flipV="1">
            <a:off x="3809160" y="3428280"/>
            <a:ext cx="1600200" cy="1066680"/>
          </a:xfrm>
          <a:custGeom>
            <a:avLst/>
            <a:gdLst>
              <a:gd name="textAreaLeft" fmla="*/ -360 w 1600200"/>
              <a:gd name="textAreaRight" fmla="*/ 1600200 w 1600200"/>
              <a:gd name="textAreaTop" fmla="*/ -360 h 1066680"/>
              <a:gd name="textAreaBottom" fmla="*/ 1066680 h 10666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7162920" y="1981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5410080" y="4343400"/>
            <a:ext cx="152640" cy="2286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1143000" y="4191120"/>
            <a:ext cx="152280" cy="2286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6858000" y="1981080"/>
            <a:ext cx="152280" cy="2286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838080" y="42670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4"/>
          <p:cNvSpPr/>
          <p:nvPr/>
        </p:nvSpPr>
        <p:spPr>
          <a:xfrm>
            <a:off x="380880" y="4724280"/>
            <a:ext cx="99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5791320" y="4267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0"/>
          <p:cNvSpPr/>
          <p:nvPr/>
        </p:nvSpPr>
        <p:spPr>
          <a:xfrm flipV="1">
            <a:off x="1219320" y="1294920"/>
            <a:ext cx="5638680" cy="304812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3"/>
          <p:cNvSpPr/>
          <p:nvPr/>
        </p:nvSpPr>
        <p:spPr>
          <a:xfrm>
            <a:off x="762120" y="624852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 = optimal risky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4"/>
          <p:cNvSpPr/>
          <p:nvPr/>
        </p:nvSpPr>
        <p:spPr>
          <a:xfrm>
            <a:off x="4724280" y="2895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6"/>
          <p:cNvSpPr/>
          <p:nvPr/>
        </p:nvSpPr>
        <p:spPr>
          <a:xfrm flipH="1" flipV="1">
            <a:off x="4495320" y="2590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rc 27"/>
          <p:cNvSpPr/>
          <p:nvPr/>
        </p:nvSpPr>
        <p:spPr>
          <a:xfrm flipV="1">
            <a:off x="1447920" y="2895480"/>
            <a:ext cx="1371600" cy="1067040"/>
          </a:xfrm>
          <a:custGeom>
            <a:avLst/>
            <a:gdLst>
              <a:gd name="textAreaLeft" fmla="*/ 0 w 1371600"/>
              <a:gd name="textAreaRight" fmla="*/ 1371960 w 1371600"/>
              <a:gd name="textAreaTop" fmla="*/ 360 h 1067040"/>
              <a:gd name="textAreaBottom" fmla="*/ 1067760 h 10670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rc 28"/>
          <p:cNvSpPr/>
          <p:nvPr/>
        </p:nvSpPr>
        <p:spPr>
          <a:xfrm flipV="1">
            <a:off x="3276720" y="1218240"/>
            <a:ext cx="3047760" cy="1066680"/>
          </a:xfrm>
          <a:custGeom>
            <a:avLst/>
            <a:gdLst>
              <a:gd name="textAreaLeft" fmla="*/ 0 w 3047760"/>
              <a:gd name="textAreaRight" fmla="*/ 3048120 w 3047760"/>
              <a:gd name="textAreaTop" fmla="*/ -360 h 1066680"/>
              <a:gd name="textAreaBottom" fmla="*/ 1066680 h 10666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rc 29"/>
          <p:cNvSpPr/>
          <p:nvPr/>
        </p:nvSpPr>
        <p:spPr>
          <a:xfrm flipV="1">
            <a:off x="3809880" y="1523160"/>
            <a:ext cx="1143000" cy="1295640"/>
          </a:xfrm>
          <a:custGeom>
            <a:avLst/>
            <a:gdLst>
              <a:gd name="textAreaLeft" fmla="*/ 0 w 1143000"/>
              <a:gd name="textAreaRight" fmla="*/ 1143360 w 1143000"/>
              <a:gd name="textAreaTop" fmla="*/ -360 h 1295640"/>
              <a:gd name="textAreaBottom" fmla="*/ 1295640 h 1295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0"/>
          <p:cNvSpPr/>
          <p:nvPr/>
        </p:nvSpPr>
        <p:spPr>
          <a:xfrm>
            <a:off x="4495680" y="1143000"/>
            <a:ext cx="0" cy="510552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1"/>
          <p:cNvSpPr/>
          <p:nvPr/>
        </p:nvSpPr>
        <p:spPr>
          <a:xfrm>
            <a:off x="3200400" y="57913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ding          Borrow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2"/>
          <p:cNvSpPr/>
          <p:nvPr/>
        </p:nvSpPr>
        <p:spPr>
          <a:xfrm>
            <a:off x="1295280" y="457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fference 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3"/>
          <p:cNvSpPr/>
          <p:nvPr/>
        </p:nvSpPr>
        <p:spPr>
          <a:xfrm>
            <a:off x="1981080" y="1295280"/>
            <a:ext cx="1676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4"/>
          <p:cNvSpPr/>
          <p:nvPr/>
        </p:nvSpPr>
        <p:spPr>
          <a:xfrm>
            <a:off x="2057400" y="1676520"/>
            <a:ext cx="60948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35"/>
          <p:cNvSpPr/>
          <p:nvPr/>
        </p:nvSpPr>
        <p:spPr>
          <a:xfrm>
            <a:off x="2590920" y="1066680"/>
            <a:ext cx="2209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1219320" y="1371600"/>
            <a:ext cx="74674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sk &amp; Retur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funny mix-and-match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question is:  What is the right mix of risk and return (for a given investor)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990720" y="914400"/>
            <a:ext cx="7010280" cy="43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all that in general terms the return of a risky asset (r), that is, an asset whose return is subject to uncertainty, can be written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(r) = 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{ E(r) – 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143000" y="54864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free  rate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Risk Prem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 flipV="1">
            <a:off x="1981080" y="3504960"/>
            <a:ext cx="76212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 flipH="1" flipV="1">
            <a:off x="4724280" y="4266720"/>
            <a:ext cx="6098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0"/>
          <p:cNvSpPr/>
          <p:nvPr/>
        </p:nvSpPr>
        <p:spPr>
          <a:xfrm rot="16200000">
            <a:off x="4476600" y="2914560"/>
            <a:ext cx="495360" cy="1981080"/>
          </a:xfrm>
          <a:custGeom>
            <a:avLst/>
            <a:gdLst>
              <a:gd name="textAreaLeft" fmla="*/ 316440 w 495360"/>
              <a:gd name="textAreaRight" fmla="*/ 495720 w 4953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609480" y="685800"/>
            <a:ext cx="800100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a portfolio P made up of two as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risk free asset (return =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risky asset (return = 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781680" y="2057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foli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6"/>
              <p:cNvSpPr txBox="1"/>
              <p:nvPr/>
            </p:nvSpPr>
            <p:spPr>
              <a:xfrm>
                <a:off x="2600280" y="3505320"/>
                <a:ext cx="5392800" cy="26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r</m:t>
                        </m:r>
                        <m:m>
                          <m:mr>
                            <m:e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ω</m:t>
                              </m:r>
                              <m:r>
                                <m:t xml:space="preserve">)</m:t>
                              </m:r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e>
                                  <m:e/>
                                </m:mr>
                              </m:m>
                            </m:e>
                          </m:mr>
                        </m:m>
                        <m:m>
                          <m:mr>
                            <m:e/>
                            <m:e/>
                          </m:mr>
                        </m:m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m>
                          <m:mr>
                            <m:e>
                              <m:r>
                                <m:t xml:space="preserve">ωr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</m:e>
                          </m:mr>
                        </m:m>
                        <m:m>
                          <m:mr>
                            <m:e/>
                            <m:e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ω</m:t>
                              </m:r>
                              <m:r>
                                <m:t xml:space="preserve">)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m>
                          <m:mr>
                            <m:e>
                              <m:r>
                                <m:t xml:space="preserve">ωE</m:t>
                              </m:r>
                              <m:r>
                                <m:t xml:space="preserve">(</m:t>
                              </m:r>
                              <m:r>
                                <m:t xml:space="preserve">r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ω</m:t>
                              </m:r>
                              <m:r>
                                <m:t xml:space="preserve">)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</m:e>
                          </m:mr>
                        </m:m>
                        <m:m>
                          <m:mr>
                            <m:e/>
                            <m:e>
                              <m:r>
                                <m:t xml:space="preserve">ω</m:t>
                              </m:r>
                              <m:r>
                                <m:t xml:space="preserve">(</m:t>
                              </m:r>
                              <m:r>
                                <m:t xml:space="preserve">E</m:t>
                              </m:r>
                              <m:r>
                                <m:t xml:space="preserve">(</m:t>
                              </m:r>
                              <m:r>
                                <m:t xml:space="preserve">r</m:t>
                              </m:r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" name="Line 7"/>
          <p:cNvSpPr/>
          <p:nvPr/>
        </p:nvSpPr>
        <p:spPr>
          <a:xfrm flipH="1">
            <a:off x="4038480" y="2362320"/>
            <a:ext cx="2743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8"/>
          <p:cNvSpPr/>
          <p:nvPr/>
        </p:nvSpPr>
        <p:spPr>
          <a:xfrm rot="16200000">
            <a:off x="3848040" y="2095200"/>
            <a:ext cx="380880" cy="2590920"/>
          </a:xfrm>
          <a:custGeom>
            <a:avLst/>
            <a:gdLst>
              <a:gd name="textAreaLeft" fmla="*/ 0 w 380880"/>
              <a:gd name="textAreaRight" fmla="*/ 137520 w 38088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" name="Object 5"/>
              <p:cNvSpPr txBox="1"/>
              <p:nvPr/>
            </p:nvSpPr>
            <p:spPr>
              <a:xfrm>
                <a:off x="1752480" y="533520"/>
                <a:ext cx="5791320" cy="45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oting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hat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ar</m:t>
                              </m:r>
                              <m:m>
                                <m:mr>
                                  <m:e>
                                    <m:r>
                                      <m:t xml:space="preserve">P</m:t>
                                    </m:r>
                                    <m:m>
                                      <m:mr>
                                        <m:e/>
                                        <m:e>
                                          <m:sSup>
                                            <m:e>
                                              <m:r>
                                                <m:t xml:space="preserve">ω</m:t>
                                              </m:r>
                                            </m:e>
                                            <m:sup>
                                              <m:r>
                                                <m:t xml:space="preserve">2</m:t>
                                              </m:r>
                                            </m:sup>
                                          </m:sSup>
                                        </m:e>
                                      </m:mr>
                                    </m:m>
                                  </m:e>
                                  <m:e>
                                    <m:m>
                                      <m:mr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Var</m:t>
                                          </m:r>
                                          <m:m>
                                            <m:m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  <m:e>
                                                <m:eqArr>
                                                  <m:e/>
                                                  <m:e/>
                                                </m:eqArr>
                                              </m:e>
                                            </m:mr>
                                          </m:m>
                                        </m:e>
                                        <m:e>
                                          <m:eqArr>
                                            <m:e/>
                                            <m:e/>
                                          </m:eqArr>
                                        </m:e>
                                      </m:mr>
                                    </m:m>
                                  </m:e>
                                </m:mr>
                              </m:m>
                            </m:e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m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ω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</m:m>
                        <m:m>
                          <m:mr>
                            <m:e/>
                            <m:e/>
                            <m:e>
                              <m:eqArr>
                                <m:e/>
                                <m:e/>
                              </m:eqArr>
                            </m:e>
                          </m:mr>
                        </m:m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m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E</m:t>
                              </m:r>
                              <m:r>
                                <m:t xml:space="preserve">(</m:t>
                              </m:r>
                              <m:r>
                                <m:t xml:space="preserve">r</m:t>
                              </m:r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/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nally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m>
                          <m:mr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f>
                                    <m:num>
                                      <m:r>
                                        <m:t xml:space="preserve">E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r</m:t>
                                      </m:r>
                                      <m:r>
                                        <m:t xml:space="preserve">)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t xml:space="preserve">F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d>
                            </m:e>
                            <m:e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  <m:e/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" name="Object 2"/>
              <p:cNvSpPr txBox="1"/>
              <p:nvPr/>
            </p:nvSpPr>
            <p:spPr>
              <a:xfrm>
                <a:off x="2057400" y="-304920"/>
                <a:ext cx="3895560" cy="179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/>
                            <m:e/>
                            <m:e>
                              <m:eqArr>
                                <m:e/>
                                <m:e/>
                              </m:eqArr>
                            </m:e>
                          </m:mr>
                        </m:m>
                      </m:e>
                      <m:e/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m>
                          <m:mr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f>
                                    <m:num>
                                      <m:r>
                                        <m:t xml:space="preserve">E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r</m:t>
                                      </m:r>
                                      <m:r>
                                        <m:t xml:space="preserve">)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t xml:space="preserve">F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d>
                            </m:e>
                            <m:e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  <m:e/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" name="Text Box 3"/>
          <p:cNvSpPr/>
          <p:nvPr/>
        </p:nvSpPr>
        <p:spPr>
          <a:xfrm>
            <a:off x="4114800" y="457200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APITAL ALLOCATION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1143000" y="5943600"/>
            <a:ext cx="6477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 flipV="1">
            <a:off x="1371600" y="2438280"/>
            <a:ext cx="0" cy="3733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 flipV="1">
            <a:off x="1371600" y="2209320"/>
            <a:ext cx="541008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7"/>
              <p:cNvSpPr txBox="1"/>
              <p:nvPr/>
            </p:nvSpPr>
            <p:spPr>
              <a:xfrm>
                <a:off x="7238880" y="5943600"/>
                <a:ext cx="6746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7" name="Text Box 8"/>
          <p:cNvSpPr/>
          <p:nvPr/>
        </p:nvSpPr>
        <p:spPr>
          <a:xfrm>
            <a:off x="152280" y="2133720"/>
            <a:ext cx="1524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304920" y="5105520"/>
            <a:ext cx="1523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1"/>
          <p:cNvSpPr/>
          <p:nvPr/>
        </p:nvSpPr>
        <p:spPr>
          <a:xfrm>
            <a:off x="990720" y="487692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2"/>
          <p:cNvSpPr/>
          <p:nvPr/>
        </p:nvSpPr>
        <p:spPr>
          <a:xfrm flipH="1" flipV="1">
            <a:off x="4266720" y="3657240"/>
            <a:ext cx="1219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3"/>
          <p:cNvSpPr/>
          <p:nvPr/>
        </p:nvSpPr>
        <p:spPr>
          <a:xfrm rot="16200000">
            <a:off x="5181480" y="2057040"/>
            <a:ext cx="762120" cy="1523880"/>
          </a:xfrm>
          <a:prstGeom prst="rtTriangl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5410080" y="3200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5"/>
          <p:cNvSpPr/>
          <p:nvPr/>
        </p:nvSpPr>
        <p:spPr>
          <a:xfrm rot="16200000">
            <a:off x="4038480" y="1066680"/>
            <a:ext cx="380880" cy="1447560"/>
          </a:xfrm>
          <a:custGeom>
            <a:avLst/>
            <a:gdLst>
              <a:gd name="textAreaLeft" fmla="*/ 243360 w 380880"/>
              <a:gd name="textAreaRight" fmla="*/ 381240 w 38088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3733920" y="2133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7"/>
          <p:cNvSpPr/>
          <p:nvPr/>
        </p:nvSpPr>
        <p:spPr>
          <a:xfrm>
            <a:off x="4572000" y="2286000"/>
            <a:ext cx="1752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19"/>
              <p:cNvSpPr txBox="1"/>
              <p:nvPr/>
            </p:nvSpPr>
            <p:spPr>
              <a:xfrm>
                <a:off x="3657600" y="5943600"/>
                <a:ext cx="4986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7" name="Line 20"/>
          <p:cNvSpPr/>
          <p:nvPr/>
        </p:nvSpPr>
        <p:spPr>
          <a:xfrm>
            <a:off x="3809880" y="35812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1"/>
          <p:cNvSpPr/>
          <p:nvPr/>
        </p:nvSpPr>
        <p:spPr>
          <a:xfrm>
            <a:off x="914400" y="3657600"/>
            <a:ext cx="31240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609480" y="37339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(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22000" y="328680"/>
            <a:ext cx="4964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tility Fun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7391520" cy="361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ut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 ( r 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expected retur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coefficient of risk aver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variance of retur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4"/>
          <p:cNvGraphicFramePr/>
          <p:nvPr/>
        </p:nvGraphicFramePr>
        <p:xfrm>
          <a:off x="3733920" y="1371600"/>
          <a:ext cx="3733560" cy="133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1371600"/>
                    <a:ext cx="3733560" cy="13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720" y="536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tility as a Function of Allocation to the Risky Asset,            and  A=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bod8237x_0606"/>
          <p:cNvPicPr/>
          <p:nvPr/>
        </p:nvPicPr>
        <p:blipFill>
          <a:blip r:embed="rId1"/>
          <a:stretch/>
        </p:blipFill>
        <p:spPr>
          <a:xfrm>
            <a:off x="1314360" y="1390680"/>
            <a:ext cx="6639120" cy="4410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4724280" y="685800"/>
                <a:ext cx="6858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720" y="536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nding the Optimal Complete Portfolio Using Indifference Curve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bod8237x_0608"/>
          <p:cNvPicPr/>
          <p:nvPr/>
        </p:nvPicPr>
        <p:blipFill>
          <a:blip r:embed="rId1"/>
          <a:stretch/>
        </p:blipFill>
        <p:spPr>
          <a:xfrm>
            <a:off x="1847880" y="1238400"/>
            <a:ext cx="5173560" cy="4754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20:48:00Z</dcterms:created>
  <dc:creator>VCHARLIN</dc:creator>
  <dc:description/>
  <dc:language>en-US</dc:language>
  <cp:lastModifiedBy>...............</cp:lastModifiedBy>
  <dcterms:modified xsi:type="dcterms:W3CDTF">2010-08-20T19:05:48Z</dcterms:modified>
  <cp:revision>86</cp:revision>
  <dc:subject/>
  <dc:title>Slide 1</dc:title>
</cp:coreProperties>
</file>