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E07F-F892-4FC2-8697-8D9567E8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180-E2FC-4080-B049-BFD7C564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9DF-446E-48A2-AA7E-68636F9A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0D0-B853-4268-B6E3-5C298E09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353-1D2D-404A-958F-C55D36AD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721-26E7-4BA7-974E-4A9419F3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28F-E85F-45FF-ABD3-59A356E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B71-898F-4FB8-866B-2098D95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94-8A45-4119-AB98-0C4EFE3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BCF-AA56-406F-8B2F-09C5D01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37F-5CD7-4D46-BA4C-6A59E0C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2E2-28F2-4147-BB12-7EC3F43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D96-94AF-48AB-AE79-F3B204F6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33F-97F7-4E27-8E22-68EC2B3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FBFC-6D8C-433E-8494-EA6064D9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xperiment-resources.com/normal-probability-distributi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838080"/>
            <a:ext cx="8001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ll certainty equivalent (c) an amount such that, if received with certainty, will make the player (investor) indifferent between playing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, Scenario B has an expected utility E (U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c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65  = sqrt (c),  we get    c =  9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if our player had to choose between receiving 93.1 dollars with 100% assurance OR playing the game he would be in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recisely     U (c) = E ( U (w)  )    is the equation to solve,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990720"/>
            <a:ext cx="6400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roadly, in the context of a portfolio of investments, (a portfolio characterized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its E(return)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   its St. Devi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e utility function should involve these tw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on the asset or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2819520" y="1158840"/>
          <a:ext cx="43434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58840"/>
                    <a:ext cx="43434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6035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you tell between Risk Lover and Risk 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Indifference Curv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19720" cy="490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19360" y="35053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for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 = .05 and U = .09 with A = 2 and A = 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4640" y="1460520"/>
            <a:ext cx="50482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85800"/>
            <a:ext cx="7391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we have n assets (possible investment choices) and that each asset return is a random variable characterized by its mean and st. deviation.  Also, we assume that we know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1752480"/>
                <a:ext cx="5791320" cy="44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sset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turn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v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σ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ights</m:t>
                        </m:r>
                        <m:m>
                          <m:mr>
                            <m:e/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sume</m:t>
                                  </m:r>
                                  <m:m>
                                    <m:mr>
                                      <m:e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nary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rtfoli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cted</m:t>
                                    </m:r>
                                    <m:m>
                                      <m:mr>
                                        <m:e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etur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s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553080" y="2590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riance 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0400" y="297180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0948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ife easier we will assume that all the weights are the same, 1/n; we just want to see the “diversification eff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portfolio variance can be expressed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28800" y="1981080"/>
                <a:ext cx="5791320" cy="29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den>
                                  </m:f>
                                </m:e>
                              </m:nary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nary>
                          </m:e>
                        </m:nary>
                      </m:e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d>
                                    <m:dPr>
                                      <m:begChr m:val="{"/>
                                      <m:endChr m:val=""/>
                                    </m:dPr>
                                  </m:d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/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sup>
                        </m:sSup>
                        <m:d>
                          <m:dPr>
                            <m:begChr m:val=""/>
                            <m:endChr m:val="}"/>
                          </m:dPr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90920" y="4343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343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914400"/>
                <a:ext cx="4017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124080" y="1219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21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161880" y="16383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6095880" y="114264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goes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30481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“converges” to “average co-variance”,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of a typical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91440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05740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419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52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eliminated thru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114440" y="838080"/>
            <a:ext cx="7621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Risk (we cannot eliminate it), non-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71840" y="38862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2485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power of DIVERSIFICATION 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2004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85800"/>
            <a:ext cx="9144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1440" y="1332000"/>
            <a:ext cx="261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se two situ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81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robability =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2209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7242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0        (It is s sure thing !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90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A  --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ssence, you just keep your money, don’t do anything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752480" y="1447920"/>
            <a:ext cx="4496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“investment”,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37339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0.5 x 150  +  0.5 x  50 =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SQRT ( 0.5 x 2500  + 0.5 x 2500) =  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B – take a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362320"/>
            <a:ext cx="4496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486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go with B? … after all, the Expected value of the payoff is the same in both cases, and you can earn something “extra” with B….      What Do You Think?  Or Fe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295280"/>
            <a:ext cx="6400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 would probably go with Situation A (the sure thing), it is less risky  (less “variatio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R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sibility that things will go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 Deviation of the outcome, somehow, gives as an idea about the risk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5768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/>
          </p:cNvPr>
          <p:cNvSpPr/>
          <p:nvPr/>
        </p:nvSpPr>
        <p:spPr>
          <a:xfrm>
            <a:off x="0" y="40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fair game (expected return = 0) but with different risk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4176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3160" y="3581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838080"/>
            <a:ext cx="22100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1905120"/>
            <a:ext cx="2438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762120"/>
            <a:ext cx="7391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introduce the concept of “Ut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, refers, loosely speaking, to the “amount of pleasure or satisfaction” that one obtains from a given amount of wealth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ty function, U = F (w), must satisfy the condition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ealth” is better than “less weal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, F must be a monotonically increasing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51814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371600" y="990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= F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1676520"/>
            <a:ext cx="3352680" cy="3504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219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neutral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21076200">
            <a:off x="-912240" y="-320040"/>
            <a:ext cx="4266360" cy="47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71" y="1161"/>
                </a:moveTo>
                <a:arcTo wR="10800" hR="10800" stAng="-3791482" swAng="3791482"/>
                <a:lnTo>
                  <a:pt x="10800" y="10800"/>
                </a:lnTo>
                <a:close/>
              </a:path>
              <a:path fill="none" w="21600" h="21600">
                <a:moveTo>
                  <a:pt x="15671" y="1161"/>
                </a:moveTo>
                <a:arcTo wR="10800" hR="10800" stAng="-3791482" swAng="379148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47920" y="396216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29800">
            <a:off x="-402120" y="4958280"/>
            <a:ext cx="43999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809520"/>
            <a:ext cx="2590560" cy="228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276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8001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, in the previous situation, we have a utility function (U), for a risk averse person,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qrt (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sqrt ( 100)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0.5 x sqrt (150)  + 0.5 x sqrt (50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he refuses to play the game…    (he has decided based on the Expected Utility rather than the Expected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sk averse player will refuse to engage in a game in which the E [Return] is 0, that is, a fair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19T20:07:47Z</dcterms:modified>
  <cp:revision>49</cp:revision>
  <dc:subject/>
  <dc:title>Slide 1</dc:title>
</cp:coreProperties>
</file>