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4695F-B7A2-4036-9660-CFE352357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C9FF1-A8C7-4669-8F40-6ED749104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1E45-B5D1-423A-89E4-C36B6AAF3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E645-CEDA-4F08-872E-A6409E34D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799E-998D-48BF-AA79-509E7B64A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A2DE-BD31-44F9-853A-306C47936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A1C5-3E83-494D-9F6B-864D5FF02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E92D-B4FD-4146-AD49-8CCF12111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B7A2-1D7A-4275-8D7C-BFF7F40AD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DF7C-4C5D-4A1E-9720-9A3E290DF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95F2-7BCF-49F3-93CD-B31E97642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5656-F40C-4F8A-85E2-7FF0FDE1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254F-9D80-4A84-AE63-CD3F4EB42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9A8B-85C6-411D-8320-2D31078C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5A1A6-84BA-48DE-8EE0-093898F719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xperiment-resources.com/normal-probability-distribution.html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14400" y="236232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ortfolio Theory &amp; Related 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62120" y="838080"/>
            <a:ext cx="8001000" cy="55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call certainty equivalent (c) an amount such that, if received with certainty, will make the player (investor) indifferent between playing or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our example, Scenario B has an expected utility E (U) = 9.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ving for c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65  = sqrt (c),  we get    c =  9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means that if our player had to choose between receiving 93.1 dollars with 100% assurance OR playing the game he would be indiffe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precisely     U (c) = E ( U (w)  )    is the equation to solve, in gen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990720" y="990720"/>
            <a:ext cx="640080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e broadly, in the context of a portfolio of investments, (a portfolio characterized by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1] its E(return);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2]    its St. Deviati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appropriate utility function should involve these two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instance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22000" y="328680"/>
            <a:ext cx="80931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Utility Func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2590920"/>
            <a:ext cx="7391520" cy="3611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= ut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 ( r )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 expected return on the asset or portfol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= coefficient of risk aver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 variance of retur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Object 4"/>
          <p:cNvGraphicFramePr/>
          <p:nvPr/>
        </p:nvGraphicFramePr>
        <p:xfrm>
          <a:off x="2819520" y="1158840"/>
          <a:ext cx="4343400" cy="15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1158840"/>
                    <a:ext cx="4343400" cy="15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685800" y="603576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ow can you tell between Risk Lover and Risk Averse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22000" y="328680"/>
            <a:ext cx="80931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Verdana"/>
              </a:rPr>
              <a:t>The Indifference Curve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828800" y="990720"/>
            <a:ext cx="5319720" cy="49035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400800" y="38862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ut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4419360" y="3505320"/>
            <a:ext cx="2514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2720" y="536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Indifference Curves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for 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U = .05 and U = .09 with A = 2 and A = 4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114640" y="1460520"/>
            <a:ext cx="5048280" cy="448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90720" y="685800"/>
            <a:ext cx="7391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se now we have n assets (possible investment choices) and that each asset return is a random variable characterized by its mean and st. deviation.  Also, we assume that we know the covariance 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914400" y="1752480"/>
                <a:ext cx="5791320" cy="440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ssets</m:t>
                              </m:r>
                              <m:m>
                                <m:mr>
                                  <m:e/>
                                  <m:e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r>
                                          <m:t xml:space="preserve">,</m:t>
                                        </m:r>
                                        <m:sSub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  <m:r>
                                          <m:t xml:space="preserve">,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t xml:space="preserve">,</m:t>
                                        </m:r>
                                        <m:sSub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  <m:sub>
                                            <m:r>
                                              <m:t xml:space="preserve">n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e>
                                    <m:eqArr>
                                      <m:e/>
                                      <m:e/>
                                    </m:eqArr>
                                  </m:e>
                                </m:mr>
                              </m:m>
                            </m:e>
                          </m:mr>
                        </m:m>
                      </m:e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ean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returns</m:t>
                              </m:r>
                              <m:m>
                                <m:mr>
                                  <m:e/>
                                  <m:e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μ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r>
                                          <m:t xml:space="preserve">,</m:t>
                                        </m:r>
                                        <m:sSub>
                                          <m:e>
                                            <m:r>
                                              <m:t xml:space="preserve">μ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  <m:r>
                                          <m:t xml:space="preserve">,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t xml:space="preserve">,</m:t>
                                        </m:r>
                                        <m:sSub>
                                          <m:e>
                                            <m:r>
                                              <m:t xml:space="preserve">μ</m:t>
                                            </m:r>
                                          </m:e>
                                          <m:sub>
                                            <m:r>
                                              <m:t xml:space="preserve">n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e/>
                                </m:mr>
                              </m:m>
                            </m:e>
                          </m:mr>
                        </m:m>
                      </m:e>
                      <m:e>
                        <m:sSub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t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ev</m:t>
                                  </m:r>
                                  <m:m>
                                    <m:mr>
                                      <m:e/>
                                      <m:e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σ</m:t>
                                        </m:r>
                                      </m:e>
                                    </m:mr>
                                  </m:m>
                                </m:e>
                              </m:mr>
                            </m:m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sub>
                        </m:sSub>
                        <m:r>
                          <m:t xml:space="preserve">]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eights</m:t>
                        </m:r>
                        <m:m>
                          <m:mr>
                            <m:e/>
                            <m:e>
                              <m:d>
                                <m:dPr>
                                  <m:begChr m:val="{"/>
                                  <m:endChr m:val="}"/>
                                </m:dPr>
                                <m:e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,</m:t>
                                  </m:r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,</m:t>
                                  </m:r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e>
                              <m:eqArr>
                                <m:e/>
                                <m:e/>
                              </m:eqArr>
                            </m:e>
                          </m:mr>
                        </m:m>
                      </m:e>
                      <m:e>
                        <m:sSub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e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ssume</m:t>
                                  </m:r>
                                  <m:m>
                                    <m:mr>
                                      <m:e/>
                                      <m:e>
                                        <m:nary>
                                          <m:naryPr>
                                            <m:chr m:val="∑"/>
                                            <m:supHide m:val="1"/>
                                          </m:naryPr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  <m:sup/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</m:nary>
                                      </m:e>
                                    </m:mr>
                                  </m:m>
                                </m:e>
                              </m:mr>
                            </m:m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o</m:t>
                        </m:r>
                        <m:m>
                          <m:mr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he</m:t>
                              </m:r>
                              <m:m>
                                <m:mr>
                                  <m:e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ortfolio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xp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cted</m:t>
                                    </m:r>
                                    <m:m>
                                      <m:mr>
                                        <m:e/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return</m:t>
                                          </m:r>
                                        </m:e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is</m:t>
                                          </m:r>
                                        </m:e>
                                      </m:mr>
                                    </m:m>
                                  </m:e>
                                </m:mr>
                              </m:m>
                            </m:e>
                          </m:mr>
                        </m:m>
                      </m:e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6553080" y="259092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variance  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3200400" y="2971800"/>
            <a:ext cx="3124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990720" y="609480"/>
            <a:ext cx="74674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make life easier we will assume that all the weights are the same, 1/n; we just want to see the “diversification effec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is case, the portfolio variance can be expressed a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828800" y="1981080"/>
                <a:ext cx="5791320" cy="295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  <m:m>
                          <m:mr>
                            <m:e>
                              <m:sSub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  <m:e/>
                          </m:mr>
                        </m:m>
                      </m:e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pHide m:val="1"/>
                                </m:naryPr>
                                <m:sub>
                                  <m:r>
                                    <m:t xml:space="preserve">i</m:t>
                                  </m:r>
                                </m:sub>
                                <m:sup/>
                                <m:e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sSup>
                                        <m:e>
                                          <m:r>
                                            <m:t xml:space="preserve">n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den>
                                  </m:f>
                                </m:e>
                              </m:nary>
                            </m:e>
                            <m:e>
                              <m:sSup>
                                <m:e>
                                  <m:r>
                                    <m:t xml:space="preserve">σ</m:t>
                                  </m:r>
                                </m:e>
                                <m:sup>
                                  <m:sSub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ii</m:t>
                                      </m:r>
                                    </m:sub>
                                  </m:sSub>
                                </m:sup>
                              </m:sSup>
                            </m:e>
                          </m:mr>
                        </m:m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≠</m:t>
                                </m:r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m>
                                  <m:mr>
                                    <m:e>
                                      <m:f>
                                        <m:num>
                                          <m:r>
                                            <m:t xml:space="preserve">1</m:t>
                                          </m:r>
                                        </m:num>
                                        <m:den>
                                          <m:sSup>
                                            <m:e>
                                              <m:r>
                                                <m:t xml:space="preserve">n</m:t>
                                              </m:r>
                                            </m:e>
                                            <m:sup>
                                              <m:r>
                                                <m:t xml:space="preserve">2</m:t>
                                              </m:r>
                                            </m:sup>
                                          </m:sSup>
                                        </m:den>
                                      </m:f>
                                    </m:e>
                                    <m:e>
                                      <m:sSub>
                                        <m:e>
                                          <m:r>
                                            <m:t xml:space="preserve">σ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ij</m:t>
                                          </m:r>
                                        </m:sub>
                                      </m:sSub>
                                    </m:e>
                                  </m:mr>
                                </m:m>
                              </m:e>
                            </m:nary>
                          </m:e>
                        </m:nary>
                      </m:e>
                      <m:e>
                        <m:sSup>
                          <m:e>
                            <m:m>
                              <m:mr>
                                <m:e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n</m:t>
                                      </m:r>
                                    </m:den>
                                  </m:f>
                                </m:e>
                                <m:e>
                                  <m:d>
                                    <m:dPr>
                                      <m:begChr m:val="{"/>
                                      <m:endChr m:val=""/>
                                    </m:dPr>
                                  </m:d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n</m:t>
                                      </m:r>
                                    </m:den>
                                  </m:f>
                                  <m:nary>
                                    <m:naryPr>
                                      <m:chr m:val="∑"/>
                                      <m:supHide m:val="1"/>
                                    </m:naryPr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  <m:sup/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</m:nary>
                                </m:e>
                              </m:mr>
                            </m:m>
                          </m:e>
                          <m:sup>
                            <m:sSub>
                              <m:e>
                                <m:r>
                                  <m:t xml:space="preserve">2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i</m:t>
                                </m:r>
                              </m:sub>
                            </m:sSub>
                          </m:sup>
                        </m:sSup>
                        <m:d>
                          <m:dPr>
                            <m:begChr m:val=""/>
                            <m:endChr m:val="}"/>
                          </m:dPr>
                        </m:d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d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≠</m:t>
                                </m:r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finally</m:t>
                        </m:r>
                      </m:e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n</m:t>
                                  </m:r>
                                </m:den>
                              </m:f>
                            </m:e>
                            <m:e>
                              <m:m>
                                <m:mr>
                                  <m:e/>
                                  <m:e/>
                                  <m:e/>
                                </m:mr>
                              </m:m>
                            </m:e>
                          </m:mr>
                        </m:m>
                        <m:m>
                          <m:mr>
                            <m:e/>
                            <m:e/>
                            <m:e>
                              <m:r>
                                <m:t xml:space="preserve">+</m:t>
                              </m:r>
                              <m:m>
                                <m:mr>
                                  <m:e>
                                    <m:f>
                                      <m:num>
                                        <m:r>
                                          <m:t xml:space="preserve">n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n</m:t>
                                        </m:r>
                                      </m:den>
                                    </m:f>
                                  </m:e>
                                  <m:e/>
                                </m:mr>
                              </m:m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2590920" y="43434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 var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638680" y="434340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     “co-varianc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286000" y="914400"/>
                <a:ext cx="401796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t xml:space="preserve">=</m:t>
                        </m:r>
                        <m:m>
                          <m:m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n</m:t>
                                  </m:r>
                                </m:den>
                              </m:f>
                            </m:e>
                            <m:e>
                              <m:m>
                                <m:mr>
                                  <m:e/>
                                  <m:e/>
                                  <m:e/>
                                </m:mr>
                              </m:m>
                            </m:e>
                          </m:mr>
                        </m:m>
                        <m:m>
                          <m:mr>
                            <m:e/>
                            <m:e/>
                            <m:e>
                              <m:r>
                                <m:t xml:space="preserve">+</m:t>
                              </m:r>
                              <m:m>
                                <m:mr>
                                  <m:e>
                                    <m:f>
                                      <m:num>
                                        <m:r>
                                          <m:t xml:space="preserve">n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n</m:t>
                                        </m:r>
                                      </m:den>
                                    </m:f>
                                  </m:e>
                                  <m:e/>
                                </m:mr>
                              </m:m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3124080" y="121932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 var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19920" y="12193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     “co-varianc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5400000">
            <a:off x="3161880" y="1638360"/>
            <a:ext cx="685800" cy="1523880"/>
          </a:xfrm>
          <a:custGeom>
            <a:avLst/>
            <a:gdLst>
              <a:gd name="textAreaLeft" fmla="*/ 0 w 685800"/>
              <a:gd name="textAreaRight" fmla="*/ 247680 w 68580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5400000">
            <a:off x="6095880" y="1142640"/>
            <a:ext cx="685800" cy="2362320"/>
          </a:xfrm>
          <a:custGeom>
            <a:avLst/>
            <a:gdLst>
              <a:gd name="textAreaLeft" fmla="*/ 0 w 685800"/>
              <a:gd name="textAreaRight" fmla="*/ 247680 w 6858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90920" y="297180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n becomes very large, it goes to 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34120" y="3048120"/>
            <a:ext cx="350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n becomes very large, it “converges” to “average co-variance”, NOT 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990720" y="5638680"/>
            <a:ext cx="7238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1143000" y="144756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91320" y="571500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, number of asse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-958680" y="225396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 Dev of Portfolio retu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1142640" y="-686520"/>
            <a:ext cx="9753120" cy="487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219320" y="4419720"/>
            <a:ext cx="4800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19320" y="1981080"/>
            <a:ext cx="4800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867280" y="12193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rtfolio St D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4647960" y="1752480"/>
            <a:ext cx="2361960" cy="221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38280" y="19810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45720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of a typical as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2514600" y="914400"/>
            <a:ext cx="129528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990720" y="5638680"/>
            <a:ext cx="7238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143000" y="144756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91320" y="571500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, number of asse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16200000">
            <a:off x="-958680" y="225396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 Dev of Portfolio retu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1142640" y="-686520"/>
            <a:ext cx="9753120" cy="487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219320" y="4419720"/>
            <a:ext cx="4800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19320" y="1981080"/>
            <a:ext cx="4800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867280" y="12193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rtfolio St D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4647960" y="1752480"/>
            <a:ext cx="2361960" cy="221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038480" y="2057400"/>
            <a:ext cx="0" cy="1828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867280" y="4419720"/>
            <a:ext cx="0" cy="11430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733920" y="15228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eliminated thru divers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4114440" y="838080"/>
            <a:ext cx="762120" cy="236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324480" y="297180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tematic Risk (we cannot eliminate it), non-diversifiable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6171840" y="3886200"/>
            <a:ext cx="10666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38080" y="624852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power of DIVERSIFICATION  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057400" y="3200400"/>
            <a:ext cx="0" cy="12193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304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ersifiable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685800"/>
            <a:ext cx="914400" cy="312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91440" y="1332000"/>
            <a:ext cx="26175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Basic Id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k Free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ty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ntinu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90720" y="380880"/>
            <a:ext cx="54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these two situation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76520" y="1981080"/>
            <a:ext cx="441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8108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22096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have $ 1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95880" y="182880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off = $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24080" y="33526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= Probability = 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715000" y="2209680"/>
            <a:ext cx="1600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66680" y="4724280"/>
            <a:ext cx="7086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(payoff) =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 Deviation (payoff) = 0        (It is s sure thing !!!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99072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TUATION A  -- do no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76520" y="594360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essence, you just keep your money, don’t do anything with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 flipV="1">
            <a:off x="1752480" y="1447920"/>
            <a:ext cx="4496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27432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“investment”, $ 1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2193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off = $ 1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90720" y="3733920"/>
            <a:ext cx="7086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(payoff) = 0.5 x 150  +  0.5 x  50 = 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 Deviation (payoff) = SQRT ( 0.5 x 2500  + 0.5 x 2500) =  50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38088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TUATION B – take a gam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52480" y="2362320"/>
            <a:ext cx="44960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25146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off = $ 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12952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= 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267080" y="2743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= 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548640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uld you go with B? … after all, the Expected value of the payoff is the same in both cases, and you can earn something “extra” with B….      What Do You Think?  Or Fee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219320" y="1295280"/>
            <a:ext cx="640080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people would probably go with Situation A (the sure thing), it is less risky  (less “variation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RIS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certain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ossibility that things will go wr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t Deviation of the outcome, somehow, gives as an idea about the risk invol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286000" y="1066680"/>
            <a:ext cx="4657680" cy="4000680"/>
          </a:xfrm>
          <a:prstGeom prst="rect">
            <a:avLst/>
          </a:prstGeom>
          <a:ln w="0">
            <a:noFill/>
          </a:ln>
        </p:spPr>
      </p:pic>
      <p:sp>
        <p:nvSpPr>
          <p:cNvPr id="72" name="">
            <a:hlinkClick r:id="rId2"/>
          </p:cNvPr>
          <p:cNvSpPr/>
          <p:nvPr/>
        </p:nvSpPr>
        <p:spPr>
          <a:xfrm>
            <a:off x="0" y="400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4476600" y="478620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4476600" y="478620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4476600" y="478620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4476600" y="4786200"/>
            <a:ext cx="190800" cy="1429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762120" y="563868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is a fair game (expected return = 0) but with different risk 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77760" y="41760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ris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13160" y="358128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ss ris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23880" y="838080"/>
            <a:ext cx="221004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4800240" y="1905120"/>
            <a:ext cx="243828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990720" y="762120"/>
            <a:ext cx="739116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us introduce the concept of “Utility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ty, refers, loosely speaking, to the “amount of pleasure or satisfaction” that one obtains from a given amount of wealth (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utility function, U = F (w), must satisfy the condition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wealth” is better than “less wealth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other words, F must be a monotonically increasing fun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219320" y="5181480"/>
            <a:ext cx="7010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1371600" y="990720"/>
            <a:ext cx="0" cy="4419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467480" y="53341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6094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 = F (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371600" y="1676520"/>
            <a:ext cx="3352680" cy="35049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86200" y="12193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k neutral per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 rot="21076200">
            <a:off x="-912240" y="-320040"/>
            <a:ext cx="4266360" cy="477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671" y="1161"/>
                </a:moveTo>
                <a:arcTo wR="10800" hR="10800" stAng="-3791482" swAng="3791482"/>
                <a:lnTo>
                  <a:pt x="10800" y="10800"/>
                </a:lnTo>
                <a:close/>
              </a:path>
              <a:path fill="none" w="21600" h="21600">
                <a:moveTo>
                  <a:pt x="15671" y="1161"/>
                </a:moveTo>
                <a:arcTo wR="10800" hR="10800" stAng="-3791482" swAng="3791482"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447920" y="3962160"/>
            <a:ext cx="1143000" cy="1143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05120" y="15238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k l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9129800">
            <a:off x="-402120" y="4958280"/>
            <a:ext cx="4399920" cy="114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276720" y="3809520"/>
            <a:ext cx="2590560" cy="22860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29200" y="32767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k ave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029200" y="39625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” is neg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371600" y="22096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” is 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1066680"/>
            <a:ext cx="8001000" cy="61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se, in the previous situation, we have a utility function (U), for a risk averse person, defined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 = sqrt (w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tuation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(U) = sqrt ( 100) =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tuation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(U) = 0.5 x sqrt (150)  + 0.5 x sqrt (50) = 9.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, he refuses to play the game…    (he has decided based on the Expected Utility rather than the Expected Retur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risk averse player will refuse to engage in a game in which the E [Return] is 0, that is, a fair ga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9T20:48:00Z</dcterms:created>
  <dc:creator>VCHARLIN</dc:creator>
  <dc:description/>
  <dc:language>en-US</dc:language>
  <cp:lastModifiedBy>VCHARLIN</cp:lastModifiedBy>
  <dcterms:modified xsi:type="dcterms:W3CDTF">2010-08-19T20:07:47Z</dcterms:modified>
  <cp:revision>49</cp:revision>
  <dc:subject/>
  <dc:title>Slide 1</dc:title>
</cp:coreProperties>
</file>