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AB7FE-3F06-4B39-AE5D-03EBD488B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A9834-2F4A-4192-979F-105AC398F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1438-1AED-4D4E-ABFF-7318901BE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F078-1E3F-4A7A-A59B-002EFCF9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C0A2-B3D3-4847-8DA5-10204F13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A1A-3522-474C-96AE-50ED0A73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C162-1711-4B98-B781-85563066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4DC9-D02F-432D-BDF6-083C14C9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4C80-E78B-4DAE-AEA8-4F496BA3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1F77-72CD-4723-A4FA-690B4D76B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236C-4066-4DB9-B8A0-C1C5A7ECE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4FDE-B354-4628-8237-8643831C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32A-A89E-4C8A-8463-B043060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E4FD-38FE-4181-BA01-80B061DF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10513-4E54-4744-99D5-4C8968453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xperiment-resources.com/normal-probability-distribution.html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838080"/>
            <a:ext cx="8001000" cy="55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ll certainty equivalent (c) an amount such that, if received with certainty, will make the player (investor) indifferent between playing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ur example, Scenario B has an expected utility E (U) = 9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ing for c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65  = sqrt (c),  we get    c =  9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if our player had to choose between receiving 93.1 dollars with 100% assurance OR playing the game he would be indiffe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precisely     U (c) = E ( U (w)  )    is the equation to solve, in gen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990720"/>
            <a:ext cx="6400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broadly, in the context of a portfolio of investments, (a portfolio characterized b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1] its E(return)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2]    its St. Devi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propriate utility function should involve these two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instance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8093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590920"/>
            <a:ext cx="7391520" cy="36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 ( r 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expected return on the asset or portf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efficient of risk a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variance of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2819520" y="1158840"/>
          <a:ext cx="434340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158840"/>
                    <a:ext cx="434340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685800" y="603576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ow can you tell between Risk Lover and Risk Avers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8093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Verdana"/>
              </a:rPr>
              <a:t>The Indifference Curve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28800" y="990720"/>
            <a:ext cx="5319720" cy="49035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40080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4419360" y="3505320"/>
            <a:ext cx="2514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difference Curves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for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 = .05 and U = .09 with A = 2 and A = 4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114640" y="1460520"/>
            <a:ext cx="5048280" cy="448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90720" y="685800"/>
            <a:ext cx="73911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now we have n assets (possible investment choices) and that each asset return is a random variable characterized by its mean and st. deviation.  Also, we assume that we know the covariance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14400" y="1752480"/>
                <a:ext cx="5791320" cy="44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t xml:space="preserve">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ssets</m:t>
                              </m:r>
                              <m:m>
                                <m:mr>
                                  <m:e/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r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>
                                    <m:eqArr>
                                      <m:e/>
                                      <m:e/>
                                    </m:eqArr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ean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eturns</m:t>
                              </m:r>
                              <m:m>
                                <m:mr>
                                  <m:e/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,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t xml:space="preserve">,</m:t>
                                        </m:r>
                                        <m:sSub>
                                          <m:e>
                                            <m:r>
                                              <m:t xml:space="preserve">μ</m:t>
                                            </m:r>
                                          </m:e>
                                          <m:sub>
                                            <m:r>
                                              <m:t xml:space="preserve">n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t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Dev</m:t>
                                  </m:r>
                                  <m:m>
                                    <m:mr>
                                      <m:e/>
                                      <m:e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σ</m:t>
                                        </m:r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  <m:r>
                          <m:t xml:space="preserve">]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eights</m:t>
                        </m:r>
                        <m:m>
                          <m:mr>
                            <m:e/>
                            <m:e>
                              <m:d>
                                <m:dPr>
                                  <m:begChr m:val="{"/>
                                  <m:endChr m:val="}"/>
                                </m:dPr>
                                <m:e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sSub>
                                    <m:e>
                                      <m:r>
                                        <m:t xml:space="preserve">ω</m:t>
                                      </m:r>
                                    </m:e>
                                    <m:sub>
                                      <m:r>
                                        <m:t xml:space="preserve">n</m:t>
                                      </m:r>
                                    </m:sub>
                                  </m:sSub>
                                </m:e>
                              </m:d>
                            </m:e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>
                        <m:sSub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we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ssume</m:t>
                                  </m:r>
                                  <m:m>
                                    <m:mr>
                                      <m:e/>
                                      <m:e>
                                        <m:nary>
                                          <m:naryPr>
                                            <m:chr m:val="∑"/>
                                            <m:supHide m:val="1"/>
                                          </m:naryPr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/>
                                          <m:e>
                                            <m:r>
                                              <m:t xml:space="preserve">ω</m:t>
                                            </m:r>
                                          </m:e>
                                        </m:nary>
                                      </m:e>
                                    </m:mr>
                                  </m:m>
                                </m:e>
                              </m:mr>
                            </m:m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ortfolio</m:t>
                                    </m:r>
                                  </m:e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cted</m:t>
                                    </m:r>
                                    <m:m>
                                      <m:mr>
                                        <m:e/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return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s</m:t>
                                          </m: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6553080" y="25909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ariance  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200400" y="2971800"/>
            <a:ext cx="3124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90720" y="609480"/>
            <a:ext cx="7467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life easier we will assume that all the weights are the same, 1/n; we just want to see the “diversification effec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portfolio variance can be expressed a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828800" y="1981080"/>
                <a:ext cx="5791320" cy="29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ω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m>
                          <m:mr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sSub>
                                    <m:e>
                                      <m:r>
                                        <m:t xml:space="preserve">i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sub>
                              </m:sSub>
                            </m:e>
                            <m:e/>
                          </m:mr>
                        </m:m>
                      </m:e>
                      <m:e>
                        <m:m>
                          <m:mr>
                            <m:e>
                              <m:nary>
                                <m:naryPr>
                                  <m:chr m:val="∑"/>
                                  <m:supHide m:val="1"/>
                                </m:naryPr>
                                <m:sub>
                                  <m:r>
                                    <m:t xml:space="preserve">i</m:t>
                                  </m:r>
                                </m:sub>
                                <m:sup/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sSup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den>
                                  </m:f>
                                </m:e>
                              </m:nary>
                            </m:e>
                            <m:e>
                              <m:sSup>
                                <m:e>
                                  <m:r>
                                    <m:t xml:space="preserve">σ</m:t>
                                  </m:r>
                                </m:e>
                                <m:sup>
                                  <m:sSub>
                                    <m:e>
                                      <m:r>
                                        <m:t xml:space="preserve">2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i</m:t>
                                      </m:r>
                                    </m:sub>
                                  </m:sSub>
                                </m:sup>
                              </m:sSup>
                            </m:e>
                          </m:mr>
                        </m:m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m>
                                  <m:mr>
                                    <m:e>
                                      <m:f>
                                        <m:num>
                                          <m:r>
                                            <m:t xml:space="preserve">1</m:t>
                                          </m:r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n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den>
                                      </m:f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ij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nary>
                          </m:e>
                        </m:nary>
                      </m:e>
                      <m:e>
                        <m:sSup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</m:e>
                                <m:e>
                                  <m:d>
                                    <m:dPr>
                                      <m:begChr m:val="{"/>
                                      <m:endChr m:val=""/>
                                    </m:dPr>
                                  </m:d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</m:den>
                                  </m:f>
                                  <m:nary>
                                    <m:naryPr>
                                      <m:chr m:val="∑"/>
                                      <m:supHide m:val="1"/>
                                    </m:naryPr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/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</m:nary>
                                </m:e>
                              </m:mr>
                            </m:m>
                          </m:e>
                          <m:sup>
                            <m:sSub>
                              <m:e>
                                <m:r>
                                  <m:t xml:space="preserve">2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i</m:t>
                                </m:r>
                              </m:sub>
                            </m:sSub>
                          </m:sup>
                        </m:sSup>
                        <m:d>
                          <m:dPr>
                            <m:begChr m:val=""/>
                            <m:endChr m:val="}"/>
                          </m:dPr>
                        </m:d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d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finally</m:t>
                        </m:r>
                      </m:e>
                      <m:e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m>
                                <m:mr>
                                  <m:e/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r>
                                <m:t xml:space="preserve">+</m:t>
                              </m:r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2590920" y="43434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8680" y="434340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    “co-vari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286000" y="914400"/>
                <a:ext cx="40179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t xml:space="preserve">=</m:t>
                        </m:r>
                        <m:m>
                          <m:m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  <m:e>
                              <m:m>
                                <m:mr>
                                  <m:e/>
                                  <m:e/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r>
                                <m:t xml:space="preserve">+</m:t>
                              </m:r>
                              <m:m>
                                <m:mr>
                                  <m:e>
                                    <m:f>
                                      <m:num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124080" y="12193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9920" y="1219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     “co-varian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3161880" y="1638360"/>
            <a:ext cx="685800" cy="1523880"/>
          </a:xfrm>
          <a:custGeom>
            <a:avLst/>
            <a:gdLst>
              <a:gd name="textAreaLeft" fmla="*/ 0 w 685800"/>
              <a:gd name="textAreaRight" fmla="*/ 247680 w 6858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5400000">
            <a:off x="6095880" y="1142640"/>
            <a:ext cx="685800" cy="2362320"/>
          </a:xfrm>
          <a:custGeom>
            <a:avLst/>
            <a:gdLst>
              <a:gd name="textAreaLeft" fmla="*/ 0 w 685800"/>
              <a:gd name="textAreaRight" fmla="*/ 247680 w 6858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0920" y="29718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 becomes very large, it goes to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4120" y="30481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n becomes very large, it “converges” to “average co-variance”, NOT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99072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143000" y="144756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1320" y="5715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, number of 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958680" y="22539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 Dev of Portfoli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1142640" y="-686520"/>
            <a:ext cx="97531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44197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19810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folio St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47960" y="1752480"/>
            <a:ext cx="2361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1981080"/>
            <a:ext cx="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4572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of a typical as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514600" y="914400"/>
            <a:ext cx="129528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9072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143000" y="144756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571500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, number of asse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-958680" y="225396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 Dev of Portfolio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1142640" y="-686520"/>
            <a:ext cx="9753120" cy="48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441972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198108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67280" y="1219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folio St D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647960" y="1752480"/>
            <a:ext cx="2361960" cy="221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38480" y="2057400"/>
            <a:ext cx="0" cy="1828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867280" y="4419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52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eliminated thru divers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114440" y="838080"/>
            <a:ext cx="7621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24480" y="297180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atic Risk (we cannot eliminate it), non-diversifiabl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171840" y="38862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624852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power of DIVERSIFICATION  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57400" y="320040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304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fiable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685800"/>
            <a:ext cx="91440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91440" y="1332000"/>
            <a:ext cx="2617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inu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38088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these two situ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6520" y="1981080"/>
            <a:ext cx="44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810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22096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$ 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18288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335268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Probability =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220968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72428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payoff) =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iation (payoff) = 0        (It is s sure thing !!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9907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 A  -- do no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76520" y="5943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ssence, you just keep your money, don’t do anything with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 flipV="1">
            <a:off x="1752480" y="1447920"/>
            <a:ext cx="44960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27432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“investment”, $ 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373392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payoff) = 0.5 x 150  +  0.5 x  50 = 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 Deviation (payoff) = SQRT ( 0.5 x 2500  + 0.5 x 2500) =  50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8088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TUATION B – take a gam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362320"/>
            <a:ext cx="44960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25146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off = $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12952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267080" y="2743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= 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38080" y="548640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uld you go with B? … after all, the Expected value of the payoff is the same in both cases, and you can earn something “extra” with B….      What Do You Think?  Or Fe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19320" y="1295280"/>
            <a:ext cx="64008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eople would probably go with Situation A (the sure thing), it is less risky  (less “variation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RIS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sibility that things will go wro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 Deviation of the outcome, somehow, gives as an idea about the risk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657680" cy="400068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/>
          </p:cNvPr>
          <p:cNvSpPr/>
          <p:nvPr/>
        </p:nvSpPr>
        <p:spPr>
          <a:xfrm>
            <a:off x="0" y="400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476600" y="4786200"/>
            <a:ext cx="190800" cy="142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56386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a fair game (expected return = 0) but with different risk 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77760" y="4176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y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13160" y="35812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ri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838080"/>
            <a:ext cx="221004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4800240" y="1905120"/>
            <a:ext cx="24382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762120"/>
            <a:ext cx="7391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us introduce the concept of “Utilit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, refers, loosely speaking, to the “amount of pleasure or satisfaction” that one obtains from a given amount of wealth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tility function, U = F (w), must satisfy the condition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wealth” is better than “less wealth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ther words, F must be a monotonically increasing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19320" y="5181480"/>
            <a:ext cx="7010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371600" y="990720"/>
            <a:ext cx="0" cy="4419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467480" y="5334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609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 = F (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371600" y="1676520"/>
            <a:ext cx="3352680" cy="3504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86200" y="12193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neutral p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 rot="21076200">
            <a:off x="-912240" y="-320040"/>
            <a:ext cx="4266360" cy="477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71" y="1161"/>
                </a:moveTo>
                <a:arcTo wR="10800" hR="10800" stAng="-3791482" swAng="3791482"/>
                <a:lnTo>
                  <a:pt x="10800" y="10800"/>
                </a:lnTo>
                <a:close/>
              </a:path>
              <a:path fill="none" w="21600" h="21600">
                <a:moveTo>
                  <a:pt x="15671" y="1161"/>
                </a:moveTo>
                <a:arcTo wR="10800" hR="10800" stAng="-3791482" swAng="3791482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447920" y="3962160"/>
            <a:ext cx="1143000" cy="1143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1523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l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129800">
            <a:off x="-402120" y="4958280"/>
            <a:ext cx="4399920" cy="114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276720" y="3809520"/>
            <a:ext cx="2590560" cy="2286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32767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ave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9625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” is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71600" y="2209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” is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066680"/>
            <a:ext cx="8001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, in the previous situation, we have a utility function (U), for a risk averse person, defined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 = sqrt (w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tuatio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U) = sqrt ( 100)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tuation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(U) = 0.5 x sqrt (150)  + 0.5 x sqrt (50) = 9.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he refuses to play the game…    (he has decided based on the Expected Utility rather than the Expected Retur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isk averse player will refuse to engage in a game in which the E [Return] is 0, that is, a fair g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VCHARLIN</cp:lastModifiedBy>
  <dcterms:modified xsi:type="dcterms:W3CDTF">2010-08-19T20:07:47Z</dcterms:modified>
  <cp:revision>49</cp:revision>
  <dc:subject/>
  <dc:title>Slide 1</dc:title>
</cp:coreProperties>
</file>