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3E9F-2C05-40F5-A24C-A0BC255FA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1F92-9B7D-42C9-81D8-64B597766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30AC-E82D-432D-914F-C93B16743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83F2-E84A-4950-9E23-7C4FDFB98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BC7F-0DC3-4B66-B359-4A1629B63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E60E-DAD2-43C4-934C-2C7033319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67E9-833C-4D01-B143-6B0649133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206A-1547-4095-B28F-929F97AAC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F1B9-9E03-4FA5-936C-C51762FC6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224E-C2F9-46C9-9433-FBBA65B63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8F36-AE4B-4AA9-865D-A4E3ED0D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7B81-C664-4EF0-9FA0-8FA3DF914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6362-A456-4062-9F1B-36289BDDC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AE9A-6319-49AF-B75A-6E75BCCE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FB8D-B8C4-4B64-A489-D19BC339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2C3D-A17C-4BA8-8A23-C2FA6206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7603-1F07-4859-8CD8-89EDBA50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C892-36BB-4003-A6D0-D4855356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6B73-7C1B-4897-B16B-6F607F65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22D3-4B17-4C09-9B08-D1A27219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C927-CC32-4EAF-8ACA-D77BE68D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315F-D247-408F-BC09-157256DE4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914400" y="2362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ortfolio Theory &amp; Related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1891440" y="1332000"/>
            <a:ext cx="2617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Basic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Free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ty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Line 4"/>
          <p:cNvSpPr/>
          <p:nvPr/>
        </p:nvSpPr>
        <p:spPr>
          <a:xfrm>
            <a:off x="1143000" y="1905120"/>
            <a:ext cx="6781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828800" y="1752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6095880" y="1752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1523880" y="1371600"/>
            <a:ext cx="48769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2449440" y="3352680"/>
            <a:ext cx="5116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(for a given holding period) =  (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/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457200" y="4343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gener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6"/>
          <p:cNvSpPr/>
          <p:nvPr/>
        </p:nvSpPr>
        <p:spPr>
          <a:xfrm rot="5400000">
            <a:off x="3504600" y="457200"/>
            <a:ext cx="914400" cy="4267080"/>
          </a:xfrm>
          <a:custGeom>
            <a:avLst/>
            <a:gdLst>
              <a:gd name="textAreaLeft" fmla="*/ 0 w 914400"/>
              <a:gd name="textAreaRight" fmla="*/ 330120 w 91440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7"/>
          <p:cNvSpPr/>
          <p:nvPr/>
        </p:nvSpPr>
        <p:spPr>
          <a:xfrm>
            <a:off x="990720" y="5562720"/>
            <a:ext cx="7391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8"/>
          <p:cNvSpPr/>
          <p:nvPr/>
        </p:nvSpPr>
        <p:spPr>
          <a:xfrm>
            <a:off x="160020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9"/>
          <p:cNvSpPr/>
          <p:nvPr/>
        </p:nvSpPr>
        <p:spPr>
          <a:xfrm>
            <a:off x="274320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0"/>
          <p:cNvSpPr/>
          <p:nvPr/>
        </p:nvSpPr>
        <p:spPr>
          <a:xfrm>
            <a:off x="403848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1"/>
          <p:cNvSpPr/>
          <p:nvPr/>
        </p:nvSpPr>
        <p:spPr>
          <a:xfrm>
            <a:off x="624852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2"/>
          <p:cNvSpPr/>
          <p:nvPr/>
        </p:nvSpPr>
        <p:spPr>
          <a:xfrm>
            <a:off x="518148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1371600" y="5029200"/>
            <a:ext cx="70866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5"/>
          <p:cNvSpPr/>
          <p:nvPr/>
        </p:nvSpPr>
        <p:spPr>
          <a:xfrm>
            <a:off x="815328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6"/>
          <p:cNvSpPr/>
          <p:nvPr/>
        </p:nvSpPr>
        <p:spPr>
          <a:xfrm>
            <a:off x="723888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7"/>
          <p:cNvSpPr/>
          <p:nvPr/>
        </p:nvSpPr>
        <p:spPr>
          <a:xfrm>
            <a:off x="6095880" y="5029200"/>
            <a:ext cx="2438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+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9"/>
          <p:cNvSpPr/>
          <p:nvPr/>
        </p:nvSpPr>
        <p:spPr>
          <a:xfrm rot="5400000">
            <a:off x="5524200" y="5524200"/>
            <a:ext cx="381240" cy="1067040"/>
          </a:xfrm>
          <a:custGeom>
            <a:avLst/>
            <a:gdLst>
              <a:gd name="textAreaLeft" fmla="*/ 0 w 381240"/>
              <a:gd name="textAreaRight" fmla="*/ 137520 w 38124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0"/>
          <p:cNvSpPr/>
          <p:nvPr/>
        </p:nvSpPr>
        <p:spPr>
          <a:xfrm>
            <a:off x="4753440" y="6248520"/>
            <a:ext cx="3297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 =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-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/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1"/>
          <p:cNvSpPr/>
          <p:nvPr/>
        </p:nvSpPr>
        <p:spPr>
          <a:xfrm>
            <a:off x="7224840" y="14842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9"/>
          <p:cNvSpPr/>
          <p:nvPr/>
        </p:nvSpPr>
        <p:spPr>
          <a:xfrm>
            <a:off x="533520" y="1219320"/>
            <a:ext cx="7391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114300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228600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358128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579132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472428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914400" y="685800"/>
            <a:ext cx="70866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>
            <a:off x="769608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678168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5638680" y="685800"/>
            <a:ext cx="2438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+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9"/>
          <p:cNvSpPr/>
          <p:nvPr/>
        </p:nvSpPr>
        <p:spPr>
          <a:xfrm rot="5400000">
            <a:off x="5067000" y="1180800"/>
            <a:ext cx="381240" cy="1067040"/>
          </a:xfrm>
          <a:custGeom>
            <a:avLst/>
            <a:gdLst>
              <a:gd name="textAreaLeft" fmla="*/ 0 w 381240"/>
              <a:gd name="textAreaRight" fmla="*/ 137520 w 38124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4296240" y="1905120"/>
            <a:ext cx="3297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 =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-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/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1"/>
          <p:cNvSpPr/>
          <p:nvPr/>
        </p:nvSpPr>
        <p:spPr>
          <a:xfrm>
            <a:off x="838080" y="29718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Return =  E(R) 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22"/>
              <p:cNvSpPr txBox="1"/>
              <p:nvPr/>
            </p:nvSpPr>
            <p:spPr>
              <a:xfrm>
                <a:off x="3581280" y="2590920"/>
                <a:ext cx="236232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>
                          <m:r>
                            <m:t xml:space="preserve">(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e>
                      </m:mr>
                    </m:m>
                    <m:r>
                      <m:t xml:space="preserve">)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4" name="Text Box 25"/>
          <p:cNvSpPr/>
          <p:nvPr/>
        </p:nvSpPr>
        <p:spPr>
          <a:xfrm>
            <a:off x="609480" y="48769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 Deviation can be estimated as 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28"/>
              <p:cNvSpPr txBox="1"/>
              <p:nvPr/>
            </p:nvSpPr>
            <p:spPr>
              <a:xfrm>
                <a:off x="3200400" y="4800600"/>
                <a:ext cx="419112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den>
                                  </m:f>
                                </m:e>
                                <m:e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j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  <m:e>
                                      <m:r>
                                        <m:t xml:space="preserve">(</m:t>
                                      </m:r>
                                      <m:sSub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  <m:sub>
                                          <m:r>
                                            <m:t xml:space="preserve">j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average</m:t>
                                          </m:r>
                                        </m:sub>
                                      </m:sSub>
                                      <m:sSup>
                                        <m:e>
                                          <m:r>
                                            <m:t xml:space="preserve">)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e>
                                  </m:nary>
                                </m:e>
                              </m:mr>
                            </m:m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6" name="Line 29"/>
          <p:cNvSpPr/>
          <p:nvPr/>
        </p:nvSpPr>
        <p:spPr>
          <a:xfrm>
            <a:off x="5257800" y="3962520"/>
            <a:ext cx="9907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2"/>
          <p:cNvSpPr/>
          <p:nvPr/>
        </p:nvSpPr>
        <p:spPr>
          <a:xfrm>
            <a:off x="533520" y="1219320"/>
            <a:ext cx="7391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114300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>
            <a:off x="228600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358128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>
            <a:off x="579132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472428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914400" y="685800"/>
            <a:ext cx="70866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769608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>
            <a:off x="678168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5638680" y="685800"/>
            <a:ext cx="2438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+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 rot="5400000">
            <a:off x="4267080" y="-1523880"/>
            <a:ext cx="304920" cy="6400800"/>
          </a:xfrm>
          <a:custGeom>
            <a:avLst/>
            <a:gdLst>
              <a:gd name="textAreaLeft" fmla="*/ 0 w 304920"/>
              <a:gd name="textAreaRight" fmla="*/ 110160 w 304920"/>
              <a:gd name="textAreaTop" fmla="*/ 166680 h 6400800"/>
              <a:gd name="textAreaBottom" fmla="*/ 6234120 h 640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9"/>
          <p:cNvSpPr/>
          <p:nvPr/>
        </p:nvSpPr>
        <p:spPr>
          <a:xfrm>
            <a:off x="1371600" y="2286000"/>
            <a:ext cx="335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 1 + g)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(n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1143000" y="41911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metric average   (GEOME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1"/>
          <p:cNvSpPr/>
          <p:nvPr/>
        </p:nvSpPr>
        <p:spPr>
          <a:xfrm flipV="1">
            <a:off x="2286000" y="2666880"/>
            <a:ext cx="10666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720" y="536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able 5.3 History of Rates of Returns of Asset Classes for Generations, 1926- 200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bod8237x_tb0503"/>
          <p:cNvPicPr/>
          <p:nvPr/>
        </p:nvPicPr>
        <p:blipFill>
          <a:blip r:embed="rId1"/>
          <a:stretch/>
        </p:blipFill>
        <p:spPr>
          <a:xfrm>
            <a:off x="1074600" y="1405080"/>
            <a:ext cx="7102440" cy="4157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1143000" y="609588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could be problematic about this tab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838080" y="990720"/>
            <a:ext cx="7467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ss Return   =   Actual Rate of Return  -   Risk Free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914400" y="41911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premium is the expected value of the excess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 flipV="1">
            <a:off x="1066680" y="2286000"/>
            <a:ext cx="7621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5562720" y="4343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 flipV="1">
            <a:off x="5867280" y="2286000"/>
            <a:ext cx="5335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609480" y="5486400"/>
            <a:ext cx="7467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pe ratio (for a portfolio)  =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Premium / St. Dev. Of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25600" y="274320"/>
            <a:ext cx="8092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5.4 History of Excess Returns of Asset Classes for Generations, 1926-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bod8237x_tb0504"/>
          <p:cNvPicPr/>
          <p:nvPr/>
        </p:nvPicPr>
        <p:blipFill>
          <a:blip r:embed="rId1"/>
          <a:stretch/>
        </p:blipFill>
        <p:spPr>
          <a:xfrm>
            <a:off x="1600200" y="2133720"/>
            <a:ext cx="6151680" cy="4635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20:48:00Z</dcterms:created>
  <dc:creator>VCHARLIN</dc:creator>
  <dc:description/>
  <dc:language>en-US</dc:language>
  <cp:lastModifiedBy>...............</cp:lastModifiedBy>
  <dcterms:modified xsi:type="dcterms:W3CDTF">2010-08-13T16:32:43Z</dcterms:modified>
  <cp:revision>17</cp:revision>
  <dc:subject/>
  <dc:title>Slide 1</dc:title>
</cp:coreProperties>
</file>