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FD25-6013-4890-B03A-8041EAFBB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C88F-117E-4DDF-90B3-E1750F62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7456-6829-440B-88EC-22448F41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BC0A-1069-4893-923D-2F754C33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7C12-64E2-439B-A2E3-34AA61211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E302-B137-4EF7-BCF1-223CC4302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4886-56E8-4A5E-A848-D609033A1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6BD8-E01F-4B7F-BB6C-512C1DD28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BB5A-E378-4E08-8012-91A932FB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F32-33FC-46E0-B2D0-0DAC8443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D91-47A0-438F-B9C1-1E39404C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AF1-243F-421B-9A41-54179C28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D71-D7F0-4C55-9A89-1C9AFA25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981-D7B4-48D3-8713-B520770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CD7-11CC-4A90-BE4F-5A9807FD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31C-4DE1-490B-8578-403F2C50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AAE-9B3C-4F3B-89AF-CDD1274B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0C7-B5E5-4FF3-80C2-52EB1911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855-BACB-4C26-B0E4-72FACEF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75B-7350-40A6-ABBF-0823EFCB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B9B-3200-4160-94AC-6AA0418D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D9CB-1350-4AFA-99BF-86C208CF5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891440" y="1332000"/>
            <a:ext cx="2617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4"/>
          <p:cNvSpPr/>
          <p:nvPr/>
        </p:nvSpPr>
        <p:spPr>
          <a:xfrm>
            <a:off x="1143000" y="1905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8288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958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3880" y="1371600"/>
            <a:ext cx="487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449440" y="3352680"/>
            <a:ext cx="511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for a given holding period) = 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5720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gene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rot="5400000">
            <a:off x="3504600" y="457200"/>
            <a:ext cx="914400" cy="4267080"/>
          </a:xfrm>
          <a:custGeom>
            <a:avLst/>
            <a:gdLst>
              <a:gd name="textAreaLeft" fmla="*/ 0 w 914400"/>
              <a:gd name="textAreaRight" fmla="*/ 330120 w 9144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990720" y="55627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600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743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6248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5181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1371600" y="50292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81532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2388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095880" y="50292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9"/>
          <p:cNvSpPr/>
          <p:nvPr/>
        </p:nvSpPr>
        <p:spPr>
          <a:xfrm rot="5400000">
            <a:off x="5524200" y="55242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4753440" y="62485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224840" y="1484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9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 rot="5400000">
            <a:off x="5067000" y="11808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296240" y="19051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838080" y="2971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=  E(R) 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2"/>
              <p:cNvSpPr txBox="1"/>
              <p:nvPr/>
            </p:nvSpPr>
            <p:spPr>
              <a:xfrm>
                <a:off x="3581280" y="2590920"/>
                <a:ext cx="23623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Text Box 25"/>
          <p:cNvSpPr/>
          <p:nvPr/>
        </p:nvSpPr>
        <p:spPr>
          <a:xfrm>
            <a:off x="60948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 Deviation can be estimated as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8"/>
              <p:cNvSpPr txBox="1"/>
              <p:nvPr/>
            </p:nvSpPr>
            <p:spPr>
              <a:xfrm>
                <a:off x="3200400" y="4800600"/>
                <a:ext cx="4191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verage</m:t>
                                          </m:r>
                                        </m:sub>
                                      </m:sSub>
                                      <m:sSup>
                                        <m:e>
                                          <m:r>
                                            <m:t xml:space="preserve">)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Line 29"/>
          <p:cNvSpPr/>
          <p:nvPr/>
        </p:nvSpPr>
        <p:spPr>
          <a:xfrm>
            <a:off x="5257800" y="396252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 rot="5400000">
            <a:off x="4267080" y="-1523880"/>
            <a:ext cx="304920" cy="6400800"/>
          </a:xfrm>
          <a:custGeom>
            <a:avLst/>
            <a:gdLst>
              <a:gd name="textAreaLeft" fmla="*/ 0 w 304920"/>
              <a:gd name="textAreaRight" fmla="*/ 110160 w 30492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371600" y="2286000"/>
            <a:ext cx="33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1 + g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43000" y="4191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 average   (GEO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 flipV="1">
            <a:off x="2286000" y="266688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ble 5.3 History of Rates of Returns of Asset Classes for Generations, 1926- 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bod8237x_tb0503"/>
          <p:cNvPicPr/>
          <p:nvPr/>
        </p:nvPicPr>
        <p:blipFill>
          <a:blip r:embed="rId1"/>
          <a:stretch/>
        </p:blipFill>
        <p:spPr>
          <a:xfrm>
            <a:off x="1074600" y="1405080"/>
            <a:ext cx="7102440" cy="415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143000" y="6095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ld be problematic about this t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838080" y="990720"/>
            <a:ext cx="7467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Return   =   Actual Rate of Return  -  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14400" y="4191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is the expected value of the excess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066680" y="2286000"/>
            <a:ext cx="762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56272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867280" y="228600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09480" y="548640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e ratio (for a portfolio) 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/ St. Dev. Of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74320"/>
            <a:ext cx="809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5.4 History of Excess Returns of Asset Classes for Generations, 1926-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od8237x_tb0504"/>
          <p:cNvPicPr/>
          <p:nvPr/>
        </p:nvPicPr>
        <p:blipFill>
          <a:blip r:embed="rId1"/>
          <a:stretch/>
        </p:blipFill>
        <p:spPr>
          <a:xfrm>
            <a:off x="1600200" y="2133720"/>
            <a:ext cx="6151680" cy="463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13T16:32:43Z</dcterms:modified>
  <cp:revision>17</cp:revision>
  <dc:subject/>
  <dc:title>Slide 1</dc:title>
</cp:coreProperties>
</file>