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BEB5-6FBE-463D-BF32-561EC50B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B64F-F630-4DB9-8582-BA0BE4293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DEB8-2423-4D55-85C5-08AD72913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AD63-A57F-4FAE-BF8F-A29BA8F71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CADA-1EA1-4182-8D77-75298249A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4ECD-BB98-420C-89BC-18A22853F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E1E9-EF13-433E-8103-EBD45201B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DE0C-951B-4167-8F9E-CBE1BBB00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5C3B-2631-48BD-A6F8-96E15BBCD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1A6-82F1-45FB-9E97-87CC7671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8BA-5390-4604-9720-F3FC25DE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D650-179C-4B14-983A-EE01B258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EAB5-5662-4287-8F96-0623E18E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18A-55EA-4D4A-98EB-0014078E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259A-1E62-4AE1-AEF6-55649750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75F3-582F-49B3-A054-E715D306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5600-9BCE-446F-9CD7-603CD367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DAC-A7D5-4E3F-9A4B-7CCABECC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02B3-BCBD-4A88-ACA5-FEF80244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C08-82A5-4A77-BF1B-500D5B7A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ED1-69E4-4D50-81A1-71172D9C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F653-0CAC-470D-AB7B-297269EEE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891440" y="1332000"/>
            <a:ext cx="2617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asic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4"/>
          <p:cNvSpPr/>
          <p:nvPr/>
        </p:nvSpPr>
        <p:spPr>
          <a:xfrm>
            <a:off x="1143000" y="1905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8288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958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3880" y="1371600"/>
            <a:ext cx="4876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449440" y="3352680"/>
            <a:ext cx="511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for a given holding period) = 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5720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gene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 rot="5400000">
            <a:off x="3504600" y="457200"/>
            <a:ext cx="914400" cy="4267080"/>
          </a:xfrm>
          <a:custGeom>
            <a:avLst/>
            <a:gdLst>
              <a:gd name="textAreaLeft" fmla="*/ 0 w 914400"/>
              <a:gd name="textAreaRight" fmla="*/ 330120 w 9144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990720" y="55627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600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2743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62485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5181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1371600" y="50292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81532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2388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095880" y="50292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9"/>
          <p:cNvSpPr/>
          <p:nvPr/>
        </p:nvSpPr>
        <p:spPr>
          <a:xfrm rot="5400000">
            <a:off x="5524200" y="55242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4753440" y="62485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224840" y="1484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9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 rot="5400000">
            <a:off x="5067000" y="11808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296240" y="19051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838080" y="2971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=  E(R) 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2"/>
              <p:cNvSpPr txBox="1"/>
              <p:nvPr/>
            </p:nvSpPr>
            <p:spPr>
              <a:xfrm>
                <a:off x="3581280" y="2590920"/>
                <a:ext cx="23623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" name="Text Box 25"/>
          <p:cNvSpPr/>
          <p:nvPr/>
        </p:nvSpPr>
        <p:spPr>
          <a:xfrm>
            <a:off x="60948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 Deviation can be estimated as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8"/>
              <p:cNvSpPr txBox="1"/>
              <p:nvPr/>
            </p:nvSpPr>
            <p:spPr>
              <a:xfrm>
                <a:off x="3200400" y="4800600"/>
                <a:ext cx="4191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verage</m:t>
                                          </m:r>
                                        </m:sub>
                                      </m:sSub>
                                      <m:sSup>
                                        <m:e>
                                          <m:r>
                                            <m:t xml:space="preserve">)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Line 29"/>
          <p:cNvSpPr/>
          <p:nvPr/>
        </p:nvSpPr>
        <p:spPr>
          <a:xfrm>
            <a:off x="5257800" y="3962520"/>
            <a:ext cx="990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 rot="5400000">
            <a:off x="4267080" y="-1523880"/>
            <a:ext cx="304920" cy="6400800"/>
          </a:xfrm>
          <a:custGeom>
            <a:avLst/>
            <a:gdLst>
              <a:gd name="textAreaLeft" fmla="*/ 0 w 304920"/>
              <a:gd name="textAreaRight" fmla="*/ 110160 w 304920"/>
              <a:gd name="textAreaTop" fmla="*/ 166680 h 6400800"/>
              <a:gd name="textAreaBottom" fmla="*/ 6234120 h 640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1371600" y="2286000"/>
            <a:ext cx="33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1 + g)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143000" y="4191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 average   (GEO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 flipV="1">
            <a:off x="2286000" y="266688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ble 5.3 History of Rates of Returns of Asset Classes for Generations, 1926- 200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bod8237x_tb0503"/>
          <p:cNvPicPr/>
          <p:nvPr/>
        </p:nvPicPr>
        <p:blipFill>
          <a:blip r:embed="rId1"/>
          <a:stretch/>
        </p:blipFill>
        <p:spPr>
          <a:xfrm>
            <a:off x="1074600" y="1405080"/>
            <a:ext cx="7102440" cy="415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143000" y="6095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uld be problematic about this t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838080" y="990720"/>
            <a:ext cx="7467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Return   =   Actual Rate of Return  -   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14400" y="4191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is the expected value of the excess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066680" y="2286000"/>
            <a:ext cx="762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56272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5867280" y="228600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09480" y="548640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pe ratio (for a portfolio)  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/ St. Dev. Of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74320"/>
            <a:ext cx="809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5.4 History of Excess Returns of Asset Classes for Generations, 1926-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od8237x_tb0504"/>
          <p:cNvPicPr/>
          <p:nvPr/>
        </p:nvPicPr>
        <p:blipFill>
          <a:blip r:embed="rId1"/>
          <a:stretch/>
        </p:blipFill>
        <p:spPr>
          <a:xfrm>
            <a:off x="1600200" y="2133720"/>
            <a:ext cx="6151680" cy="463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...............</cp:lastModifiedBy>
  <dcterms:modified xsi:type="dcterms:W3CDTF">2010-08-13T16:32:43Z</dcterms:modified>
  <cp:revision>17</cp:revision>
  <dc:subject/>
  <dc:title>Slide 1</dc:title>
</cp:coreProperties>
</file>