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3DA2-E51C-49CE-B6AF-FEECE451E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08AA-3453-4935-B905-2F7AA4622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4D38-0E5B-4654-B2A9-1FB8E4B80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33AE-1411-4BBC-9C20-4A4B67648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A8F7-5B0E-4D8D-8697-FBA23562B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6106-CCC5-43AA-8CE2-0C1F0E2F0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38F5-8138-4F1D-9025-E3CFC1AEE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6026-1E65-4849-822D-D85D66F97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12E6-67F0-4848-AF73-39C04AD80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CA9B-833D-46BE-BB8A-B44334BB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4BBE-28A5-4506-AB25-4514FB88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989-609C-46E5-B3B2-2A967A54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511-95AE-4A97-AC35-32A66734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4F1-6854-4238-A50C-802F477E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E00-1088-40A2-828A-A0CF2836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663-FD10-478E-AF87-E3657B5C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E450-913A-4244-993B-02A05508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A396-C4DD-4320-AF86-B8C3E868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83AD-6652-463F-AC8E-B6973FF0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4B4E-9592-47E7-97CC-0081D021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A8B-AF04-4A78-8D8E-3CC049E6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9E7F-2DCD-4F1D-AE0B-A89B6FCD6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891440" y="1332000"/>
            <a:ext cx="2617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asic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t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4"/>
          <p:cNvSpPr/>
          <p:nvPr/>
        </p:nvSpPr>
        <p:spPr>
          <a:xfrm>
            <a:off x="1143000" y="1905120"/>
            <a:ext cx="678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82880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0958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523880" y="1371600"/>
            <a:ext cx="4876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449440" y="3352680"/>
            <a:ext cx="511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(for a given holding period) = 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/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5720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gener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"/>
          <p:cNvSpPr/>
          <p:nvPr/>
        </p:nvSpPr>
        <p:spPr>
          <a:xfrm rot="5400000">
            <a:off x="3504600" y="457200"/>
            <a:ext cx="914400" cy="4267080"/>
          </a:xfrm>
          <a:custGeom>
            <a:avLst/>
            <a:gdLst>
              <a:gd name="textAreaLeft" fmla="*/ 0 w 914400"/>
              <a:gd name="textAreaRight" fmla="*/ 330120 w 91440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990720" y="5562720"/>
            <a:ext cx="7391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16002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27432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624852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"/>
          <p:cNvSpPr/>
          <p:nvPr/>
        </p:nvSpPr>
        <p:spPr>
          <a:xfrm>
            <a:off x="51814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1371600" y="5029200"/>
            <a:ext cx="7086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5"/>
          <p:cNvSpPr/>
          <p:nvPr/>
        </p:nvSpPr>
        <p:spPr>
          <a:xfrm>
            <a:off x="81532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6"/>
          <p:cNvSpPr/>
          <p:nvPr/>
        </p:nvSpPr>
        <p:spPr>
          <a:xfrm>
            <a:off x="72388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6095880" y="5029200"/>
            <a:ext cx="243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9"/>
          <p:cNvSpPr/>
          <p:nvPr/>
        </p:nvSpPr>
        <p:spPr>
          <a:xfrm rot="5400000">
            <a:off x="5524200" y="5524200"/>
            <a:ext cx="381240" cy="1067040"/>
          </a:xfrm>
          <a:custGeom>
            <a:avLst/>
            <a:gdLst>
              <a:gd name="textAreaLeft" fmla="*/ 0 w 381240"/>
              <a:gd name="textAreaRight" fmla="*/ 137520 w 3812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4753440" y="6248520"/>
            <a:ext cx="329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 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/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1"/>
          <p:cNvSpPr/>
          <p:nvPr/>
        </p:nvSpPr>
        <p:spPr>
          <a:xfrm>
            <a:off x="7224840" y="1484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9"/>
          <p:cNvSpPr/>
          <p:nvPr/>
        </p:nvSpPr>
        <p:spPr>
          <a:xfrm>
            <a:off x="533520" y="1219320"/>
            <a:ext cx="7391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1143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2286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3581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5791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4724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914400" y="685800"/>
            <a:ext cx="7086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76960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67816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5638680" y="685800"/>
            <a:ext cx="243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9"/>
          <p:cNvSpPr/>
          <p:nvPr/>
        </p:nvSpPr>
        <p:spPr>
          <a:xfrm rot="5400000">
            <a:off x="5067000" y="1180800"/>
            <a:ext cx="381240" cy="1067040"/>
          </a:xfrm>
          <a:custGeom>
            <a:avLst/>
            <a:gdLst>
              <a:gd name="textAreaLeft" fmla="*/ 0 w 381240"/>
              <a:gd name="textAreaRight" fmla="*/ 137520 w 3812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4296240" y="1905120"/>
            <a:ext cx="329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 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/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838080" y="29718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Return =  E(R) 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22"/>
              <p:cNvSpPr txBox="1"/>
              <p:nvPr/>
            </p:nvSpPr>
            <p:spPr>
              <a:xfrm>
                <a:off x="3581280" y="2590920"/>
                <a:ext cx="236232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r>
                            <m:t xml:space="preserve">(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mr>
                    </m:m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4" name="Text Box 25"/>
          <p:cNvSpPr/>
          <p:nvPr/>
        </p:nvSpPr>
        <p:spPr>
          <a:xfrm>
            <a:off x="609480" y="4876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 Deviation can be estimated as 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28"/>
              <p:cNvSpPr txBox="1"/>
              <p:nvPr/>
            </p:nvSpPr>
            <p:spPr>
              <a:xfrm>
                <a:off x="3200400" y="4800600"/>
                <a:ext cx="419112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den>
                                  </m:f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j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average</m:t>
                                          </m:r>
                                        </m:sub>
                                      </m:sSub>
                                      <m:sSup>
                                        <m:e>
                                          <m:r>
                                            <m:t xml:space="preserve">)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6" name="Line 29"/>
          <p:cNvSpPr/>
          <p:nvPr/>
        </p:nvSpPr>
        <p:spPr>
          <a:xfrm>
            <a:off x="5257800" y="3962520"/>
            <a:ext cx="990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533520" y="1219320"/>
            <a:ext cx="7391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1143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286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3581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5791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4724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14400" y="685800"/>
            <a:ext cx="7086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76960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67816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638680" y="685800"/>
            <a:ext cx="243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 rot="5400000">
            <a:off x="4267080" y="-1523880"/>
            <a:ext cx="304920" cy="6400800"/>
          </a:xfrm>
          <a:custGeom>
            <a:avLst/>
            <a:gdLst>
              <a:gd name="textAreaLeft" fmla="*/ 0 w 304920"/>
              <a:gd name="textAreaRight" fmla="*/ 110160 w 304920"/>
              <a:gd name="textAreaTop" fmla="*/ 166680 h 6400800"/>
              <a:gd name="textAreaBottom" fmla="*/ 6234120 h 640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1371600" y="2286000"/>
            <a:ext cx="33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1 + g)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n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143000" y="41911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 average   (GEOME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1"/>
          <p:cNvSpPr/>
          <p:nvPr/>
        </p:nvSpPr>
        <p:spPr>
          <a:xfrm flipV="1">
            <a:off x="2286000" y="2666880"/>
            <a:ext cx="1066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720" y="53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ble 5.3 History of Rates of Returns of Asset Classes for Generations, 1926- 200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bod8237x_tb0503"/>
          <p:cNvPicPr/>
          <p:nvPr/>
        </p:nvPicPr>
        <p:blipFill>
          <a:blip r:embed="rId1"/>
          <a:stretch/>
        </p:blipFill>
        <p:spPr>
          <a:xfrm>
            <a:off x="1074600" y="1405080"/>
            <a:ext cx="7102440" cy="4157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143000" y="60958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ould be problematic about this t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838080" y="990720"/>
            <a:ext cx="7467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ss Return   =   Actual Rate of Return  -   Risk 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914400" y="4191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 is the expected value of the excess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1066680" y="2286000"/>
            <a:ext cx="7621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562720" y="4343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5867280" y="228600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609480" y="5486400"/>
            <a:ext cx="7467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pe ratio (for a portfolio)  =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 / St. Dev. Of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5600" y="274320"/>
            <a:ext cx="8092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5.4 History of Excess Returns of Asset Classes for Generations, 1926-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bod8237x_tb0504"/>
          <p:cNvPicPr/>
          <p:nvPr/>
        </p:nvPicPr>
        <p:blipFill>
          <a:blip r:embed="rId1"/>
          <a:stretch/>
        </p:blipFill>
        <p:spPr>
          <a:xfrm>
            <a:off x="1600200" y="2133720"/>
            <a:ext cx="6151680" cy="463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...............</cp:lastModifiedBy>
  <dcterms:modified xsi:type="dcterms:W3CDTF">2010-08-13T16:32:43Z</dcterms:modified>
  <cp:revision>17</cp:revision>
  <dc:subject/>
  <dc:title>Slide 1</dc:title>
</cp:coreProperties>
</file>