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BCE-73E1-495E-9602-3586B758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79A-C41C-419B-A10E-66076BC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B93-75EE-486D-A1EC-F64CE798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F86-6280-4EA5-8ACA-30F3B13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D15-718E-4F59-982D-949A395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B28-0116-4713-9DCD-88F198BA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96C-AF1B-4539-AD5C-A369EB7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C15-F717-4EA4-AB87-36F6FE2F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4E7-4CA4-431C-8A99-CCD27E50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6FD-659B-4C3C-9CC1-A48D5CD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224-6C24-41A2-AFCE-1D0B0B1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411-11D4-4932-A4E9-A56097F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2EB1-93ED-45D1-9A42-C65D1FB2E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4120" y="4075200"/>
            <a:ext cx="43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llar today versus a dollar tomorrow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Pref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we have inflation (this is Latin America after all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FV / ( 1  + 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1828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interes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5053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971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5053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733560" y="2133000"/>
            <a:ext cx="609480" cy="4114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572000"/>
            <a:ext cx="317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n rate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76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28600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35268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+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419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pprox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81480"/>
            <a:ext cx="6324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approximation is valid only when  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(small r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800240" y="373356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724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term, for smal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15238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990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52388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6858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important concep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 (PV) today and you eventually get (FV) at the end of the investment peri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or rate of Return) = [ FV - PV] / 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1337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tuity: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 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38098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ver and ev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066680" y="5029200"/>
                <a:ext cx="655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14400" y="6248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on nex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762120"/>
            <a:ext cx="5562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   a = CF/ (1 + R)   and   x = 1/ (1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V = a (1 + 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….) 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x =  a (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)             (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(2) 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 [ 1 – x ]  =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altern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( 1 – 1/(1+R)  )  =   CF /  (  1 +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ing by  (1+R) re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R  = 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,      PV  =   CF /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81280"/>
            <a:ext cx="69339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tha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Growing” 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9360" y="5003640"/>
                <a:ext cx="7589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</m:den>
                    </m:f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2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valid when g &lt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0480" y="2971800"/>
            <a:ext cx="768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+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ity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M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0880" y="5030640"/>
                <a:ext cx="81536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nuit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971800"/>
            <a:ext cx="693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429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take a loan for which you will pay an interest R every year, and the loan amount is [Loan].  What is the annual payment (CF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with equal annual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57200" y="4572000"/>
                <a:ext cx="856944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oa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nu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ymen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an</m:t>
                            </m:r>
                            <m:r>
                              <m:t xml:space="preserve">]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7315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You Invest $ 1 today in a safe investment (more about “safety” later) you will get a 5% return, that is, $ 1.05 at the end of th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Future Value (FV) of 1 dollar, is, $1 x 1.05 = 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the Present Value (PV) of 1.05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962520"/>
            <a:ext cx="5486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ant to have $1 at the end of the period, you do not need a dollar today, you only need to invest  1/1.05 =  95.2  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Present Value = (Future Value)/ [ 1 +  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=  discount rate (5%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68580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oday you can buy a painting by an expected-to-be-famous artist for $ 55,000 and you think you can sell it later (the end of the period) for $ 73,000.   Would you buy the pa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25780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05) =  $ 14,5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ems like a good idea (NPV is positive) but…  Is the 5% the correct value to use as “the discount rate”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685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o use as “discount rate” a higher rate, a rate that captures (or reflects) the riskiness of the situation.  Suppose that “similar investments”, in terms of risk, offer a return of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25780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15) =  $ 8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ood, but not that good  (or, not as good as we thou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219320"/>
            <a:ext cx="7010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dea 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evious example the Opportunity Cost of Capital was 15%, because 15% was the return you could get from an investment in a security offering the “same amount of ri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2514600"/>
                <a:ext cx="69148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14400" y="6094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or fundament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our”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ce  =  Mass  x  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828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81280" y="3428640"/>
            <a:ext cx="3657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6386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, this is the “th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1143000"/>
                <a:ext cx="6915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05120" y="1904760"/>
            <a:ext cx="5105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304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4435560"/>
                <a:ext cx="609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533520" y="5410080"/>
            <a:ext cx="2361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the risk free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90720" y="48765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362320" y="48002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0292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ond factor (added to the risk free rate) is to account for the “additional” level of risk in the potential investment (or cash fl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600" y="198108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219320"/>
            <a:ext cx="6477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ng to rememb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ash flows are absolutely safe (we are 100% sure we will get them), then, we use the risk free rate to discou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at is, if there is some degree of uncertainty (risk) associated with the cash flows, we discount them using the Expected Rate of Return offered by a security with the same degree of risk (R = (risk free rate) +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95680" y="39625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133720" y="54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09880" y="4343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1:40:46Z</dcterms:created>
  <dc:creator>VCHARLIN</dc:creator>
  <dc:description/>
  <dc:language>en-US</dc:language>
  <cp:lastModifiedBy>VCHARLIN</cp:lastModifiedBy>
  <dcterms:modified xsi:type="dcterms:W3CDTF">2010-07-28T15:26:26Z</dcterms:modified>
  <cp:revision>29</cp:revision>
  <dc:subject/>
  <dc:title>Slide 1</dc:title>
</cp:coreProperties>
</file>