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531-11CF-49F4-96DA-F412C62F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B75-783F-46F6-8D54-36BFA9C2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CCD-EE48-47C7-8F64-345F356E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0BD-1F11-4C1F-9E1A-0F873B89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925-2FE0-4B6E-AADD-B8C1782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F8C-9E6D-443E-AC5D-8489F9F5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67C-C843-442B-9F4F-011BB90E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309-DAFB-447D-BE1C-DC8901F9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CB6-0EFC-42D7-B07C-111E9447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267-15B1-44CA-8B8C-40F0FF79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0F8-C518-4265-A885-CFB8764A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965-2DD4-446E-A8BB-EA49A781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3273-7F51-4B75-85B5-5A6B01F9D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84120" y="4075200"/>
            <a:ext cx="43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ollar today versus a dollar tomorrow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Pref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we have inflation (this is Latin America after all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523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FV / ( 1  + 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05120" y="18288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interes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5053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29718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                                                           F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50532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733560" y="2133000"/>
            <a:ext cx="609480" cy="4114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572000"/>
            <a:ext cx="317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n rate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R  =  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95280"/>
            <a:ext cx="76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R  =  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28600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35268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+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41972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pprox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181480"/>
            <a:ext cx="6324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approximation is valid only when  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mall (small r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800240" y="373356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724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term, for small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15238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990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                                                           F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52388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514600"/>
            <a:ext cx="6858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important concep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 (PV) today and you eventually get (FV) at the end of the investment peri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(or rate of Return) = [ FV - PV] / 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1337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4280" y="2971800"/>
            <a:ext cx="61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581280"/>
            <a:ext cx="69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etuity: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 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05320" y="380988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04920" y="419112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eive a pay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ver and ev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pet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066680" y="5029200"/>
                <a:ext cx="65534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14400" y="6248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on nex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762120"/>
            <a:ext cx="5562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   a = CF/ (1 + R)   and   x = 1/ (1 +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V = a (1 + x +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….) 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x =  a (x +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)             (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(2) 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 [ 1 – x ]  = 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altern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( 1 – 1/(1+R)  )  =   CF /  (  1 +R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ing by  (1+R) re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R  =  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,      PV  =   CF /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280" y="2971800"/>
            <a:ext cx="61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581280"/>
            <a:ext cx="693396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tha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(CF) * (1 +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(CF) * (1 + g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80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Growing” Perpet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9360" y="5003640"/>
                <a:ext cx="75898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[</m:t>
                        </m:r>
                      </m:den>
                    </m:f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572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valid when g &lt;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0480" y="2971800"/>
            <a:ext cx="768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+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581280"/>
            <a:ext cx="69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ity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19112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eive a pay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M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0880" y="5030640"/>
                <a:ext cx="81536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nuity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971800"/>
            <a:ext cx="693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429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take a loan for which you will pay an interest R every year, and the loan amount is [Loan].  What is the annual payment (CF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n with equal annual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57200" y="4572000"/>
                <a:ext cx="856944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oa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nu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ymen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an</m:t>
                            </m:r>
                            <m:r>
                              <m:t xml:space="preserve">]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=  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7315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You Invest $ 1 today in a safe investment (more about “safety” later) you will get a 5% return, that is, $ 1.05 at the end of th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the Future Value (FV) of 1 dollar, is, $1 x 1.05 = 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the Present Value (PV) of 1.05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=  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962520"/>
            <a:ext cx="5486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ant to have $1 at the end of the period, you do not need a dollar today, you only need to invest  1/1.05 =  95.2  c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Present Value = (Future Value)/ [ 1 +  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=  discount rate (5%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685800"/>
            <a:ext cx="525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oday you can buy a painting by an expected-to-be-famous artist for $ 55,000 and you think you can sell it later (the end of the period) for $ 73,000.   Would you buy the pai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962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8080" y="422748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5400" y="42670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810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477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743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55,000 (bu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73,000 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257800"/>
            <a:ext cx="7924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Present Value = NPV = -55,000  + 73,000/ (1 + 0.05) =  $ 14,5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eems like a good idea (NPV is positive) but…  Is the 5% the correct value to use as “the discount rate”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6858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o use as “discount rate” a higher rate, a rate that captures (or reflects) the riskiness of the situation.  Suppose that “similar investments”, in terms of risk, offer a return of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962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38080" y="422748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5400" y="42670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9810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477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743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55,000 (bu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73,000 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25780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Present Value = NPV = -55,000  + 73,000/ (1 + 0.15) =  $ 8,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good, but not that good  (or, not as good as we thou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219320"/>
            <a:ext cx="7010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dea 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previous example the Opportunity Cost of Capital was 15%, because 15% was the return you could get from an investment in a security offering the “same amount of ri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0720" y="2514600"/>
                <a:ext cx="69148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ashFlow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[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914400" y="6094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basic or fundament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our”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ce  =  Mass  x  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Eq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828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PRESENT VALUE  =  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81280" y="3428640"/>
            <a:ext cx="3657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6386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, this is the “th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1143000"/>
                <a:ext cx="6915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ashFlow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[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0948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PRESENT VALUE  =  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05120" y="1904760"/>
            <a:ext cx="5105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304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4435560"/>
                <a:ext cx="609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533520" y="5410080"/>
            <a:ext cx="2361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s the risk free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90720" y="48765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362320" y="480024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0292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ond factor (added to the risk free rate) is to account for the “additional” level of risk in the potential investment (or cash fl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86600" y="198108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1219320"/>
            <a:ext cx="64771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ng to rememb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ash flows are absolutely safe (we are 100% sure we will get them), then, we use the risk free rate to discou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at is, if there is some degree of uncertainty (risk) associated with the cash flows, we discount them using the Expected Rate of Return offered by a security with the same degree of risk (R = (risk free rate) +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95680" y="3962520"/>
                <a:ext cx="5335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133720" y="54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09880" y="43434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1:40:46Z</dcterms:created>
  <dc:creator>VCHARLIN</dc:creator>
  <dc:description/>
  <dc:language>en-US</dc:language>
  <cp:lastModifiedBy>VCHARLIN</cp:lastModifiedBy>
  <dcterms:modified xsi:type="dcterms:W3CDTF">2010-07-28T15:26:26Z</dcterms:modified>
  <cp:revision>29</cp:revision>
  <dc:subject/>
  <dc:title>Slide 1</dc:title>
</cp:coreProperties>
</file>