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43AA-2322-417C-86D5-164EC674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9DA-89D9-4027-BDAC-E640E0C5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1552-2E01-4251-BC9B-BBD3CBBB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EFF-E504-48F1-9DA6-4804C277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582-4140-433A-9F30-BF50585E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07E0-0EFF-4C18-8182-C2D5FB38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1FD-6FD0-4AA2-B8B0-25DEDF73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6F47-A53B-430C-9CDF-DBD64653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249-B34C-4DD8-8BA1-A22980E5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0C1A-2DE1-436B-B8B5-791ABF5F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C256-3C71-4C1B-8DEA-2B947C5C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AB49-67AB-4579-B5E6-4149F477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9B0D-F759-410D-B782-7FD09740D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243828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771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8080" y="270360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5400" y="27432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98108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7712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1219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84120" y="4075200"/>
            <a:ext cx="436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ollar today versus a dollar tomorrow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Pref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457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we have inflation (this is Latin America after all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523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= FV / ( 1  + 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905120" y="18288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209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l interes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50532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29718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                                                           F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3505320"/>
            <a:ext cx="18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3733560" y="2133000"/>
            <a:ext cx="609480" cy="41148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4572000"/>
            <a:ext cx="317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ation rate 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562720"/>
            <a:ext cx="76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+ R  =  1 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(1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457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orta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95280"/>
            <a:ext cx="761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+ R  =  1 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* (1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2286000"/>
            <a:ext cx="76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 +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3352680"/>
            <a:ext cx="76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+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4419720"/>
            <a:ext cx="76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o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approx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5181480"/>
            <a:ext cx="63244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approximation is valid only when     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f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mall (small r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800240" y="3733560"/>
            <a:ext cx="1676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4724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term, for small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66680" y="15238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9907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                                                           F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523880"/>
            <a:ext cx="18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514600"/>
            <a:ext cx="685800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important concept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invest (PV) today and you eventually get (FV) at the end of the investment peri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retu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(or rate of Return) = [ FV - PV] /  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213372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2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4280" y="2971800"/>
            <a:ext cx="616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 +R)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2228400" y="1809720"/>
            <a:ext cx="343080" cy="1143000"/>
          </a:xfrm>
          <a:custGeom>
            <a:avLst/>
            <a:gdLst>
              <a:gd name="textAreaLeft" fmla="*/ 0 w 343080"/>
              <a:gd name="textAreaRight" fmla="*/ 123840 w 3430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3581280"/>
            <a:ext cx="693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petuity: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…    = (CF)     =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505320" y="3809880"/>
                <a:ext cx="3808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04920" y="4191120"/>
            <a:ext cx="5333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ceive a paymen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ever and ever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380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pet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066680" y="5029200"/>
                <a:ext cx="655344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914400" y="62485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of on next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762120"/>
            <a:ext cx="55627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   a = CF/ (1 + R)   and   x = 1/ (1 +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PV = a (1 + x +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 ….) 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V) x =  a (x +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.)             (*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(2)  im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V)  [ 1 – x ]  = 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alterna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V) ( 1 – 1/(1+R)  )  =   CF /  (  1 +R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ing by  (1+R) re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V) R  =  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inally,      PV  =   CF /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4280" y="2971800"/>
            <a:ext cx="616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 +R)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2228400" y="1809720"/>
            <a:ext cx="343080" cy="1143000"/>
          </a:xfrm>
          <a:custGeom>
            <a:avLst/>
            <a:gdLst>
              <a:gd name="textAreaLeft" fmla="*/ 0 w 343080"/>
              <a:gd name="textAreaRight" fmla="*/ 123840 w 3430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3581280"/>
            <a:ext cx="693396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now tha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(CF) * (1 +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(CF) * (1 + g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380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“Growing” Perpet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49360" y="5003640"/>
                <a:ext cx="75898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[</m:t>
                        </m:r>
                      </m:den>
                    </m:f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457200" y="6248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 valid when g &lt;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76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58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0480" y="2971800"/>
            <a:ext cx="768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 +R)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+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.+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(1+R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2228400" y="1809720"/>
            <a:ext cx="343080" cy="1143000"/>
          </a:xfrm>
          <a:custGeom>
            <a:avLst/>
            <a:gdLst>
              <a:gd name="textAreaLeft" fmla="*/ 0 w 343080"/>
              <a:gd name="textAreaRight" fmla="*/ 123840 w 3430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3581280"/>
            <a:ext cx="693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ity  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…    = (CF)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4191120"/>
            <a:ext cx="5333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ceive a payment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M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380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80880" y="5030640"/>
                <a:ext cx="81536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nuity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r>
                      <m:t xml:space="preserve">)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33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1143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2228400" y="1809720"/>
            <a:ext cx="343080" cy="1143000"/>
          </a:xfrm>
          <a:custGeom>
            <a:avLst/>
            <a:gdLst>
              <a:gd name="textAreaLeft" fmla="*/ 0 w 343080"/>
              <a:gd name="textAreaRight" fmla="*/ 123840 w 3430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971800"/>
            <a:ext cx="693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…    = (CF)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3429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you take a loan for which you will pay an interest R every year, and the loan amount is [Loan].  What is the annual payment (CF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380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n with equal annual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57200" y="4572000"/>
                <a:ext cx="8569440" cy="21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Loan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nua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aymen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an</m:t>
                            </m:r>
                            <m:r>
                              <m:t xml:space="preserve">]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M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5280" y="243828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38080" y="270360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5400" y="27432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8108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47712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1219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=  1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1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73152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f You Invest $ 1 today in a safe investment (more about “safety” later) you will get a 5% return, that is, $ 1.05 at the end of th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, the Future Value (FV) of 1 dollar, is, $1 x 1.05 = $ 1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ly, the Present Value (PV) of 1.05 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243828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38080" y="270360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5400" y="27432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8108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47712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219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=  $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1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962520"/>
            <a:ext cx="5486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Want to have $1 at the end of the period, you do not need a dollar today, you only need to invest  1/1.05 =  95.2  c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ther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= Present Value = (Future Value)/ [ 1 +  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 =  discount rate (5% in this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66680" y="685800"/>
            <a:ext cx="5257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today you can buy a painting by an expected-to-be-famous artist for $ 55,000 and you think you can sell it later (the end of the period) for $ 73,000.   Would you buy the pain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3962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38080" y="422748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5400" y="42670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98108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4771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2743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55,000 (bu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2819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73,000 (se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257800"/>
            <a:ext cx="7924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Present Value = NPV = -55,000  + 73,000/ (1 + 0.05) =  $ 14,5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eems like a good idea (NPV is positive) but…  Is the 5% the correct value to use as “the discount rate”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6680" y="6858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to use as “discount rate” a higher rate, a rate that captures (or reflects) the riskiness of the situation.  Suppose that “similar investments”, in terms of risk, offer a return of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3962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38080" y="422748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5400" y="42670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98108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4771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2743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55,000 (bu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819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73,000 (se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525780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Present Value = NPV = -55,000  + 73,000/ (1 + 0.15) =  $ 8,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good, but not that good  (or, not as good as we thou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38080" y="1219320"/>
            <a:ext cx="70106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Idea 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rtunity Cost of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previous example the Opportunity Cost of Capital was 15%, because 15% was the return you could get from an investment in a security offering the “same amount of ris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0720" y="2514600"/>
                <a:ext cx="69148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PV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ashFlow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[</m:t>
                                    </m:r>
                                  </m:den>
                                </m:f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914400" y="609480"/>
            <a:ext cx="708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basic or fundamental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“our”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ce  =  Mass  x  Accele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Equ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8288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 PRESENT VALUE  =  N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581280" y="3428640"/>
            <a:ext cx="3657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56386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rate, this is the “th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85800" y="1143000"/>
                <a:ext cx="69152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PV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ashFlow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[</m:t>
                                    </m:r>
                                  </m:den>
                                </m:f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09480" y="6094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 PRESENT VALUE  =  N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905120" y="1904760"/>
            <a:ext cx="51051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304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905120" y="4435560"/>
                <a:ext cx="6094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533520" y="5410080"/>
            <a:ext cx="23619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resents the risk free 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990720" y="487656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362320" y="480024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502920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cond factor (added to the risk free rate) is to account for the “additional” level of risk in the potential investment (or cash fl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2895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un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7086600" y="1981080"/>
            <a:ext cx="76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1219320"/>
            <a:ext cx="64771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ng to rememb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cash flows are absolutely safe (we are 100% sure we will get them), then, we use the risk free rate to discoun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that is, if there is some degree of uncertainty (risk) associated with the cash flows, we discount them using the Expected Rate of Return offered by a security with the same degree of risk (R = (risk free rate) +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495680" y="3962520"/>
                <a:ext cx="5335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2133720" y="5410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809880" y="43434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21:40:46Z</dcterms:created>
  <dc:creator>VCHARLIN</dc:creator>
  <dc:description/>
  <dc:language>en-US</dc:language>
  <cp:lastModifiedBy>VCHARLIN</cp:lastModifiedBy>
  <dcterms:modified xsi:type="dcterms:W3CDTF">2010-07-28T15:26:26Z</dcterms:modified>
  <cp:revision>29</cp:revision>
  <dc:subject/>
  <dc:title>Slide 1</dc:title>
</cp:coreProperties>
</file>