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BDC32-7492-406E-994B-25CDC5037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480C-B43A-4F66-B2CF-8C28219AE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0D134-2DD3-495A-B878-AC6651730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13E8B-049A-4C7E-B845-79AFB3F17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41BB4-2F3F-41D4-A7F3-A007FDBB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52E9-CEDF-4E12-8B23-0B17EADF8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92C84-939F-46B4-837F-085EE535B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46F0C-D3F3-4B67-ACB4-E337A734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EBFD3-0153-45A9-86CE-47CAAAC4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59386-7C66-46AB-949B-AB667034D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59EDC-8EA8-4C53-87C7-9E6B72711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0BE6-9590-49A8-A1D6-E61937E07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7C2D-3D2B-4C46-8614-B68CA3AE0A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523880"/>
            <a:ext cx="6019920" cy="339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CE I</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IN  4302)</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uro Cifu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286F212E-E835-4E3C-AE10-AA23443CD1A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br>
              <a:rPr sz="4400"/>
            </a:br>
            <a:r>
              <a:rPr b="0" lang="en-US" sz="3500" spc="-1" strike="noStrike">
                <a:solidFill>
                  <a:srgbClr val="000000"/>
                </a:solidFill>
                <a:latin typeface="Arial"/>
              </a:rPr>
              <a:t>Overview</a:t>
            </a:r>
            <a:endParaRPr b="0" lang="en-US" sz="3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hold is the primary provider of funds to businesses and government.</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must accumulate financial resources throughout their working life times to have enough savings (pension) to live on in their retirement year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termediaries transform the nature of the securities they issue and invest in</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trust companies, credit unions, insurance firms, mutual fund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rmediaries simply help make markets work</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dealers</a:t>
            </a:r>
            <a:endParaRPr b="0" lang="en-US" sz="20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7" dur="500"/>
                                        <p:tgtEl>
                                          <p:spTgt spid="6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0" dur="500"/>
                                        <p:tgtEl>
                                          <p:spTgt spid="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5" dur="500"/>
                                        <p:tgtEl>
                                          <p:spTgt spid="67">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8" dur="500"/>
                                        <p:tgtEl>
                                          <p:spTgt spid="6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23" dur="500"/>
                                        <p:tgtEl>
                                          <p:spTgt spid="67">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26" dur="500"/>
                                        <p:tgtEl>
                                          <p:spTgt spid="67">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29"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8110DD6-54B1-4741-AB44-238D4D9E0C0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endParaRPr b="0" lang="en-US" sz="4400" spc="-1" strike="noStrike">
              <a:solidFill>
                <a:srgbClr val="000000"/>
              </a:solidFill>
              <a:latin typeface="Arial"/>
            </a:endParaRPr>
          </a:p>
        </p:txBody>
      </p:sp>
      <p:sp>
        <p:nvSpPr>
          <p:cNvPr id="71" name="Text Box 21"/>
          <p:cNvSpPr/>
          <p:nvPr/>
        </p:nvSpPr>
        <p:spPr>
          <a:xfrm>
            <a:off x="3657600" y="157644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GURE 1-2</a:t>
            </a:r>
            <a:endParaRPr b="0" lang="en-US" sz="1600" spc="-1" strike="noStrike">
              <a:solidFill>
                <a:srgbClr val="000000"/>
              </a:solidFill>
              <a:latin typeface="Arial"/>
            </a:endParaRPr>
          </a:p>
        </p:txBody>
      </p:sp>
      <p:pic>
        <p:nvPicPr>
          <p:cNvPr id="72" name="Picture 22" descr="Figure 1-1"/>
          <p:cNvPicPr/>
          <p:nvPr/>
        </p:nvPicPr>
        <p:blipFill>
          <a:blip r:embed="rId1"/>
          <a:stretch/>
        </p:blipFill>
        <p:spPr>
          <a:xfrm>
            <a:off x="533520" y="2133720"/>
            <a:ext cx="80740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4"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BC5EE183-67AD-4F60-8EA1-26FFF58E36FE}"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Channels of Intermediation</a:t>
            </a:r>
            <a:endParaRPr b="0" lang="en-US" sz="3500" spc="-1" strike="noStrike">
              <a:solidFill>
                <a:srgbClr val="000000"/>
              </a:solidFill>
              <a:latin typeface="Arial"/>
            </a:endParaRPr>
          </a:p>
        </p:txBody>
      </p:sp>
      <p:sp>
        <p:nvSpPr>
          <p:cNvPr id="76" name="PlaceHolder 2"/>
          <p:cNvSpPr>
            <a:spLocks noGrp="1"/>
          </p:cNvSpPr>
          <p:nvPr>
            <p:ph/>
          </p:nvPr>
        </p:nvSpPr>
        <p:spPr>
          <a:xfrm>
            <a:off x="304920" y="1599840"/>
            <a:ext cx="8229600" cy="42210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can be channeled from saver to borrower in three ways:</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direct transfer from saver to borrower – a non-market transac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a market-based transaction usually through a market intermediary such as a broker)</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laims through a financial intermediary (where the financial intermediary such as a bank offers deposit-taking services and ultimately lends those deposits out as mortgages or loans)</a:t>
            </a: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36" dur="500"/>
                                        <p:tgtEl>
                                          <p:spTgt spid="7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41" dur="500"/>
                                        <p:tgtEl>
                                          <p:spTgt spid="7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4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8"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07FF43C7-61C0-4CDA-88FF-DDA89F59AD4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s of Intermediation</a:t>
            </a:r>
            <a:endParaRPr b="0" lang="en-US" sz="4400" spc="-1" strike="noStrike">
              <a:solidFill>
                <a:srgbClr val="000000"/>
              </a:solidFill>
              <a:latin typeface="Arial"/>
            </a:endParaRPr>
          </a:p>
        </p:txBody>
      </p:sp>
      <p:sp>
        <p:nvSpPr>
          <p:cNvPr id="80" name="Text Box 30"/>
          <p:cNvSpPr/>
          <p:nvPr/>
        </p:nvSpPr>
        <p:spPr>
          <a:xfrm>
            <a:off x="3657600" y="167652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GURE 1-3</a:t>
            </a:r>
            <a:endParaRPr b="0" lang="en-US" sz="1600" spc="-1" strike="noStrike">
              <a:solidFill>
                <a:srgbClr val="000000"/>
              </a:solidFill>
              <a:latin typeface="Arial"/>
            </a:endParaRPr>
          </a:p>
        </p:txBody>
      </p:sp>
      <p:pic>
        <p:nvPicPr>
          <p:cNvPr id="81" name="Picture 31" descr="Figure 1-3"/>
          <p:cNvPicPr/>
          <p:nvPr/>
        </p:nvPicPr>
        <p:blipFill>
          <a:blip r:embed="rId1"/>
          <a:stretch/>
        </p:blipFill>
        <p:spPr>
          <a:xfrm>
            <a:off x="1066680" y="2057400"/>
            <a:ext cx="6934320" cy="407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A66FA8B-9F8E-4333-AE21-6B8CE4D2718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Financial Intermediaries</a:t>
            </a:r>
            <a:endParaRPr b="0" lang="en-US" sz="3500" spc="-1" strike="noStrike">
              <a:solidFill>
                <a:srgbClr val="000000"/>
              </a:solidFill>
              <a:latin typeface="Arial"/>
            </a:endParaRPr>
          </a:p>
        </p:txBody>
      </p:sp>
      <p:sp>
        <p:nvSpPr>
          <p:cNvPr id="8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nd other deposit-taking instit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Fund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3" dur="500"/>
                                        <p:tgtEl>
                                          <p:spTgt spid="85">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6" dur="500"/>
                                        <p:tgtEl>
                                          <p:spTgt spid="85">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9" dur="500"/>
                                        <p:tgtEl>
                                          <p:spTgt spid="85">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62"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7"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E7C07AFE-E46F-4C2B-905C-43BC7AE0272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The Major Borrowers</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nancial Corpo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69" dur="500"/>
                                        <p:tgtEl>
                                          <p:spTgt spid="89">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75" dur="500"/>
                                        <p:tgtEl>
                                          <p:spTgt spid="89">
                                            <p:txEl>
                                              <p:pRg st="3" end="3"/>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78" dur="500"/>
                                        <p:tgtEl>
                                          <p:spTgt spid="8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87" dur="500"/>
                                        <p:tgtEl>
                                          <p:spTgt spid="89">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90"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1"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5B11974E-B4A1-49EF-AF6B-0B91B5D4B82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Instrum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90680" indent="-490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jor categories of financial securities:</a:t>
            </a:r>
            <a:endParaRPr b="0" lang="en-US" sz="32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paper</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rs’ acceptance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bill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gage loan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ntures</a:t>
            </a:r>
            <a:endParaRPr b="0" lang="en-US" sz="20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stock</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97" dur="500"/>
                                        <p:tgtEl>
                                          <p:spTgt spid="9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02" dur="500"/>
                                        <p:tgtEl>
                                          <p:spTgt spid="93">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05" dur="500"/>
                                        <p:tgtEl>
                                          <p:spTgt spid="93">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08" dur="500"/>
                                        <p:tgtEl>
                                          <p:spTgt spid="93">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111" dur="500"/>
                                        <p:tgtEl>
                                          <p:spTgt spid="93">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114" dur="500"/>
                                        <p:tgtEl>
                                          <p:spTgt spid="93">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117" dur="500"/>
                                        <p:tgtEl>
                                          <p:spTgt spid="93">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122" dur="500"/>
                                        <p:tgtEl>
                                          <p:spTgt spid="93">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127" dur="500"/>
                                        <p:tgtEl>
                                          <p:spTgt spid="93">
                                            <p:txEl>
                                              <p:pRg st="9" end="9"/>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130"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8C6F003B-44C5-4007-A297-AA4D6DB1AD3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Marke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the issue of new securities by the borrower in return for cash from investors (Capital formation occ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buyers and sellers of existing securities.  Funds flow from buyer to seller.  Seller becomes the new owner of the security.  (No capital formation occurs)</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37" dur="500"/>
                                        <p:tgtEl>
                                          <p:spTgt spid="9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1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717512D8-D6E2-49B7-B270-BB03C3F464AA}"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al Financial Co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s an important source of funds for borr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vestors with important alternatives as they seek to build wealth through diversified portfolio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236232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ND OF 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4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A582AD5-D696-4F30-BA04-F9F2952A5D2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Financ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 is the study of how and under what terms savings (money) are allocated between lenders and borro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is distinct from economics in that it addresses not only how resources are allocated but also under </a:t>
            </a:r>
            <a:r>
              <a:rPr b="0" i="1" lang="en-US" sz="2800" spc="-1" strike="noStrike">
                <a:solidFill>
                  <a:srgbClr val="000000"/>
                </a:solidFill>
                <a:latin typeface="Arial"/>
              </a:rPr>
              <a:t>what terms</a:t>
            </a:r>
            <a:r>
              <a:rPr b="0" lang="en-US" sz="2800" spc="-1" strike="noStrike">
                <a:solidFill>
                  <a:srgbClr val="000000"/>
                </a:solidFill>
                <a:latin typeface="Arial"/>
              </a:rPr>
              <a:t> and through </a:t>
            </a:r>
            <a:r>
              <a:rPr b="0" i="1" lang="en-US" sz="2800" spc="-1" strike="noStrike">
                <a:solidFill>
                  <a:srgbClr val="000000"/>
                </a:solidFill>
                <a:latin typeface="Arial"/>
              </a:rPr>
              <a:t>what channe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85800"/>
            <a:ext cx="8153280" cy="51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llabu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 of money, basic math  (1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folio theory and related topics (4/5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income (bonds) securitie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stocks) valuation models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finance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s and option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derivatives, securitization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r less, things might change, but only a litt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52280"/>
            <a:ext cx="8229600" cy="64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uro Cifuentes,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fessional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has developed many analytical techniques that are commonly used in the structured finance arena and has lectured extensively on financial topics in the United States, Europe, Asia, and Latin America.  Also, he has consulted for several international banks as well as government entities and regulators (e.g. U.S. Treasury, FDIC, and the State of Connecticut Insurance Department).  Additionally, he is a frequent contributor to the </a:t>
            </a:r>
            <a:r>
              <a:rPr b="0" i="1" lang="en-US" sz="1600" spc="-1" strike="noStrike">
                <a:solidFill>
                  <a:srgbClr val="000000"/>
                </a:solidFill>
                <a:latin typeface="Arial"/>
              </a:rPr>
              <a:t>Financial Times</a:t>
            </a:r>
            <a:r>
              <a:rPr b="0" lang="en-US" sz="1600" spc="-1" strike="noStrike">
                <a:solidFill>
                  <a:srgbClr val="000000"/>
                </a:solidFill>
                <a:latin typeface="Arial"/>
              </a:rPr>
              <a:t> and has testified twice before the U.S. Senate, as an expert witness, in relation to the subprime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has authored two books; four book chapters; more than 40 technical and scientific articles; plus many op/ed pieces in English and Spanish.  He has also held faculty positions at the University of Southern California, California State University, and the University of Chi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received a Ph.D. in applied mechanics and an M.S. in civil engineering from the California Institute of Technology (Caltech), an MBA in finance (Stern Scholar Award) from New York University, and a degree in civil engineering (</a:t>
            </a:r>
            <a:r>
              <a:rPr b="0" i="1" lang="en-US" sz="1600" spc="-1" strike="noStrike">
                <a:solidFill>
                  <a:srgbClr val="000000"/>
                </a:solidFill>
                <a:latin typeface="Arial"/>
              </a:rPr>
              <a:t>Ingeniero Civil</a:t>
            </a:r>
            <a:r>
              <a:rPr b="0" lang="en-US" sz="1600" spc="-1" strike="noStrike">
                <a:solidFill>
                  <a:srgbClr val="000000"/>
                </a:solidFill>
                <a:latin typeface="Arial"/>
              </a:rPr>
              <a:t>) from the University of C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currently a full-time professor at the </a:t>
            </a:r>
            <a:r>
              <a:rPr b="0" i="1" lang="en-US" sz="1600" spc="-1" strike="noStrike">
                <a:solidFill>
                  <a:srgbClr val="000000"/>
                </a:solidFill>
                <a:latin typeface="Arial"/>
              </a:rPr>
              <a:t>Departamento de Ingenieria Industrial</a:t>
            </a:r>
            <a:r>
              <a:rPr b="0" lang="en-US" sz="1600" spc="-1" strike="noStrike">
                <a:solidFill>
                  <a:srgbClr val="000000"/>
                </a:solidFill>
                <a:latin typeface="Arial"/>
              </a:rPr>
              <a:t> (DII) of the University of Chile in Santia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685800"/>
            <a:ext cx="86104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Issues: Things We (OR You) Eventually Will Have to Fa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nancial markets work and determine pr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al assets and financial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household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av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nvest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nanc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rms make decisions? (same as ab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countrie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t valuation and asset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295280"/>
            <a:ext cx="77724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nancial Management: What Is I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at Does A Financial Manager 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y of the Financial Staff/ Financial Manag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stock value by:</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and planning</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nd financing decision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and control</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in the financial market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Goals of the Corpor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inancial goal is shareholder wealth maximization, which translates to maximizing stock 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firms have any responsibilities to society at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tock price maximization good or bad for socie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irms behave ethically?</a:t>
            </a:r>
            <a:endParaRPr b="0" lang="en-US" sz="2800" spc="-1" strike="noStrike">
              <a:solidFill>
                <a:srgbClr val="000000"/>
              </a:solidFill>
              <a:latin typeface="Arial"/>
            </a:endParaRPr>
          </a:p>
        </p:txBody>
      </p:sp>
      <p:sp>
        <p:nvSpPr>
          <p:cNvPr id="52" name=""/>
          <p:cNvSpPr/>
          <p:nvPr/>
        </p:nvSpPr>
        <p:spPr>
          <a:xfrm flipV="1">
            <a:off x="3200400" y="2057400"/>
            <a:ext cx="342900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3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agree?</a:t>
            </a:r>
            <a:endParaRPr b="0" lang="en-US" sz="2400" spc="-1" strike="noStrike">
              <a:solidFill>
                <a:srgbClr val="000000"/>
              </a:solidFill>
              <a:latin typeface="Arial"/>
            </a:endParaRPr>
          </a:p>
        </p:txBody>
      </p:sp>
      <p:sp>
        <p:nvSpPr>
          <p:cNvPr id="54" name=""/>
          <p:cNvSpPr/>
          <p:nvPr/>
        </p:nvSpPr>
        <p:spPr>
          <a:xfrm>
            <a:off x="5638680" y="2057400"/>
            <a:ext cx="236232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90720" y="2514600"/>
            <a:ext cx="327636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996840" y="2638440"/>
                <a:ext cx="6166080" cy="2276640"/>
              </a:xfrm>
              <a:prstGeom prst="rect">
                <a:avLst/>
              </a:prstGeom>
            </p:spPr>
            <p:txBody>
              <a:bodyPr/>
              <a:p>
                <a14:m>
                  <m:oMath xmlns:m="http://schemas.openxmlformats.org/officeDocument/2006/math">
                    <m:eqArr>
                      <m:e>
                        <m:r>
                          <m:t xml:space="preserve">(</m:t>
                        </m:r>
                        <m:r>
                          <m:rPr>
                            <m:lit/>
                            <m:nor/>
                          </m:rPr>
                          <m:t xml:space="preserve">FINANCE</m:t>
                        </m:r>
                        <m:r>
                          <m:t xml:space="preserve">)</m:t>
                        </m:r>
                      </m:e>
                      <m:e>
                        <m:r>
                          <m:t xml:space="preserve">=</m:t>
                        </m:r>
                      </m:e>
                      <m:e>
                        <m:r>
                          <m:t xml:space="preserve">λ</m:t>
                        </m:r>
                        <m:r>
                          <m:t xml:space="preserve">(</m:t>
                        </m:r>
                        <m:r>
                          <m:rPr>
                            <m:lit/>
                            <m:nor/>
                          </m:rPr>
                          <m:t xml:space="preserve">QUANTITATIVE</m:t>
                        </m:r>
                        <m:r>
                          <m:t xml:space="preserve">)</m:t>
                        </m:r>
                        <m:r>
                          <m:t xml:space="preserve">+</m:t>
                        </m:r>
                        <m:r>
                          <m:t xml:space="preserve">(</m:t>
                        </m:r>
                        <m:r>
                          <m:t xml:space="preserve">1</m:t>
                        </m:r>
                        <m:r>
                          <m:t xml:space="preserve">−</m:t>
                        </m:r>
                        <m:r>
                          <m:t xml:space="preserve">λ</m:t>
                        </m:r>
                        <m:r>
                          <m:t xml:space="preserve">)</m:t>
                        </m:r>
                        <m:r>
                          <m:t xml:space="preserve">x</m:t>
                        </m:r>
                        <m:r>
                          <m:t xml:space="preserve">(</m:t>
                        </m:r>
                        <m:r>
                          <m:rPr>
                            <m:lit/>
                            <m:nor/>
                          </m:rPr>
                          <m:t xml:space="preserve">QUALITATIVE</m:t>
                        </m:r>
                        <m:r>
                          <m:t xml:space="preserve">)</m:t>
                        </m:r>
                      </m:e>
                      <m:e/>
                      <m:e>
                        <m:r>
                          <m:t xml:space="preserve">0</m:t>
                        </m:r>
                        <m:r>
                          <m:t xml:space="preserve">≤</m:t>
                        </m:r>
                        <m:r>
                          <m:t xml:space="preserve">λ</m:t>
                        </m:r>
                        <m:r>
                          <m:t xml:space="preserve">≤</m:t>
                        </m:r>
                        <m:r>
                          <m:t xml:space="preserve">1</m:t>
                        </m:r>
                      </m:e>
                    </m:eqArr>
                  </m:oMath>
                </a14:m>
              </a:p>
            </p:txBody>
          </p:sp>
        </mc:Choice>
        <mc:Fallback/>
      </mc:AlternateContent>
      <p:sp>
        <p:nvSpPr>
          <p:cNvPr id="58" name=""/>
          <p:cNvSpPr/>
          <p:nvPr/>
        </p:nvSpPr>
        <p:spPr>
          <a:xfrm>
            <a:off x="762120" y="914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ncial Decisions (and Finance) In Real Life…</a:t>
            </a:r>
            <a:endParaRPr b="0" lang="en-US" sz="3600" spc="-1" strike="noStrike">
              <a:solidFill>
                <a:srgbClr val="000000"/>
              </a:solidFill>
              <a:latin typeface="Arial"/>
            </a:endParaRPr>
          </a:p>
        </p:txBody>
      </p:sp>
      <p:sp>
        <p:nvSpPr>
          <p:cNvPr id="59" name=""/>
          <p:cNvSpPr/>
          <p:nvPr/>
        </p:nvSpPr>
        <p:spPr>
          <a:xfrm>
            <a:off x="1219320" y="52578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make it more interesting,       depends on the case….</a:t>
            </a:r>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4495680" y="5105520"/>
                <a:ext cx="403200" cy="6490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eep In Min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s better to be approximately right today than perfectly right tomo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els are wrong, but some models are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almost always uncer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Sensitivity (Stability) Analys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job of the financial manager is to make good financial decisions; it is not to compute something with five decimal fig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6520" y="23623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1:40:46Z</dcterms:created>
  <dc:creator>VCHARLIN</dc:creator>
  <dc:description/>
  <dc:language>en-US</dc:language>
  <cp:lastModifiedBy>VCHARLIN</cp:lastModifiedBy>
  <dcterms:modified xsi:type="dcterms:W3CDTF">2010-08-04T19:46:13Z</dcterms:modified>
  <cp:revision>34</cp:revision>
  <dc:subject/>
  <dc:title>Slide 1</dc:title>
</cp:coreProperties>
</file>