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C94-A566-4EB5-9F90-6C39F882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714-3D2F-4308-A83A-729BE132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1F3-667C-4B91-97B8-DD298405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43C-659A-42B4-AA5D-890C55CF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D94-BA46-4395-8AA5-8F348DB7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10D-43CD-4830-88A9-ED946BFF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758-6F0E-4ACE-BEC1-CA1559F9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570-0CD7-4146-928F-87750B70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5D4-B739-42FD-9A5B-369B945D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F98-4371-43B0-8F61-580284BC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7C3-0507-40B9-A970-F6552238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CE0-EE78-45DE-9C98-81C5F32E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1406-F80F-48E7-848F-E13A659FB0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alumno</cp:lastModifiedBy>
  <dcterms:modified xsi:type="dcterms:W3CDTF">2010-10-04T21:49:03Z</dcterms:modified>
  <cp:revision>22</cp:revision>
  <dc:subject/>
  <dc:title>Diapositiva 1</dc:title>
</cp:coreProperties>
</file>