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E0705-7841-4728-A641-3B88EC12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56F3E-17CA-498B-963C-0A7B8DD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78C8A-7184-42B2-A99C-589E838A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8558D-58CC-49B1-B5C0-6CD6C259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0582B-A0D4-4264-81CB-BA8E19B6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1110C-6AF8-4C11-A299-73F14228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A3557-BB1B-4B78-9571-2951EA7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514C6-5334-4088-859D-9E9FBCAD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D76D2-CCC1-4373-B713-B01D8042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1E02-A264-4DB0-A820-2D3AEEC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B088A-67EB-40A4-8644-C140D089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28920-B721-4FA4-AD52-4897A79A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0E2A-E62F-45F2-A012-DC14557432B2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rporateinformation.com/" TargetMode="External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87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87920" indent="-187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 y de impuest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otro supuesto: No existe Resultado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8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67" name="Group 1039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8" name="Rectangle 1028"/>
            <p:cNvSpPr/>
            <p:nvPr/>
          </p:nvSpPr>
          <p:spPr>
            <a:xfrm>
              <a:off x="13190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Line 1031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Line 1032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Line 1035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Line 1036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77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SO BESTPHARMA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Aná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Estát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560" y="1219320"/>
            <a:ext cx="9057960" cy="1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5560" y="159372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5560" y="4032360"/>
            <a:ext cx="9057960" cy="1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560" y="440676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5560" y="5905440"/>
            <a:ext cx="9057960" cy="1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91" name="Group 9" descr=""/>
          <p:cNvPicPr/>
          <p:nvPr/>
        </p:nvPicPr>
        <p:blipFill>
          <a:blip r:embed="rId1"/>
          <a:stretch/>
        </p:blipFill>
        <p:spPr>
          <a:xfrm>
            <a:off x="-12600" y="1195560"/>
            <a:ext cx="91630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4d4d4d"/>
                </a:solidFill>
                <a:latin typeface="Verdana"/>
              </a:rPr>
              <a:t>Análisis Económico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3" name="Group 4" descr=""/>
          <p:cNvPicPr/>
          <p:nvPr/>
        </p:nvPicPr>
        <p:blipFill>
          <a:blip r:embed="rId1"/>
          <a:stretch/>
        </p:blipFill>
        <p:spPr>
          <a:xfrm>
            <a:off x="523800" y="1847880"/>
            <a:ext cx="8334360" cy="478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149440" y="234936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1680" y="1828800"/>
            <a:ext cx="15400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680" y="2349360"/>
            <a:ext cx="158292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31840" y="2376360"/>
            <a:ext cx="770724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4400" y="3935520"/>
            <a:ext cx="88246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-732600" y="1841400"/>
            <a:ext cx="9648000" cy="4254480"/>
            <a:chOff x="-732600" y="1841400"/>
            <a:chExt cx="9648000" cy="4254480"/>
          </a:xfrm>
        </p:grpSpPr>
        <p:sp>
          <p:nvSpPr>
            <p:cNvPr id="201" name="AutoShape 3"/>
            <p:cNvSpPr/>
            <p:nvPr/>
          </p:nvSpPr>
          <p:spPr>
            <a:xfrm>
              <a:off x="0" y="1841400"/>
              <a:ext cx="8915400" cy="42544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0760" y="187164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-297720" y="1887480"/>
              <a:ext cx="232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ANALISIS ECONOMICO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50760" y="2389320"/>
              <a:ext cx="16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-302760" y="2405160"/>
              <a:ext cx="238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Global (ROA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1193760" y="2647800"/>
              <a:ext cx="69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240920" y="2664000"/>
              <a:ext cx="73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(BAIT+Atípics)/(Avtivo total bruto)=                             Margen                      +    Rotación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721692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741996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0760" y="2908440"/>
              <a:ext cx="587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82440" y="29224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2327400" y="2908440"/>
              <a:ext cx="40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8"/>
            <p:cNvSpPr/>
            <p:nvPr/>
          </p:nvSpPr>
          <p:spPr>
            <a:xfrm>
              <a:off x="229248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2,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6164280" y="2908440"/>
              <a:ext cx="404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20"/>
            <p:cNvSpPr/>
            <p:nvPr/>
          </p:nvSpPr>
          <p:spPr>
            <a:xfrm>
              <a:off x="612792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3,4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7875720" y="2908440"/>
              <a:ext cx="282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7868160" y="2922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8158320" y="2908440"/>
              <a:ext cx="141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8190720" y="2922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25"/>
            <p:cNvSpPr/>
            <p:nvPr/>
          </p:nvSpPr>
          <p:spPr>
            <a:xfrm>
              <a:off x="50760" y="316692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82440" y="31813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2266920" y="3166920"/>
              <a:ext cx="4669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2210760" y="31813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3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6164280" y="3166920"/>
              <a:ext cx="404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6127920" y="31813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4,5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31"/>
            <p:cNvSpPr/>
            <p:nvPr/>
          </p:nvSpPr>
          <p:spPr>
            <a:xfrm>
              <a:off x="7875720" y="316692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868160" y="3181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8158320" y="316692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8190720" y="3181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0760" y="3684600"/>
              <a:ext cx="328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36"/>
            <p:cNvSpPr/>
            <p:nvPr/>
          </p:nvSpPr>
          <p:spPr>
            <a:xfrm>
              <a:off x="-732600" y="3700440"/>
              <a:ext cx="485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Técnico o de Explotación (ROA específico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37"/>
            <p:cNvSpPr/>
            <p:nvPr/>
          </p:nvSpPr>
          <p:spPr>
            <a:xfrm>
              <a:off x="50760" y="3897360"/>
              <a:ext cx="3218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38"/>
            <p:cNvSpPr/>
            <p:nvPr/>
          </p:nvSpPr>
          <p:spPr>
            <a:xfrm>
              <a:off x="1193760" y="3943440"/>
              <a:ext cx="7086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39"/>
            <p:cNvSpPr/>
            <p:nvPr/>
          </p:nvSpPr>
          <p:spPr>
            <a:xfrm>
              <a:off x="1113120" y="395928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AIT/(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1584720" y="39592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        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41"/>
            <p:cNvSpPr/>
            <p:nvPr/>
          </p:nvSpPr>
          <p:spPr>
            <a:xfrm>
              <a:off x="1967400" y="395928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Funcional Bruto) N./A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7935840" y="39592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44"/>
            <p:cNvSpPr/>
            <p:nvPr/>
          </p:nvSpPr>
          <p:spPr>
            <a:xfrm>
              <a:off x="50760" y="4202280"/>
              <a:ext cx="587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45"/>
            <p:cNvSpPr/>
            <p:nvPr/>
          </p:nvSpPr>
          <p:spPr>
            <a:xfrm>
              <a:off x="82440" y="42181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2266920" y="4202280"/>
              <a:ext cx="46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221076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02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6103800" y="4202280"/>
              <a:ext cx="465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04764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0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7875720" y="4202280"/>
              <a:ext cx="2826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51"/>
            <p:cNvSpPr/>
            <p:nvPr/>
          </p:nvSpPr>
          <p:spPr>
            <a:xfrm>
              <a:off x="7868160" y="42181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8158320" y="4202280"/>
              <a:ext cx="141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8190720" y="4218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50760" y="447660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82440" y="44766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327400" y="4476600"/>
              <a:ext cx="406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292480" y="44766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6103800" y="4476600"/>
              <a:ext cx="465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59"/>
            <p:cNvSpPr/>
            <p:nvPr/>
          </p:nvSpPr>
          <p:spPr>
            <a:xfrm>
              <a:off x="6047640" y="44766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6,0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60"/>
            <p:cNvSpPr/>
            <p:nvPr/>
          </p:nvSpPr>
          <p:spPr>
            <a:xfrm>
              <a:off x="7875720" y="447660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61"/>
            <p:cNvSpPr/>
            <p:nvPr/>
          </p:nvSpPr>
          <p:spPr>
            <a:xfrm>
              <a:off x="7868160" y="4476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62"/>
            <p:cNvSpPr/>
            <p:nvPr/>
          </p:nvSpPr>
          <p:spPr>
            <a:xfrm>
              <a:off x="8158320" y="447660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8190720" y="44766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64"/>
            <p:cNvSpPr/>
            <p:nvPr/>
          </p:nvSpPr>
          <p:spPr>
            <a:xfrm>
              <a:off x="50760" y="4978440"/>
              <a:ext cx="23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-475200" y="4994280"/>
              <a:ext cx="337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del Capital Propio (ROE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50760" y="5192640"/>
              <a:ext cx="2236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67"/>
            <p:cNvSpPr/>
            <p:nvPr/>
          </p:nvSpPr>
          <p:spPr>
            <a:xfrm>
              <a:off x="1204920" y="5253120"/>
              <a:ext cx="6994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1337400" y="5268960"/>
              <a:ext cx="642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PT/(Capital Propio)                                =         BPT/(Ventas )      x     Ventas /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69"/>
            <p:cNvSpPr/>
            <p:nvPr/>
          </p:nvSpPr>
          <p:spPr>
            <a:xfrm>
              <a:off x="7629840" y="52689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Ca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70"/>
            <p:cNvSpPr/>
            <p:nvPr/>
          </p:nvSpPr>
          <p:spPr>
            <a:xfrm>
              <a:off x="789048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71"/>
            <p:cNvSpPr/>
            <p:nvPr/>
          </p:nvSpPr>
          <p:spPr>
            <a:xfrm>
              <a:off x="8044560" y="5268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Pro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72"/>
            <p:cNvSpPr/>
            <p:nvPr/>
          </p:nvSpPr>
          <p:spPr>
            <a:xfrm>
              <a:off x="839376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0760" y="5511960"/>
              <a:ext cx="587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74"/>
            <p:cNvSpPr/>
            <p:nvPr/>
          </p:nvSpPr>
          <p:spPr>
            <a:xfrm>
              <a:off x="82440" y="55278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75"/>
            <p:cNvSpPr/>
            <p:nvPr/>
          </p:nvSpPr>
          <p:spPr>
            <a:xfrm>
              <a:off x="2266920" y="5511960"/>
              <a:ext cx="4669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76"/>
            <p:cNvSpPr/>
            <p:nvPr/>
          </p:nvSpPr>
          <p:spPr>
            <a:xfrm>
              <a:off x="221076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5.4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77"/>
            <p:cNvSpPr/>
            <p:nvPr/>
          </p:nvSpPr>
          <p:spPr>
            <a:xfrm>
              <a:off x="6103800" y="5511960"/>
              <a:ext cx="46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78"/>
            <p:cNvSpPr/>
            <p:nvPr/>
          </p:nvSpPr>
          <p:spPr>
            <a:xfrm>
              <a:off x="604764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0.2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7824960" y="551196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7817400" y="5527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.7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81"/>
            <p:cNvSpPr/>
            <p:nvPr/>
          </p:nvSpPr>
          <p:spPr>
            <a:xfrm>
              <a:off x="8158320" y="5511960"/>
              <a:ext cx="14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82"/>
            <p:cNvSpPr/>
            <p:nvPr/>
          </p:nvSpPr>
          <p:spPr>
            <a:xfrm>
              <a:off x="8190720" y="5527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83"/>
            <p:cNvSpPr/>
            <p:nvPr/>
          </p:nvSpPr>
          <p:spPr>
            <a:xfrm>
              <a:off x="50760" y="5770440"/>
              <a:ext cx="58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84"/>
            <p:cNvSpPr/>
            <p:nvPr/>
          </p:nvSpPr>
          <p:spPr>
            <a:xfrm>
              <a:off x="82440" y="57862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85"/>
            <p:cNvSpPr/>
            <p:nvPr/>
          </p:nvSpPr>
          <p:spPr>
            <a:xfrm>
              <a:off x="2266920" y="5770440"/>
              <a:ext cx="46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221076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3.8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6103800" y="5770440"/>
              <a:ext cx="46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604764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8.8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7824960" y="5770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7817400" y="57862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.87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158320" y="577044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190720" y="578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1133640" y="2617920"/>
              <a:ext cx="9360" cy="80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1143000" y="2617920"/>
              <a:ext cx="11160" cy="80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8847000" y="2633760"/>
              <a:ext cx="180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847000" y="2647800"/>
              <a:ext cx="9720" cy="77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20520" y="2876400"/>
              <a:ext cx="180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20520" y="2876400"/>
              <a:ext cx="9720" cy="54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1133640" y="3913200"/>
              <a:ext cx="9360" cy="80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1143000" y="3927600"/>
              <a:ext cx="1116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8847000" y="3943440"/>
              <a:ext cx="1800" cy="77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847000" y="3943440"/>
              <a:ext cx="9720" cy="776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20520" y="4172040"/>
              <a:ext cx="1800" cy="54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20520" y="4186080"/>
              <a:ext cx="9720" cy="533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1133640" y="5222880"/>
              <a:ext cx="936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1143000" y="5222880"/>
              <a:ext cx="11160" cy="792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8847000" y="5237280"/>
              <a:ext cx="1800" cy="777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847000" y="5237280"/>
              <a:ext cx="9720" cy="777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0520" y="5481720"/>
              <a:ext cx="180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20520" y="5481720"/>
              <a:ext cx="9720" cy="533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5" name="Line 111"/>
            <p:cNvSpPr/>
            <p:nvPr/>
          </p:nvSpPr>
          <p:spPr>
            <a:xfrm>
              <a:off x="1154160" y="2617920"/>
              <a:ext cx="7702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>
              <a:off x="30240" y="28764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7" name="Rectangle 113"/>
            <p:cNvSpPr/>
            <p:nvPr/>
          </p:nvSpPr>
          <p:spPr>
            <a:xfrm>
              <a:off x="30240" y="2876400"/>
              <a:ext cx="8826480" cy="3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8" name="Line 114"/>
            <p:cNvSpPr/>
            <p:nvPr/>
          </p:nvSpPr>
          <p:spPr>
            <a:xfrm>
              <a:off x="20520" y="3395520"/>
              <a:ext cx="88362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9" name="Rectangle 115"/>
            <p:cNvSpPr/>
            <p:nvPr/>
          </p:nvSpPr>
          <p:spPr>
            <a:xfrm>
              <a:off x="30240" y="3395520"/>
              <a:ext cx="8826480" cy="30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>
              <a:off x="1154160" y="3913200"/>
              <a:ext cx="770256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1" name="Rectangle 117"/>
            <p:cNvSpPr/>
            <p:nvPr/>
          </p:nvSpPr>
          <p:spPr>
            <a:xfrm>
              <a:off x="1154160" y="3927600"/>
              <a:ext cx="770256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30240" y="4172040"/>
              <a:ext cx="882648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30240" y="47052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Rectangle 120"/>
            <p:cNvSpPr/>
            <p:nvPr/>
          </p:nvSpPr>
          <p:spPr>
            <a:xfrm>
              <a:off x="30240" y="4705200"/>
              <a:ext cx="882648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1154160" y="5222880"/>
              <a:ext cx="770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1154160" y="5222880"/>
              <a:ext cx="770256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30240" y="5481720"/>
              <a:ext cx="8826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Rectangle 124"/>
            <p:cNvSpPr/>
            <p:nvPr/>
          </p:nvSpPr>
          <p:spPr>
            <a:xfrm>
              <a:off x="66600" y="5481720"/>
              <a:ext cx="882648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30240" y="599904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Rectangle 126"/>
            <p:cNvSpPr/>
            <p:nvPr/>
          </p:nvSpPr>
          <p:spPr>
            <a:xfrm>
              <a:off x="30240" y="5999040"/>
              <a:ext cx="88264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ST de alterna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siderando los resultados anteriores podemos afirmar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-El apalancamiento era negativo en el añ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-El apalancamiento era positivo en el 1 pero negativo en el 5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-El apalancamiento era positivo en ambos añ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jercicio Propues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ner la rentabilidad patrimonial (ROE) de acuerdo al esquema analizado en clase en el punto 6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26" name="Rectangle 5"/>
            <p:cNvSpPr/>
            <p:nvPr/>
          </p:nvSpPr>
          <p:spPr>
            <a:xfrm>
              <a:off x="1319040" y="394164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3908880" y="538956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 .Pirámide de rat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esquema de la página 19 del Caso PRONAS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modelo simplificado (No en funcion del RO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(BPT/Vtas)*(Vtas/Act.)*(Act.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argen*rotacion*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*r*e = r*m*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)(dr/r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)(dm/m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)(de/e) donde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 y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 son coeficientes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) estimables por regresiones de minimos cuadr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mode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Cte.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r/r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m/m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e/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los estados financieros de varios años se pueden calcular las tres series de incrementos porcentua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uego se hace la regresion y se estiman los coefici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lusiones: determinar que politicas inciden en forma mas determinante sobre la rentabilidad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datos en EERR del cas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: Método de análisis, válido para análisis patrimonial, circulante y económ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tuación general: ratios altos o baj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endencia (evolución tempor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= (BAIT + Atípicos) / AT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(36+4)/274=14,6% ; Año 5: 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Bien comparado con el costo del exigibl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tendencia? Mej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específico: (BAIT/ Act. Func. Net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36 /(274,4-11)=13,7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120,4/(813,6-10,8-5,6)=15,1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extrafuncional no es relevante =&gt; Variaciones mínim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i extrafunc. son altos podríamos pasar a rendimientos negativos (menores que el tipo de interé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A específic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6/825=4,4% 825/263=3,13 120/1351=8,9%    1351/798=1,7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pecto al año 1 mejoró mucho el márgen, pero empeoró la rotación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sminuyó rotación por aumento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Inversión en Fijo impactó en el margen aunque no tanto en las ventas (más eficienci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P (puede ser BAT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2,6/143=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1,4/233=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Depende de otras rentabilidades de ese merc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volución : Empe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 FP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3/825=2,7% 825/143=5,8R 31/1351=2,3% 1351/233=5,9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enor rentabilidad es básicamente por reducción del márgen global (Rotación casi no varí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secuencia del aumento del endeudamiento (impacto de gastos financieros en el BPT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ordar análisis patrimonial estático y dinámico: Pronasa no practica autofinanciam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palancamiento financie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4,6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ROE &gt; ROA Efecto posi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ROE &lt; ROA Efecto nega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r EERR, gastos financieros pasan de 1,36% de las ventas a 6,13% de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uesto: Analizar evoluciones porcentuales de la página 17, por ejempl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Cómo evolucionan los márgenes de fabricación, el bruto y el de contribución (comercial) 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según producto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NASA está potenciando los congelados ¿Es unabuena decis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Indicadores intern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distribución de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re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autofinanciamiento y ot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ce Earning Ratio (PE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ntabilidad po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 de Mercado - Valor Lib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 de Tobi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Tasa de distribución de dividen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Dividendos por acción = Dividendos/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Y=Beneficio por acción = BPT/ 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distribución= X / Y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Tasa de reinversión (TR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 - Tasa de distribu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- Dividendos/ BPT= (BPT- Dividendo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Capitalización de Utilidades (a Reserva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Utilidades retenidas / 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Tasa de autofinanciamiento (T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Utilidades Retenidas (Reservas) / Fondos Prop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Capitalización Utilidades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(Utilidades Retenidas/BPT)*(BPT/Patrimon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TR *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: Si una empresa solo distribuye el mínimo legal (30%) y sus reservas son un 20% del Patrimonio. Determinar el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0,2 / 0,7 = 28,6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Financiación Extern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uevas Inversiones = Activos Iniciales * Tasa de creci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ación Externa = Nuevas Inversiones - Utilidades Retenidas = Activos Iniciales * Tasa de crecimiento - Utilidades retenid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Interna de Crecimiento (TIC, no confundir con TIR): Tasa de crec. Posible sin acudir a fuentes externas. Imponemos Fin. Externa = 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 = Activos Iniciales * TIC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C = Utilidades Retenidas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ultiplicando por 1 (2 veces) a la ecuación anterior (Aplicando N-N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Utilidades retenidas/BPT * BPT/Patrimonio * Patrimonio/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Patrimonio / 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(1 / (Activos./Patrimonio.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(1/ E´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sa de crecimiento sostenible: La que mantiene constante la razón D/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812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ueva Deuda = Tasa de Crecimiento Sostenible * Activos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Nueva Deuda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Util. Ret*(D/C)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D +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C*(1 +D/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45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 (Util. Retenidas) / 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Util. Retenidas/BPT * BPT/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TR * ROE = Tasa de autofinanciamiento!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do la TCS (o TA) se hace igual a la TIC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o se cumple si 1 / (Activos/Patrimonio) =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 decir, cuando la empresa no tiene deuda (Activos = Patrimonio), la tasa interna de crecimiento es igual a la tasa de crecimiento sosten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Price Earning Ratio (PER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 = Precio de la acción / BPT por ac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tos ratios PER signific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os inversores esperan altos crecimientos del dividendo (Crecimientos de la empres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a acción tiene bajo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se espera un crecimiento de la tasa de distribución de dividend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Ratio Valor de Mercado / Valor Lib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mbién llamado Ratio Cotización / Valor Conta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M / VL = Precio acción / Valor Contable ac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emos que al dividir VM / VL por el PE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 / PER = (Precio acción / valor contable de  la acción) * (BPT por acción / Precio 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/PER =(BPT/acción)/(V.Contable/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ltiplicando por el numero de acciones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 ) / PER = BPT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(VM / VL) / PE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Q de Tobi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VM de activos / Costo de reposic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iferencia del ratio VM / VL e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numerador incluye todos los títulos de deuda y acciones de la empresa, no solo las ac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denominador incluye todos los activos, no solo el capital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s activos no están valorados contablemente, sino por lo que costaría reponerlos (precios de mercado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o se asocia a empresas con fuertes ventajas competitivas en sus sectores industrial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dos los indicadores vistos hasta ahora en el curso son ùtiles para el análisis bursátil: análisis fundament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mbién existe la escuela de análisis técn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a ayuda a decidir que comprar, la otra cuando entrar y cuando salir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tios de interé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quote.bloomberg.com/analytics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yahoo.marketguide.com/MGI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ockselector.com/industry.asp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ern.nyu.edu/~adamodar/New_Home_Page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financewise.com/public/unregistered/riskm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corporateinformation.com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alafinanciera.com/chile (análisis técnico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economatica.com/index_fla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16T21:45:48Z</dcterms:modified>
  <cp:revision>379</cp:revision>
  <dc:subject/>
  <dc:title>Análisis Financiero</dc:title>
</cp:coreProperties>
</file>