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28988-0DA8-40ED-9D7D-4FDD6CFF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E29AA-6818-4FE3-9483-A463246A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9D87-2FD2-4339-AB68-DB97D3B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A5C60-D092-41B5-9A6A-0AC5E92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25DCF-8CD9-4645-B72E-4893B300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30CDF-F3E4-4EDC-A672-800E7C3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BB28-0AB3-4FDF-8823-3C6EFF5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EC66D-1320-4845-ADBB-0833992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FC97D-11C4-49B9-97DE-1E7575F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12FE2-23E8-463F-B55F-4C4A68C6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8657C-A070-442D-86F6-9C47E13F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EC0FE-879B-4DE2-A2DA-EA08CEE3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75C2-302D-4318-9D06-FA4D2E7F413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22800" y="3262320"/>
              <a:ext cx="212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Efe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934240" y="5929200"/>
            <a:ext cx="245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_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6120" indent="-3661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08120" indent="-3402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ponder, en caso de pérdida de valor del activo, cubriendo la deud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9:30Z</dcterms:modified>
  <cp:revision>367</cp:revision>
  <dc:subject/>
  <dc:title>Análisis Financiero</dc:title>
</cp:coreProperties>
</file>