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911-B17A-46AC-82E8-6574361D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C80-1E4A-4E43-A6FC-1FF41189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4CC-FC97-41F0-BB95-A5860DFC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038-DD8B-4BEA-8741-5947DAEC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C208-F8E0-46A7-8B5C-EABD56B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92A-B2DD-4920-A972-67018404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679-8309-4D86-81A9-922406BF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2F8-256B-4FC3-90FB-96D520B9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B0F-ACF9-4137-BA2E-9B96BD13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AAF-6B1C-4546-A785-CA58C801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271-BA41-451D-A9F5-1E554A13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B6C-DDAF-4E2E-BB9C-7FCF551F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4833-31A2-470E-8F65-C027D37869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3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itm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n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30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.25 / 100 = 10.25 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5. Intereses Interperiod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6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219320" y="1600200"/>
            <a:ext cx="1295280" cy="6094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816" h="384">
                <a:moveTo>
                  <a:pt x="0" y="0"/>
                </a:moveTo>
                <a:cubicBezTo>
                  <a:pt x="148" y="192"/>
                  <a:pt x="296" y="384"/>
                  <a:pt x="432" y="384"/>
                </a:cubicBezTo>
                <a:cubicBezTo>
                  <a:pt x="568" y="384"/>
                  <a:pt x="692" y="1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219320" y="1600200"/>
            <a:ext cx="2590560" cy="14479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632" h="912">
                <a:moveTo>
                  <a:pt x="0" y="0"/>
                </a:moveTo>
                <a:cubicBezTo>
                  <a:pt x="272" y="456"/>
                  <a:pt x="544" y="912"/>
                  <a:pt x="816" y="912"/>
                </a:cubicBezTo>
                <a:cubicBezTo>
                  <a:pt x="1088" y="912"/>
                  <a:pt x="1528" y="112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8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s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Proyecto Inmob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alumno</cp:lastModifiedBy>
  <dcterms:modified xsi:type="dcterms:W3CDTF">2010-10-04T21:49:03Z</dcterms:modified>
  <cp:revision>22</cp:revision>
  <dc:subject/>
  <dc:title>Diapositiva 1</dc:title>
</cp:coreProperties>
</file>