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5587-8639-4233-B2FD-592B0A066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4FFE-2696-4BA9-A990-5369BF72C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E761-B917-40E3-B886-C7CDEC5D0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ED81-5358-40A9-A202-DA503C5CA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564E-39FC-48FC-B10A-F4F55CF7C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A68B-C0FB-4A2C-9382-413A80884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38ED-D4B9-412B-8B3B-75A94906E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3AB7-82D3-4161-AC13-B01D307F1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3929-AB74-4549-8E3F-629CE860B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3DDC-925D-4868-9187-52402557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19BF-B131-4482-9197-4EB05869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D734-9F8C-4E13-AB4E-825AB2DA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30CC8-5E5D-4B50-A685-F2AC727DEF7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7300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Matemáticas Financieras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Object 4"/>
          <p:cNvGraphicFramePr/>
          <p:nvPr/>
        </p:nvGraphicFramePr>
        <p:xfrm>
          <a:off x="1066680" y="1447920"/>
          <a:ext cx="2295720" cy="4238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447920"/>
                    <a:ext cx="2295720" cy="42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Object 5"/>
          <p:cNvGraphicFramePr/>
          <p:nvPr/>
        </p:nvGraphicFramePr>
        <p:xfrm>
          <a:off x="3886200" y="1600200"/>
          <a:ext cx="4952880" cy="4114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9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1600200"/>
                    <a:ext cx="49528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3. Diagrama Flujo de Caja (DFC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efinición: DFC es un horizonte de tiempo en el cual se registran ingresos y egresos efectivos de dinero justo en el momento en que ocurren. Su utilidad es que nos permite hacer equivalencias entre valores presentes y valores futuros en cualquier instante de tiempo. Convencion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Una flecha hacia abajo es un egreso efectivo de dinero (E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Una flecha hacia arriba es un ingreso efectivo de dinero (I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e asume que los ingresos y egresos efectivos de dinero son vencidos (al final del período) salvo que se diga lo contrario (anticipad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Flujo de Caja Neto 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IED 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– EED 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FC de un Crédi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4"/>
          <p:cNvGrpSpPr/>
          <p:nvPr/>
        </p:nvGrpSpPr>
        <p:grpSpPr>
          <a:xfrm>
            <a:off x="1752480" y="5410080"/>
            <a:ext cx="5991120" cy="1262880"/>
            <a:chOff x="1752480" y="5410080"/>
            <a:chExt cx="5991120" cy="1262880"/>
          </a:xfrm>
        </p:grpSpPr>
        <p:sp>
          <p:nvSpPr>
            <p:cNvPr id="113" name="Line 5"/>
            <p:cNvSpPr/>
            <p:nvPr/>
          </p:nvSpPr>
          <p:spPr>
            <a:xfrm>
              <a:off x="1752480" y="6248160"/>
              <a:ext cx="571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6"/>
            <p:cNvSpPr/>
            <p:nvPr/>
          </p:nvSpPr>
          <p:spPr>
            <a:xfrm>
              <a:off x="7377120" y="621324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7"/>
            <p:cNvSpPr/>
            <p:nvPr/>
          </p:nvSpPr>
          <p:spPr>
            <a:xfrm flipV="1">
              <a:off x="1828800" y="5410080"/>
              <a:ext cx="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8"/>
            <p:cNvSpPr/>
            <p:nvPr/>
          </p:nvSpPr>
          <p:spPr>
            <a:xfrm>
              <a:off x="2514600" y="624816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9"/>
            <p:cNvSpPr/>
            <p:nvPr/>
          </p:nvSpPr>
          <p:spPr>
            <a:xfrm>
              <a:off x="4038480" y="624816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10"/>
            <p:cNvSpPr/>
            <p:nvPr/>
          </p:nvSpPr>
          <p:spPr>
            <a:xfrm>
              <a:off x="3276720" y="624816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11"/>
            <p:cNvSpPr/>
            <p:nvPr/>
          </p:nvSpPr>
          <p:spPr>
            <a:xfrm>
              <a:off x="4876920" y="624816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12"/>
            <p:cNvSpPr/>
            <p:nvPr/>
          </p:nvSpPr>
          <p:spPr>
            <a:xfrm>
              <a:off x="5715000" y="624816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13"/>
            <p:cNvSpPr/>
            <p:nvPr/>
          </p:nvSpPr>
          <p:spPr>
            <a:xfrm>
              <a:off x="6553080" y="624816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FC de una Inver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FC Típ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5"/>
          <p:cNvSpPr/>
          <p:nvPr/>
        </p:nvSpPr>
        <p:spPr>
          <a:xfrm>
            <a:off x="1752480" y="1828800"/>
            <a:ext cx="5715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>
            <a:off x="1752480" y="182880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 flipV="1">
            <a:off x="2514600" y="1447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 flipV="1">
            <a:off x="3276720" y="12189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9"/>
          <p:cNvSpPr/>
          <p:nvPr/>
        </p:nvSpPr>
        <p:spPr>
          <a:xfrm flipV="1">
            <a:off x="4038480" y="99072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 flipV="1">
            <a:off x="4876920" y="91440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1"/>
          <p:cNvSpPr/>
          <p:nvPr/>
        </p:nvSpPr>
        <p:spPr>
          <a:xfrm flipV="1">
            <a:off x="5715000" y="10663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2"/>
          <p:cNvSpPr/>
          <p:nvPr/>
        </p:nvSpPr>
        <p:spPr>
          <a:xfrm flipV="1">
            <a:off x="6553080" y="1447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7429320" y="160020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1752480" y="4419720"/>
            <a:ext cx="685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5"/>
          <p:cNvSpPr/>
          <p:nvPr/>
        </p:nvSpPr>
        <p:spPr>
          <a:xfrm>
            <a:off x="2971800" y="3657600"/>
            <a:ext cx="129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nu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6"/>
          <p:cNvSpPr/>
          <p:nvPr/>
        </p:nvSpPr>
        <p:spPr>
          <a:xfrm>
            <a:off x="4800600" y="3276720"/>
            <a:ext cx="1371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nticip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7"/>
          <p:cNvSpPr/>
          <p:nvPr/>
        </p:nvSpPr>
        <p:spPr>
          <a:xfrm>
            <a:off x="4800600" y="4038480"/>
            <a:ext cx="1371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enc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8"/>
          <p:cNvSpPr/>
          <p:nvPr/>
        </p:nvSpPr>
        <p:spPr>
          <a:xfrm>
            <a:off x="6705720" y="3276720"/>
            <a:ext cx="1447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petu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6781680" y="4038480"/>
            <a:ext cx="1447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petu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0"/>
          <p:cNvSpPr/>
          <p:nvPr/>
        </p:nvSpPr>
        <p:spPr>
          <a:xfrm>
            <a:off x="2895480" y="5110200"/>
            <a:ext cx="1371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rad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2"/>
          <p:cNvSpPr/>
          <p:nvPr/>
        </p:nvSpPr>
        <p:spPr>
          <a:xfrm>
            <a:off x="4800600" y="5338800"/>
            <a:ext cx="1676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eomét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3"/>
          <p:cNvSpPr/>
          <p:nvPr/>
        </p:nvSpPr>
        <p:spPr>
          <a:xfrm>
            <a:off x="4800600" y="4648320"/>
            <a:ext cx="129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ritmé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5"/>
          <p:cNvSpPr/>
          <p:nvPr/>
        </p:nvSpPr>
        <p:spPr>
          <a:xfrm flipV="1">
            <a:off x="2438280" y="403812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6"/>
          <p:cNvSpPr/>
          <p:nvPr/>
        </p:nvSpPr>
        <p:spPr>
          <a:xfrm>
            <a:off x="2438280" y="48006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8"/>
          <p:cNvSpPr/>
          <p:nvPr/>
        </p:nvSpPr>
        <p:spPr>
          <a:xfrm flipV="1">
            <a:off x="4267080" y="350496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9"/>
          <p:cNvSpPr/>
          <p:nvPr/>
        </p:nvSpPr>
        <p:spPr>
          <a:xfrm>
            <a:off x="4267080" y="403848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30"/>
          <p:cNvSpPr/>
          <p:nvPr/>
        </p:nvSpPr>
        <p:spPr>
          <a:xfrm flipV="1">
            <a:off x="4267080" y="49528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31"/>
          <p:cNvSpPr/>
          <p:nvPr/>
        </p:nvSpPr>
        <p:spPr>
          <a:xfrm>
            <a:off x="4267080" y="548640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33"/>
          <p:cNvSpPr/>
          <p:nvPr/>
        </p:nvSpPr>
        <p:spPr>
          <a:xfrm>
            <a:off x="6172200" y="3505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4"/>
          <p:cNvSpPr/>
          <p:nvPr/>
        </p:nvSpPr>
        <p:spPr>
          <a:xfrm>
            <a:off x="6172200" y="4191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9"/>
          <p:cNvSpPr/>
          <p:nvPr/>
        </p:nvSpPr>
        <p:spPr>
          <a:xfrm>
            <a:off x="6095880" y="48769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40"/>
          <p:cNvSpPr/>
          <p:nvPr/>
        </p:nvSpPr>
        <p:spPr>
          <a:xfrm>
            <a:off x="6477120" y="5562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2"/>
          <p:cNvSpPr/>
          <p:nvPr/>
        </p:nvSpPr>
        <p:spPr>
          <a:xfrm>
            <a:off x="6705720" y="4724280"/>
            <a:ext cx="1447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petu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4"/>
          <p:cNvSpPr/>
          <p:nvPr/>
        </p:nvSpPr>
        <p:spPr>
          <a:xfrm>
            <a:off x="7086600" y="5334120"/>
            <a:ext cx="1447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petu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jemplo: préstamo a n a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4"/>
          <p:cNvSpPr/>
          <p:nvPr/>
        </p:nvSpPr>
        <p:spPr>
          <a:xfrm>
            <a:off x="1981080" y="24382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5"/>
          <p:cNvSpPr/>
          <p:nvPr/>
        </p:nvSpPr>
        <p:spPr>
          <a:xfrm flipV="1">
            <a:off x="1981080" y="1752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6"/>
          <p:cNvSpPr/>
          <p:nvPr/>
        </p:nvSpPr>
        <p:spPr>
          <a:xfrm>
            <a:off x="4572000" y="24382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525680" y="16146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4715280" y="3214800"/>
            <a:ext cx="546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1830600" y="24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4330440" y="24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5015520" y="22240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2"/>
          <p:cNvSpPr/>
          <p:nvPr/>
        </p:nvSpPr>
        <p:spPr>
          <a:xfrm>
            <a:off x="2746440" y="207180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% an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1748160" y="3998880"/>
            <a:ext cx="221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= VP * ( 1 + i ) </a:t>
            </a:r>
            <a:r>
              <a:rPr b="1" lang="es-CL" sz="1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4"/>
          <p:cNvSpPr/>
          <p:nvPr/>
        </p:nvSpPr>
        <p:spPr>
          <a:xfrm>
            <a:off x="4191120" y="4191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5"/>
          <p:cNvSpPr/>
          <p:nvPr/>
        </p:nvSpPr>
        <p:spPr>
          <a:xfrm>
            <a:off x="4939560" y="3998880"/>
            <a:ext cx="36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apitalizar o devengar intere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6"/>
          <p:cNvSpPr/>
          <p:nvPr/>
        </p:nvSpPr>
        <p:spPr>
          <a:xfrm>
            <a:off x="1836720" y="5065560"/>
            <a:ext cx="2190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VP = VF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/ ( 1 + i ) </a:t>
            </a:r>
            <a:r>
              <a:rPr b="1" lang="es-CL" sz="1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7"/>
          <p:cNvSpPr/>
          <p:nvPr/>
        </p:nvSpPr>
        <p:spPr>
          <a:xfrm>
            <a:off x="4191120" y="5257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8"/>
          <p:cNvSpPr/>
          <p:nvPr/>
        </p:nvSpPr>
        <p:spPr>
          <a:xfrm>
            <a:off x="5092200" y="5105520"/>
            <a:ext cx="36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ctualizar o descontar intere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4. Tasas Efectivas v/s Nomin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Normalmente cuando se invierte o se pide prestado lo habitual es que se entregue el valor de una tasa que tiene un período que puede ser anual, semestral, trimestral, etc. y éste es el período de la tasa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(p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a inversión o préstamo puede capitalizar o devengar intereses más de una vez en el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l período en el cual se capitalizan los intereses se denomina período de capitalización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(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i pt es igual a pc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, estamos frente a una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tasa efectiva o verdadera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. Ejemplo: i = 10% anual (pt) capitalizable anualmente (pc). En este caso, como pt = pc el pc se obvia y la tasa se menciona como i = 10% anu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P =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= VP * (1 + i) </a:t>
            </a:r>
            <a:r>
              <a:rPr b="0" lang="es-ES_tradnl" sz="1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F 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Arial"/>
              </a:rPr>
              <a:t>1 año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= 100 * (1 + 0.1) = 1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0 / 100 = 10% anual (tasa efectiv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-280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i pt es mayor que pc,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stamos frente a una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tasa nominal o aparente. Ejemplo: i = 10% anual capitalizable semestralmente.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n este caso, la tasa efectiva asociada a la tasa nominal que se informó es mayor a un 10% anua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P =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F 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Arial"/>
              </a:rPr>
              <a:t>6 meses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= 100 * (1 + 10% / 2) = 1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F 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Arial"/>
              </a:rPr>
              <a:t>1 año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= 105 * (1 + 5%) = 110.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0.25 / 100 = 10.25 % anual (tasa efectiv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n este caso, la tasa efectiva o verdadera (10,25 % anual) es mayor que la tasa nominal informada (10 % anual capitalizable semestralmen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Importante: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todas las ecuaciones del valor del dinero en el tiempo utilizan tasas efectivas. Por lo tanto, debemos transformar las tasas nominales que informa el mercado en tasa efectivas y esto lo podemos hacer a través de la siguiente ecuació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( 1 + i 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pt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) = ( 1 + j / m ) </a:t>
            </a:r>
            <a:r>
              <a:rPr b="1" lang="es-CL" sz="1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3059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onde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j = tasa nominal (10% anual capitalizable semestralmen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m = nº de veces que se capitaliza la tasa nominal en el pt (2 vec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j / m = tasa efectiva del pc (5% semestr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pt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tasa efectiva del pt (10, 25% anu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nclusión: mientras más veces se capitaliza la tasa nominal en el pt, la tasa efectiva asociada a esta tasa nominal es cada vez mayor. El caso extremo es cuando se capitalizan intereses segundo a segundo (capitalización continua, m tiende a infinito). Ejemplo: hay proyectos en que el stock de riqueza invertida crece instante a instante, entre ellos podemos mencionar la engorda de animales, el añejamiento de vinos, la crianza de aves, los proyectos forestales, etc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n este caso, j = 10 % anual capitalizable continuamente, m tiende a infinito y la ecuación para encontrar i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pt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pt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= e </a:t>
            </a:r>
            <a:r>
              <a:rPr b="1" lang="es-CL" sz="2000" spc="-1" strike="noStrike" baseline="30000">
                <a:solidFill>
                  <a:srgbClr val="000000"/>
                </a:solidFill>
                <a:latin typeface="Arial"/>
              </a:rPr>
              <a:t>j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-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anual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= e 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0.1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1 = 10,51% an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ecuación anterior tiene otra utilidad: “ nos permite establecer equivalencias entre tasa de interés efectivas de distintos períodos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( 1 + i 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) = (1 + i 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) </a:t>
            </a:r>
            <a:r>
              <a:rPr b="1" lang="es-CL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= ( 1 + i 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) </a:t>
            </a:r>
            <a:r>
              <a:rPr b="1" lang="es-CL" sz="1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= ( 1 + i 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) </a:t>
            </a:r>
            <a:r>
              <a:rPr b="1" lang="es-CL" sz="18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= ( 1 + i 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d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s-CL" sz="1800" spc="-1" strike="noStrike" baseline="30000">
                <a:solidFill>
                  <a:srgbClr val="000000"/>
                </a:solidFill>
                <a:latin typeface="Arial"/>
              </a:rPr>
              <a:t>3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nuestro ejercicio en que j = 10 % anual capitalizable semestralmente lo que hicimos fue lo siguien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 1 + i 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) = ( 1 + i 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) 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 1 + i 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) = ( 1 + 0.05 ) 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= 10.25% (tasa efectiv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5. Intereses Interperiod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6. Tasas Spots y Forw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asa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pot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es aquella tasa conocida e informada en el mercado al día de ho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asa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orward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es una tasa de interés a futuro no observable ni informada directamente en el mercado, pero que se puede calcular a partir de las tasas spo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mbas tasas tienen que ser efec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o que se desea conocer con esta nueva distinción de tasas es la estructura temporal de las tasas de interés. No es lo mismo invertir a un año plazo que invertir a 10 años. Lo mismo para un présta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empre que se quiera calcular tasas forwards a partir de tasas spots, éstas deben llevarse a un período en común (por ejemplo: mensual, trimestral, etc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Valor del Dinero en el Tiempo (VD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Ind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efini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asas de Interés Simple y Compue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iagrama Flujo de Caja (DF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asas Efectivas y Nomi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ntereses Interperiod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asas Spots y Forw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nflación, Flujos Reales y Nominales, Interés Real y No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ablas de Pago de Crédi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jerc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Line 4"/>
          <p:cNvSpPr/>
          <p:nvPr/>
        </p:nvSpPr>
        <p:spPr>
          <a:xfrm>
            <a:off x="1219320" y="160020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5"/>
          <p:cNvSpPr/>
          <p:nvPr/>
        </p:nvSpPr>
        <p:spPr>
          <a:xfrm>
            <a:off x="251460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6"/>
          <p:cNvSpPr/>
          <p:nvPr/>
        </p:nvSpPr>
        <p:spPr>
          <a:xfrm>
            <a:off x="380988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7"/>
          <p:cNvSpPr/>
          <p:nvPr/>
        </p:nvSpPr>
        <p:spPr>
          <a:xfrm>
            <a:off x="12193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976320" y="14479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2309760" y="1295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3582720" y="1295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2"/>
          <p:cNvSpPr/>
          <p:nvPr/>
        </p:nvSpPr>
        <p:spPr>
          <a:xfrm>
            <a:off x="4422240" y="13860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ío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16"/>
          <p:cNvSpPr/>
          <p:nvPr/>
        </p:nvSpPr>
        <p:spPr>
          <a:xfrm>
            <a:off x="1219320" y="1600200"/>
            <a:ext cx="1295280" cy="609480"/>
          </a:xfrm>
          <a:custGeom>
            <a:avLst/>
            <a:gdLst>
              <a:gd name="textAreaLeft" fmla="*/ 0 w 1295280"/>
              <a:gd name="textAreaRight" fmla="*/ 1295280 w 12952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816" h="384">
                <a:moveTo>
                  <a:pt x="0" y="0"/>
                </a:moveTo>
                <a:cubicBezTo>
                  <a:pt x="148" y="192"/>
                  <a:pt x="296" y="384"/>
                  <a:pt x="432" y="384"/>
                </a:cubicBezTo>
                <a:cubicBezTo>
                  <a:pt x="568" y="384"/>
                  <a:pt x="692" y="192"/>
                  <a:pt x="8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17"/>
          <p:cNvSpPr/>
          <p:nvPr/>
        </p:nvSpPr>
        <p:spPr>
          <a:xfrm>
            <a:off x="1219320" y="1600200"/>
            <a:ext cx="2590560" cy="1447920"/>
          </a:xfrm>
          <a:custGeom>
            <a:avLst/>
            <a:gdLst>
              <a:gd name="textAreaLeft" fmla="*/ 0 w 2590560"/>
              <a:gd name="textAreaRight" fmla="*/ 2590920 w 259056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1632" h="912">
                <a:moveTo>
                  <a:pt x="0" y="0"/>
                </a:moveTo>
                <a:cubicBezTo>
                  <a:pt x="272" y="456"/>
                  <a:pt x="544" y="912"/>
                  <a:pt x="816" y="912"/>
                </a:cubicBezTo>
                <a:cubicBezTo>
                  <a:pt x="1088" y="912"/>
                  <a:pt x="1528" y="112"/>
                  <a:pt x="163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8"/>
          <p:cNvSpPr/>
          <p:nvPr/>
        </p:nvSpPr>
        <p:spPr>
          <a:xfrm>
            <a:off x="1759320" y="1766880"/>
            <a:ext cx="317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9"/>
          <p:cNvSpPr/>
          <p:nvPr/>
        </p:nvSpPr>
        <p:spPr>
          <a:xfrm>
            <a:off x="2369160" y="2529000"/>
            <a:ext cx="317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0"/>
          <p:cNvSpPr/>
          <p:nvPr/>
        </p:nvSpPr>
        <p:spPr>
          <a:xfrm>
            <a:off x="2908080" y="121932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4"/>
          <p:cNvSpPr/>
          <p:nvPr/>
        </p:nvSpPr>
        <p:spPr>
          <a:xfrm>
            <a:off x="1165320" y="3505320"/>
            <a:ext cx="6759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5"/>
          <p:cNvSpPr/>
          <p:nvPr/>
        </p:nvSpPr>
        <p:spPr>
          <a:xfrm>
            <a:off x="1371600" y="3352680"/>
            <a:ext cx="5943600" cy="36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= tasa spot a un peri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= tasa spot a 2 perío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= tasa forward a un período dentro de un perí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cumple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( 1 + i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) * ( 1 + 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) = ( 1 + i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) </a:t>
            </a:r>
            <a:r>
              <a:rPr b="1" lang="es-C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cordar que i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hay que llevarlo al mismo período de i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. Por esto, ( 1 + i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) en la formula anterior está elevado al cuad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8. Tabla de Pago de Crédi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uando se solicita un crédito y nos lo otorga cualquier institución financiera, adquirimos el compromiso a pagar intereses (costo del préstamo) y a devolver lo que nos prestaron (esto último se denomina amortización del préstam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uota = amortización + intereses (siempre se cancelan primero los intereses y luego se amortiza el préstam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n la evaluación privada de proyectos los intereses son un costo del proyecto financiado y se reconocen como un egreso en el flujo de caja operacional antes de impuesto. La amortización del préstamo es un flujo de caja de capitales y se reconoce como un egres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n la evaluación social de proyectos los flujos asociados a la deuda (préstamo, intereses, ahorro de impuestos y amortizaciones) no son relevantes ya que es sólo una transferencia de recursos dentro del mismo sistema (Sociedad Chilena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ependiendo del sistema o forma de pago, los créditos se clasifican 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uotas iguales (aquí debemos recordar la fórmula de anualida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mortizaciones igu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ólo se cancelan los intereses de cada período y se amortiza el total de la deuda en el último período del crédit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eamos un ejempl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estamo hoy = $ 1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 = 5 a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 = 10% an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) Cuotas iguales (ej.: Créditos hipotecarios con una garantía real como segunda fuente de pag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5" descr=""/>
          <p:cNvPicPr/>
          <p:nvPr/>
        </p:nvPicPr>
        <p:blipFill>
          <a:blip r:embed="rId1"/>
          <a:stretch/>
        </p:blipFill>
        <p:spPr>
          <a:xfrm>
            <a:off x="1941480" y="3581280"/>
            <a:ext cx="522144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) Amortizaciones Iguales (ej.: créditos agrícola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onto Amortización anual = Préstamo / n = 1.000 / 5 = 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2057400" y="2209680"/>
            <a:ext cx="46483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) Sólo intereses por período y la amortización total del préstamo en el último período del préstamo (Ej: líneas de crédito, Bon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1"/>
          <a:stretch/>
        </p:blipFill>
        <p:spPr>
          <a:xfrm>
            <a:off x="2209680" y="1981080"/>
            <a:ext cx="464832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os ejemplos anteriores son clásicos. Se pueden dar otras formas de pago derivadas de las anterior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asa de interés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íodos de gracia de amortizaciones (Ej.: créditos Corfo para estudios superio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íodos de gracia de amortizaciones e intere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ncelación anticipada del créd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negoci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 la evaluación privada de proyectos y específicamente en el proyecto financiado, los préstamos tienen impacto vía ahorro de impuestos. No obstante, el sistema de pago a elegir va a depender de los flujos del proyecto (capacidad de pago) y del impacto del préstamo en el VAN del proyecto (mejor indicador de rentabilidad, lo verán más adelant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1. Definic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VDT es el cambio en la cantidad de dinero durante un período de tiempo d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Dinero hace Dinero”. Ejempl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Un depósito en el ban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vertir en un nego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vertir en un fondo mutu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dir un présta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VDT se manifiesta en el Mercado a través de las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“Tasas de Interé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Tasas de Interés son un concepto de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“Costo de Oportunida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5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eamos el ejemplo de un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irector Financier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e una empres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or lo tanto, el mínimo rendimiento que se exige a los activos reales es la rentabilidad que obtendrían los accionistas en el mercado de capitales al realizar inversiones en activos financieros (Bonos y Acciones) de similar riesgo al de los activos reales. Esto se denomina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“Costo de Oportunidad del Capital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395280" y="2738520"/>
            <a:ext cx="187308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Oportunidad de invers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(Activos Real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6948360" y="2708280"/>
            <a:ext cx="165600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Oportunidad de inversión en M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(Activos Financier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2994480" y="2938320"/>
            <a:ext cx="9928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mpre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4"/>
          <p:cNvSpPr/>
          <p:nvPr/>
        </p:nvSpPr>
        <p:spPr>
          <a:xfrm>
            <a:off x="4791960" y="2997360"/>
            <a:ext cx="1211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ccionis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5"/>
          <p:cNvSpPr/>
          <p:nvPr/>
        </p:nvSpPr>
        <p:spPr>
          <a:xfrm>
            <a:off x="3065400" y="1989000"/>
            <a:ext cx="777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ine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6"/>
          <p:cNvSpPr/>
          <p:nvPr/>
        </p:nvSpPr>
        <p:spPr>
          <a:xfrm>
            <a:off x="2183760" y="378936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Invert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7"/>
          <p:cNvSpPr/>
          <p:nvPr/>
        </p:nvSpPr>
        <p:spPr>
          <a:xfrm>
            <a:off x="3203640" y="3716280"/>
            <a:ext cx="237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lternativ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agar al contado a accionis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8"/>
          <p:cNvSpPr/>
          <p:nvPr/>
        </p:nvSpPr>
        <p:spPr>
          <a:xfrm>
            <a:off x="5292720" y="3860640"/>
            <a:ext cx="216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os accionistas Invierten por sí mis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2339640" y="31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0"/>
          <p:cNvSpPr/>
          <p:nvPr/>
        </p:nvSpPr>
        <p:spPr>
          <a:xfrm>
            <a:off x="3419640" y="24192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4140360" y="314172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2"/>
          <p:cNvSpPr/>
          <p:nvPr/>
        </p:nvSpPr>
        <p:spPr>
          <a:xfrm>
            <a:off x="6156360" y="3141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3"/>
          <p:cNvSpPr/>
          <p:nvPr/>
        </p:nvSpPr>
        <p:spPr>
          <a:xfrm flipV="1">
            <a:off x="2627280" y="3284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4"/>
          <p:cNvSpPr/>
          <p:nvPr/>
        </p:nvSpPr>
        <p:spPr>
          <a:xfrm flipV="1">
            <a:off x="4356000" y="321300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5"/>
          <p:cNvSpPr/>
          <p:nvPr/>
        </p:nvSpPr>
        <p:spPr>
          <a:xfrm flipV="1">
            <a:off x="6443640" y="328464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7"/>
          <p:cNvSpPr/>
          <p:nvPr/>
        </p:nvSpPr>
        <p:spPr>
          <a:xfrm>
            <a:off x="7093080" y="4292640"/>
            <a:ext cx="17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e exige Rentabi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8"/>
          <p:cNvSpPr/>
          <p:nvPr/>
        </p:nvSpPr>
        <p:spPr>
          <a:xfrm>
            <a:off x="395280" y="4071960"/>
            <a:ext cx="151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e exige Rendi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9"/>
          <p:cNvSpPr/>
          <p:nvPr/>
        </p:nvSpPr>
        <p:spPr>
          <a:xfrm>
            <a:off x="1116000" y="3645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0"/>
          <p:cNvSpPr/>
          <p:nvPr/>
        </p:nvSpPr>
        <p:spPr>
          <a:xfrm>
            <a:off x="7885080" y="3860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762120"/>
            <a:ext cx="821844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os aspectos relevantes influyen en las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ecisiones de Inversión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e Financiamiento: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“El Riesgo y el Tiempo”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l VDT es valioso ya que da a conocer el efecto del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tiempo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y el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riesgo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en tales decis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lgunos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Principios Económicos – Financie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Un dólar hoy vale más que un dólar mañana bajo la premisa de que hoy puedo invertir ese dólar para generar interese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Un dólar seguro vale más que uno con riesgo” (no todas las inversiones tienen el mismo riesgo. Debemos comparar con alternativas de similar riesgo. Ej. Bonos del Banco Central v/s Proyecto Inmobili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8" descr=""/>
          <p:cNvPicPr/>
          <p:nvPr/>
        </p:nvPicPr>
        <p:blipFill>
          <a:blip r:embed="rId1"/>
          <a:stretch/>
        </p:blipFill>
        <p:spPr>
          <a:xfrm>
            <a:off x="2743200" y="2362320"/>
            <a:ext cx="338472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Tasas de Interé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86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finicion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terés (si se invierte) = Monto actual – Inversión Orig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terés (si se pide prestado) = Monto debido actualmente - Préstamo Orig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asa de Interés: el interés se expresa como un porcentaje (%) de la suma original por unidad de tie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ríodo de Interés es la unidad de tiempo de la  tasa de inter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jemplo: una empresa invirtió $100.000 y obtuvo un total de $106.000 exactamente un año más tar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terés = $106.000 (monto actual) - $100.000 (inversión original) = $6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asa de Interés = $6.000 (interés) / $100.000 (suma original) = 6% an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ríodo de interés = an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Tasas de Interé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lasificación general de las Tasas de Interé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539640" y="328464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de Inter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2268360" y="234936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Simp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2124000" y="4667400"/>
            <a:ext cx="1440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Compues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4068720" y="3508200"/>
            <a:ext cx="129528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Nominales (Aparent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3852720" y="5489640"/>
            <a:ext cx="151128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Efectivas (Verdader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5869080" y="579132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Forwa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5869080" y="449424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Sp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7596360" y="6078600"/>
            <a:ext cx="12236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Re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3"/>
          <p:cNvSpPr/>
          <p:nvPr/>
        </p:nvSpPr>
        <p:spPr>
          <a:xfrm>
            <a:off x="7596360" y="3860640"/>
            <a:ext cx="12236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Nomi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6"/>
          <p:cNvSpPr/>
          <p:nvPr/>
        </p:nvSpPr>
        <p:spPr>
          <a:xfrm flipV="1">
            <a:off x="1763640" y="2852640"/>
            <a:ext cx="50472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7"/>
          <p:cNvSpPr/>
          <p:nvPr/>
        </p:nvSpPr>
        <p:spPr>
          <a:xfrm>
            <a:off x="1765440" y="3860640"/>
            <a:ext cx="368280" cy="787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8"/>
          <p:cNvSpPr/>
          <p:nvPr/>
        </p:nvSpPr>
        <p:spPr>
          <a:xfrm flipV="1">
            <a:off x="3564000" y="4142880"/>
            <a:ext cx="50328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9"/>
          <p:cNvSpPr/>
          <p:nvPr/>
        </p:nvSpPr>
        <p:spPr>
          <a:xfrm>
            <a:off x="3564000" y="4941720"/>
            <a:ext cx="287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0"/>
          <p:cNvSpPr/>
          <p:nvPr/>
        </p:nvSpPr>
        <p:spPr>
          <a:xfrm flipV="1">
            <a:off x="5334120" y="5105520"/>
            <a:ext cx="507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23"/>
          <p:cNvSpPr/>
          <p:nvPr/>
        </p:nvSpPr>
        <p:spPr>
          <a:xfrm>
            <a:off x="5364000" y="5877000"/>
            <a:ext cx="50328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4"/>
          <p:cNvSpPr/>
          <p:nvPr/>
        </p:nvSpPr>
        <p:spPr>
          <a:xfrm>
            <a:off x="5796000" y="253368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Nomi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5"/>
          <p:cNvSpPr/>
          <p:nvPr/>
        </p:nvSpPr>
        <p:spPr>
          <a:xfrm>
            <a:off x="5796000" y="364500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Re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46"/>
          <p:cNvSpPr/>
          <p:nvPr/>
        </p:nvSpPr>
        <p:spPr>
          <a:xfrm flipV="1">
            <a:off x="5410080" y="3123720"/>
            <a:ext cx="3556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47"/>
          <p:cNvSpPr/>
          <p:nvPr/>
        </p:nvSpPr>
        <p:spPr>
          <a:xfrm>
            <a:off x="5364000" y="3860640"/>
            <a:ext cx="43200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8"/>
          <p:cNvSpPr/>
          <p:nvPr/>
        </p:nvSpPr>
        <p:spPr>
          <a:xfrm>
            <a:off x="7596360" y="5373720"/>
            <a:ext cx="12236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Nomi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9"/>
          <p:cNvSpPr/>
          <p:nvPr/>
        </p:nvSpPr>
        <p:spPr>
          <a:xfrm>
            <a:off x="7596360" y="4653000"/>
            <a:ext cx="12236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Re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50"/>
          <p:cNvSpPr/>
          <p:nvPr/>
        </p:nvSpPr>
        <p:spPr>
          <a:xfrm flipV="1">
            <a:off x="7093080" y="4221000"/>
            <a:ext cx="503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52"/>
          <p:cNvSpPr/>
          <p:nvPr/>
        </p:nvSpPr>
        <p:spPr>
          <a:xfrm>
            <a:off x="7093080" y="4724280"/>
            <a:ext cx="5032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53"/>
          <p:cNvSpPr/>
          <p:nvPr/>
        </p:nvSpPr>
        <p:spPr>
          <a:xfrm flipV="1">
            <a:off x="7093080" y="5733720"/>
            <a:ext cx="503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54"/>
          <p:cNvSpPr/>
          <p:nvPr/>
        </p:nvSpPr>
        <p:spPr>
          <a:xfrm>
            <a:off x="7093080" y="6093000"/>
            <a:ext cx="50328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5"/>
          <p:cNvSpPr/>
          <p:nvPr/>
        </p:nvSpPr>
        <p:spPr>
          <a:xfrm>
            <a:off x="3733920" y="205740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Nomi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6"/>
          <p:cNvSpPr/>
          <p:nvPr/>
        </p:nvSpPr>
        <p:spPr>
          <a:xfrm>
            <a:off x="3733920" y="274320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Re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7"/>
          <p:cNvSpPr/>
          <p:nvPr/>
        </p:nvSpPr>
        <p:spPr>
          <a:xfrm flipV="1">
            <a:off x="3505320" y="24382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58"/>
          <p:cNvSpPr/>
          <p:nvPr/>
        </p:nvSpPr>
        <p:spPr>
          <a:xfrm>
            <a:off x="3505320" y="25909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2. Tasas de Interés Simples y Compues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380880" y="1447920"/>
            <a:ext cx="8229600" cy="42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3333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terés 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incipio: intereses no generan intereses. Sólo el principal (inversión o préstamo) genera intereses. De otra forma es aquel que no considera reinversión de los intereses ganados en períodos intermed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 = 0 , VP = $100 e i = 10% an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 = 1,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 VP + VP * i = $1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 = 2,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+ VP * i  (Observemos que sólo calculamos intereses sobre el principal original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VP+ VP * i + VP * i = VP + 2 * VP * i = 1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ra n períod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 = n,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VP + n * VP * i ==&gt;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= VP * (1 + n * 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terés Compu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incipio: Intereses si generan intereses. El principal original más los intereses generan intereses. De otra forma se asume reinversión de los intereses obtenidos en periodos intermed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upongamos que T = 0, VP = $100 e i = 10% anu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 = 1,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VP + VP * i = 1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 = 2,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+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* i Observemos ahora calculamos intereses sobre el principal original más los intereses generados en el año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VP + VP * i + VP * i + VP * i 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VP * (1 + i) 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1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ra n períod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+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* i   ==&gt;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= VP * (1 + i) </a:t>
            </a:r>
            <a:r>
              <a:rPr b="1" lang="es-ES_tradnl" sz="1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9T01:01:05Z</dcterms:created>
  <dc:creator>CHECHO</dc:creator>
  <dc:description/>
  <dc:language>en-US</dc:language>
  <cp:lastModifiedBy>alumno</cp:lastModifiedBy>
  <dcterms:modified xsi:type="dcterms:W3CDTF">2010-10-04T21:49:03Z</dcterms:modified>
  <cp:revision>22</cp:revision>
  <dc:subject/>
  <dc:title>Diapositiva 1</dc:title>
</cp:coreProperties>
</file>