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FC13-180F-4DB1-8562-EF80F29E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92CE-3D01-47C8-8C59-D664C21A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F8F7-6710-43F6-8E78-CC177FC2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6A52-425F-4ECC-A7C1-5505DC59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08DA-9509-4C67-A1C3-CBEAA708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7DE5-F8E7-4234-B415-1B802CE7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B138-661D-4457-83FA-106FDA24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419E-D4B3-4ECB-BC30-3493C7B2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AC65-0112-45FF-8557-36D2F5D0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B81D-E233-4B14-A833-CF9DBDCF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8140-1E49-4456-83B0-444FB8CE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616E-4250-4BBA-B7BF-67073B26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EEA4-89C5-4CAD-B92D-D1ECC17B734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atemáticas Financiera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1066680" y="1447920"/>
          <a:ext cx="2295720" cy="42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7920"/>
                    <a:ext cx="229572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5"/>
          <p:cNvGraphicFramePr/>
          <p:nvPr/>
        </p:nvGraphicFramePr>
        <p:xfrm>
          <a:off x="3886200" y="1600200"/>
          <a:ext cx="4952880" cy="411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1600200"/>
                    <a:ext cx="4952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3. Diagrama Flujo de Caja (DF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finición: DFC es un horizonte de tiempo en el cual se registran ingresos y egresos efectivos de dinero justo en el momento en que ocurren. Su utilidad es que nos permite hacer equivalencias entre valores presentes y valores futuros en cualquier instante de tiempo. Convencio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flecha hacia abajo es un egreso efectivo de dinero (E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flecha hacia arriba es un ingreso efectivo de dinero (I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asume que los ingresos y egresos efectivos de dinero son vencidos (al final del período) salvo que se diga lo contrario (anticip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lujo de Caja Neto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IED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– EED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FC de un Cré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1752480" y="5410080"/>
            <a:ext cx="5991120" cy="1262880"/>
            <a:chOff x="1752480" y="5410080"/>
            <a:chExt cx="5991120" cy="1262880"/>
          </a:xfrm>
        </p:grpSpPr>
        <p:sp>
          <p:nvSpPr>
            <p:cNvPr id="113" name="Line 5"/>
            <p:cNvSpPr/>
            <p:nvPr/>
          </p:nvSpPr>
          <p:spPr>
            <a:xfrm>
              <a:off x="1752480" y="6248160"/>
              <a:ext cx="571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7377120" y="6213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"/>
            <p:cNvSpPr/>
            <p:nvPr/>
          </p:nvSpPr>
          <p:spPr>
            <a:xfrm flipV="1">
              <a:off x="1828800" y="541008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8"/>
            <p:cNvSpPr/>
            <p:nvPr/>
          </p:nvSpPr>
          <p:spPr>
            <a:xfrm>
              <a:off x="251460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9"/>
            <p:cNvSpPr/>
            <p:nvPr/>
          </p:nvSpPr>
          <p:spPr>
            <a:xfrm>
              <a:off x="403848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0"/>
            <p:cNvSpPr/>
            <p:nvPr/>
          </p:nvSpPr>
          <p:spPr>
            <a:xfrm>
              <a:off x="327672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1"/>
            <p:cNvSpPr/>
            <p:nvPr/>
          </p:nvSpPr>
          <p:spPr>
            <a:xfrm>
              <a:off x="487692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2"/>
            <p:cNvSpPr/>
            <p:nvPr/>
          </p:nvSpPr>
          <p:spPr>
            <a:xfrm>
              <a:off x="571500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>
              <a:off x="655308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 de una I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 Típ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752480" y="182880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1752480" y="18288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251460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V="1">
            <a:off x="3276720" y="12189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 flipV="1">
            <a:off x="4038480" y="990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V="1">
            <a:off x="4876920" y="9144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 flipV="1">
            <a:off x="571500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 flipV="1">
            <a:off x="65530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7429320" y="16002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1752480" y="4419720"/>
            <a:ext cx="685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2971800" y="365760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u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4800600" y="327672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ticip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4800600" y="403848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6705720" y="3276720"/>
            <a:ext cx="144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6781680" y="403848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2895480" y="511020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4800600" y="5338800"/>
            <a:ext cx="1676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800600" y="464832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itm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5"/>
          <p:cNvSpPr/>
          <p:nvPr/>
        </p:nvSpPr>
        <p:spPr>
          <a:xfrm flipV="1">
            <a:off x="2438280" y="40381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6"/>
          <p:cNvSpPr/>
          <p:nvPr/>
        </p:nvSpPr>
        <p:spPr>
          <a:xfrm>
            <a:off x="2438280" y="48006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8"/>
          <p:cNvSpPr/>
          <p:nvPr/>
        </p:nvSpPr>
        <p:spPr>
          <a:xfrm flipV="1">
            <a:off x="4267080" y="35049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9"/>
          <p:cNvSpPr/>
          <p:nvPr/>
        </p:nvSpPr>
        <p:spPr>
          <a:xfrm>
            <a:off x="4267080" y="40384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0"/>
          <p:cNvSpPr/>
          <p:nvPr/>
        </p:nvSpPr>
        <p:spPr>
          <a:xfrm flipV="1">
            <a:off x="4267080" y="49528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267080" y="54864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3"/>
          <p:cNvSpPr/>
          <p:nvPr/>
        </p:nvSpPr>
        <p:spPr>
          <a:xfrm>
            <a:off x="617220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4"/>
          <p:cNvSpPr/>
          <p:nvPr/>
        </p:nvSpPr>
        <p:spPr>
          <a:xfrm>
            <a:off x="617220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9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0"/>
          <p:cNvSpPr/>
          <p:nvPr/>
        </p:nvSpPr>
        <p:spPr>
          <a:xfrm>
            <a:off x="647712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6705720" y="4724280"/>
            <a:ext cx="144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7086600" y="533412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préstamo a n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1981080" y="2438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 flipV="1">
            <a:off x="1981080" y="175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4572000" y="243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525680" y="161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4715280" y="3214800"/>
            <a:ext cx="54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83060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433044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5015520" y="22240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2746440" y="20718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1748160" y="3998880"/>
            <a:ext cx="221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VP * ( 1 + i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41911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4939560" y="3998880"/>
            <a:ext cx="36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pitalizar o devengar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1836720" y="5065560"/>
            <a:ext cx="21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P = V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/ ( 1 + i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>
            <a:off x="419112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5092200" y="510552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ctualizar o descontar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4. Tasas Efectivas v/s Nomi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rmalmente cuando se invierte o se pide prestado lo habitual es que se entregue el valor de una tasa que tiene un período que puede ser anual, semestral, trimestral, etc. y éste es el período de la tas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p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inversión o préstamo puede capitalizar o devengar intereses más de una vez en 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período en el cual se capitalizan los intereses se denomina período de capitalización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(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pt es igual a pc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, estamos frente a un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asa efectiva o verdader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. Ejemplo: i = 10% anual (pt) capitalizable anualmente (pc). En este caso, como pt = pc el pc se obvia y la tasa se menciona como i = 10% an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P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1 añ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0 * (1 + 0.1) = 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 / 100 = 10% anual (tasa efecti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pt es mayor que pc,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amos frente a un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tasa nominal o aparente. Ejemplo: i = 10% anual capitalizable semestralmente.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 este caso, la tasa efectiva asociada a la tasa nominal que se informó es mayor a un 10% an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P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6 mese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0 * (1 + 10% / 2) = 1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1 añ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5 * (1 + 5%) = 11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.25 / 100 = 10.25 % anual (tasa efecti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este caso, la tasa efectiva o verdadera (10,25 % anual) es mayor que la tasa nominal informada (10 % anual capitalizable semestral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mportante: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odas las ecuaciones del valor del dinero en el tiempo utilizan tasas efectivas. Por lo tanto, debemos transformar las tasas nominales que informa el mercado en tasa efectivas y esto lo podemos hacer a través de la siguiente ecuació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= ( 1 + j / m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on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 = tasa nominal (10% anual capitalizable semestral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 = nº de veces que se capitaliza la tasa nominal en el pt (2 ve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 / m = tasa efectiva del pc (5% semestr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tasa efectiva del pt (10, 25% anu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clusión: mientras más veces se capitaliza la tasa nominal en el pt, la tasa efectiva asociada a esta tasa nominal es cada vez mayor. El caso extremo es cuando se capitalizan intereses segundo a segundo (capitalización continua, m tiende a infinito). Ejemplo: hay proyectos en que el stock de riqueza invertida crece instante a instante, entre ellos podemos mencionar la engorda de animales, el añejamiento de vinos, la crianza de aves, los proyectos forestales,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este caso, j = 10 % anual capitalizable continuamente, m tiende a infinito y la ecuación para encontrar i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pt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= e 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j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anual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e 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0.1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1 = 10,51%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cuación anterior tiene otra utilidad: “ nos permite establecer equivalencias entre tasa de interés efectivas de distintos períod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= (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3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nuestro ejercicio en que j = 10 % anual capitalizable semestralmente lo que hicimos fue lo sigu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= 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= ( 1 + 0.05 )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10.25% (tasa efecti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5. Intereses Interperiod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6. Tasas Spots y Forw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po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aquella tasa conocida e informada en el mercado al día de h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rward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una tasa de interés a futuro no observable ni informada directamente en el mercado, pero que se puede calcular a partir de las tasas spo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bas tasas tienen que ser efec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 que se desea conocer con esta nueva distinción de tasas es la estructura temporal de las tasas de interés. No es lo mismo invertir a un año plazo que invertir a 10 años. Lo mismo para un présta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empre que se quiera calcular tasas forwards a partir de tasas spots, éstas deben llevarse a un período en común (por ejemplo: mensual, trimestral,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Valor del Dinero en el Tiempo (VD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de Interés Simple y Compu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agrama Flujo de Caja (DF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Efectivas y Nom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ereses Interperiod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Spots y For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flación, Flujos Reales y Nominales, Interés Real y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blas de Pago de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4"/>
          <p:cNvSpPr/>
          <p:nvPr/>
        </p:nvSpPr>
        <p:spPr>
          <a:xfrm>
            <a:off x="1219320" y="16002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251460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38098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12193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976320" y="1447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309760" y="129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3582720" y="129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4422240" y="1386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6"/>
          <p:cNvSpPr/>
          <p:nvPr/>
        </p:nvSpPr>
        <p:spPr>
          <a:xfrm>
            <a:off x="1219320" y="1600200"/>
            <a:ext cx="1295280" cy="60948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816" h="384">
                <a:moveTo>
                  <a:pt x="0" y="0"/>
                </a:moveTo>
                <a:cubicBezTo>
                  <a:pt x="148" y="192"/>
                  <a:pt x="296" y="384"/>
                  <a:pt x="432" y="384"/>
                </a:cubicBezTo>
                <a:cubicBezTo>
                  <a:pt x="568" y="384"/>
                  <a:pt x="692" y="192"/>
                  <a:pt x="8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7"/>
          <p:cNvSpPr/>
          <p:nvPr/>
        </p:nvSpPr>
        <p:spPr>
          <a:xfrm>
            <a:off x="1219320" y="1600200"/>
            <a:ext cx="2590560" cy="144792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1632" h="912">
                <a:moveTo>
                  <a:pt x="0" y="0"/>
                </a:moveTo>
                <a:cubicBezTo>
                  <a:pt x="272" y="456"/>
                  <a:pt x="544" y="912"/>
                  <a:pt x="816" y="912"/>
                </a:cubicBezTo>
                <a:cubicBezTo>
                  <a:pt x="1088" y="912"/>
                  <a:pt x="1528" y="112"/>
                  <a:pt x="16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1759320" y="176688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2369160" y="252900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2908080" y="1219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4"/>
          <p:cNvSpPr/>
          <p:nvPr/>
        </p:nvSpPr>
        <p:spPr>
          <a:xfrm>
            <a:off x="1165320" y="3505320"/>
            <a:ext cx="6759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1371600" y="3352680"/>
            <a:ext cx="59436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spot a un per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spot a 2 perí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forward a un período dentro de un perí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umpl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 1 + 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) * ( 1 + 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) = ( 1 + 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ordar que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hay que llevarlo al mismo período de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 Por esto, ( 1 +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en la formula anterior está elevado al cuad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8. Tabla de Pago de Créd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ando se solicita un crédito y nos lo otorga cualquier institución financiera, adquirimos el compromiso a pagar intereses (costo del préstamo) y a devolver lo que nos prestaron (esto último se denomina amortización del présta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ota = amortización + intereses (siempre se cancelan primero los intereses y luego se amortiza el présta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la evaluación privada de proyectos los intereses son un costo del proyecto financiado y se reconocen como un egreso en el flujo de caja operacional antes de impuesto. La amortización del préstamo es un flujo de caja de capitales y se reconoce como un egre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la evaluación social de proyectos los flujos asociados a la deuda (préstamo, intereses, ahorro de impuestos y amortizaciones) no son relevantes ya que es sólo una transferencia de recursos dentro del mismo sistema (Sociedad Chilen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pendiendo del sistema o forma de pago, los créditos se clasifican 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otas iguales (aquí debemos recordar la fórmula de anual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mortizaciones igu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ólo se cancelan los intereses de cada período y se amortiza el total de la deuda en el último período del crédi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amos un 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stamo hoy = $ 1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 = 5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 = 10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) Cuotas iguales (ej.: Créditos hipotecarios con una garantía real como segunda fuente de pa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1941480" y="3581280"/>
            <a:ext cx="52214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) Amortizaciones Iguales (ej.: créditos agrícol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nto Amortización anual = Préstamo / n = 1.000 / 5 =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64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) Sólo intereses por período y la amortización total del préstamo en el último período del préstamo (Ej: líneas de crédito, Bon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6483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ejemplos anteriores son clásicos. Se pueden dar otras formas de pago derivadas de las anteri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de interé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 de gracia de amortizaciones (Ej.: créditos Corfo para estudios superi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 de gracia de amortizaciones e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ncelación anticipada del cré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negoci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la evaluación privada de proyectos y específicamente en el proyecto financiado, los préstamos tienen impacto vía ahorro de impuestos. No obstante, el sistema de pago a elegir va a depender de los flujos del proyecto (capacidad de pago) y del impacto del préstamo en el VAN del proyecto (mejor indicador de rentabilidad, lo verán más adel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1. Defin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DT es el cambio en la cantidad de dinero durante un período de tiempo d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inero hace Dinero”. 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 depósito en 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tir en un 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tir en un fondo mut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dir un prést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DT se manifiesta en el Mercado a través de la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Tasas de Interé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Tasas de Interés son un concepto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Costo de Oportunida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amos el ejemplo de u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rector Financier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una emp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el mínimo rendimiento que se exige a los activos reales es la rentabilidad que obtendrían los accionistas en el mercado de capitales al realizar inversiones en activos financieros (Bonos y Acciones) de similar riesgo al de los activos reales. Esto se denomi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Costo de Oportunidad del Capit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95280" y="2738520"/>
            <a:ext cx="18730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portunidad de inver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Activos Re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6948360" y="2708280"/>
            <a:ext cx="16560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portunidad de inversión en M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Activos Financie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2994480" y="2938320"/>
            <a:ext cx="992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4791960" y="2997360"/>
            <a:ext cx="1211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cion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3065400" y="1989000"/>
            <a:ext cx="777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2183760" y="378936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vert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3203640" y="3716280"/>
            <a:ext cx="23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ternativ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gar al contado a accion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5292720" y="3860640"/>
            <a:ext cx="21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accionistas Invierten por sí m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2339640" y="31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>
            <a:off x="3419640" y="24192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414036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6156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 flipV="1">
            <a:off x="2627280" y="32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 flipV="1">
            <a:off x="4356000" y="32130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 flipV="1">
            <a:off x="6443640" y="3284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7093080" y="429264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exige Rent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395280" y="407196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exige Rend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9"/>
          <p:cNvSpPr/>
          <p:nvPr/>
        </p:nvSpPr>
        <p:spPr>
          <a:xfrm>
            <a:off x="111600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0"/>
          <p:cNvSpPr/>
          <p:nvPr/>
        </p:nvSpPr>
        <p:spPr>
          <a:xfrm>
            <a:off x="788508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821844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os aspectos relevantes influyen en la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cisiones de Inversió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 Financiamiento: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“El Riesgo y el Tiempo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VDT es valioso ya que da a conocer el efecto d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iemp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iesg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n tales deci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lgunos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rincipios Económicos – Financi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 dólar hoy vale más que un dólar mañana bajo la premisa de que hoy puedo invertir ese dólar para generar interes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 dólar seguro vale más que uno con riesgo” (no todas las inversiones tienen el mismo riesgo. Debemos comparar con alternativas de similar riesgo. Ej. Bonos del Banco Central v/s Proyecto Inmobili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8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384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finic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(si se invierte) = Monto actual – Inversión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(si se pide prestado) = Monto debido actualmente - Préstamo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 Interés: el interés se expresa como un porcentaje (%) de la suma original por unidad d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Interés es la unidad de tiempo de la  tasa de inte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emplo: una empresa invirtió $100.000 y obtuvo un total de $106.000 exactamente un año más tar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= $106.000 (monto actual) - $100.000 (inversión original) = $6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 Interés = $6.000 (interés) / $100.000 (suma original) = 6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interés =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lasificación general de las Tasas de Interé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9640" y="32846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268360" y="234936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Si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124000" y="4667400"/>
            <a:ext cx="1440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Compu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4068720" y="3508200"/>
            <a:ext cx="129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 (Apare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852720" y="5489640"/>
            <a:ext cx="1511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Efectivas (Verdade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869080" y="579132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Forw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5869080" y="44942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Sp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7596360" y="607860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7596360" y="386064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 flipV="1">
            <a:off x="1763640" y="285264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7"/>
          <p:cNvSpPr/>
          <p:nvPr/>
        </p:nvSpPr>
        <p:spPr>
          <a:xfrm>
            <a:off x="1765440" y="3860640"/>
            <a:ext cx="36828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8"/>
          <p:cNvSpPr/>
          <p:nvPr/>
        </p:nvSpPr>
        <p:spPr>
          <a:xfrm flipV="1">
            <a:off x="3564000" y="4142880"/>
            <a:ext cx="503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9"/>
          <p:cNvSpPr/>
          <p:nvPr/>
        </p:nvSpPr>
        <p:spPr>
          <a:xfrm>
            <a:off x="3564000" y="4941720"/>
            <a:ext cx="287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0"/>
          <p:cNvSpPr/>
          <p:nvPr/>
        </p:nvSpPr>
        <p:spPr>
          <a:xfrm flipV="1">
            <a:off x="5334120" y="5105520"/>
            <a:ext cx="507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3"/>
          <p:cNvSpPr/>
          <p:nvPr/>
        </p:nvSpPr>
        <p:spPr>
          <a:xfrm>
            <a:off x="5364000" y="587700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5796000" y="253368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5"/>
          <p:cNvSpPr/>
          <p:nvPr/>
        </p:nvSpPr>
        <p:spPr>
          <a:xfrm>
            <a:off x="5796000" y="36450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6"/>
          <p:cNvSpPr/>
          <p:nvPr/>
        </p:nvSpPr>
        <p:spPr>
          <a:xfrm flipV="1">
            <a:off x="5410080" y="3123720"/>
            <a:ext cx="3556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7"/>
          <p:cNvSpPr/>
          <p:nvPr/>
        </p:nvSpPr>
        <p:spPr>
          <a:xfrm>
            <a:off x="5364000" y="3860640"/>
            <a:ext cx="432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8"/>
          <p:cNvSpPr/>
          <p:nvPr/>
        </p:nvSpPr>
        <p:spPr>
          <a:xfrm>
            <a:off x="7596360" y="537372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9"/>
          <p:cNvSpPr/>
          <p:nvPr/>
        </p:nvSpPr>
        <p:spPr>
          <a:xfrm>
            <a:off x="7596360" y="465300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0"/>
          <p:cNvSpPr/>
          <p:nvPr/>
        </p:nvSpPr>
        <p:spPr>
          <a:xfrm flipV="1">
            <a:off x="7093080" y="422100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2"/>
          <p:cNvSpPr/>
          <p:nvPr/>
        </p:nvSpPr>
        <p:spPr>
          <a:xfrm>
            <a:off x="7093080" y="472428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3"/>
          <p:cNvSpPr/>
          <p:nvPr/>
        </p:nvSpPr>
        <p:spPr>
          <a:xfrm flipV="1">
            <a:off x="7093080" y="5733720"/>
            <a:ext cx="503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4"/>
          <p:cNvSpPr/>
          <p:nvPr/>
        </p:nvSpPr>
        <p:spPr>
          <a:xfrm>
            <a:off x="7093080" y="609300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5"/>
          <p:cNvSpPr/>
          <p:nvPr/>
        </p:nvSpPr>
        <p:spPr>
          <a:xfrm>
            <a:off x="3733920" y="20574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6"/>
          <p:cNvSpPr/>
          <p:nvPr/>
        </p:nvSpPr>
        <p:spPr>
          <a:xfrm>
            <a:off x="3733920" y="27432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7"/>
          <p:cNvSpPr/>
          <p:nvPr/>
        </p:nvSpPr>
        <p:spPr>
          <a:xfrm flipV="1">
            <a:off x="3505320" y="2438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8"/>
          <p:cNvSpPr/>
          <p:nvPr/>
        </p:nvSpPr>
        <p:spPr>
          <a:xfrm>
            <a:off x="3505320" y="2590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2. Tasas de Interés Simples y Compue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80880" y="1447920"/>
            <a:ext cx="8229600" cy="42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és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ncipio: intereses no generan intereses. Sólo el principal (inversión o préstamo) genera intereses. De otra forma es aquel que no considera reinversión de los intereses ganados en períodos intermed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0 , VP = $100 e i = 10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1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 VP + VP * i = $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2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 VP * i  (Observemos que sólo calculamos intereses sobre el principal origin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+ VP * i + VP * i = VP + 2 * VP * i = 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n perí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n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n * VP * i ==&gt;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VP * (1 + n *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és Com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ncipio: Intereses si generan intereses. El principal original más los intereses generan intereses. De otra forma se asume reinversión de los intereses obtenidos en periodos intermed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pongamos que T = 0, VP = $100 e i = 10% anu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1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VP * i = 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2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* i Observemos ahora calculamos intereses sobre el principal original más los intereses generados en el añ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VP * i + VP * i + VP * i 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n perí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+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* i   ==&gt;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9T01:01:05Z</dcterms:created>
  <dc:creator>CHECHO</dc:creator>
  <dc:description/>
  <dc:language>en-US</dc:language>
  <cp:lastModifiedBy>alumno</cp:lastModifiedBy>
  <dcterms:modified xsi:type="dcterms:W3CDTF">2010-10-04T21:49:03Z</dcterms:modified>
  <cp:revision>22</cp:revision>
  <dc:subject/>
  <dc:title>Diapositiva 1</dc:title>
</cp:coreProperties>
</file>