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35D-4AB7-4EE2-95CB-97C92F94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841-6ACD-4BD3-810E-4CCD509C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99F-626A-40B3-81E9-8D7DD5F7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6C9-7C16-4A2A-AB24-B883FAAA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C05-238D-4DC6-99E8-B63574BC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459-FEC3-4D8A-BEEE-88E796D2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BC99-30AE-48C7-A4E3-EF3B6FC7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6C8-1B0E-4116-8850-D669D331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D4E-169B-4A92-B28C-11A744EB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336-7027-4870-867F-750A608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7A8-B625-4E4A-AE06-DD0CD8CE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3DA-B4B5-48AC-B022-8648859B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C2DC-BB12-4676-90B4-61CE8714588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3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itm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n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433044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5. Intereses Interperiod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6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219320" y="1600200"/>
            <a:ext cx="1295280" cy="6094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816" h="384">
                <a:moveTo>
                  <a:pt x="0" y="0"/>
                </a:moveTo>
                <a:cubicBezTo>
                  <a:pt x="148" y="192"/>
                  <a:pt x="296" y="384"/>
                  <a:pt x="432" y="384"/>
                </a:cubicBezTo>
                <a:cubicBezTo>
                  <a:pt x="568" y="384"/>
                  <a:pt x="692" y="19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219320" y="1600200"/>
            <a:ext cx="2590560" cy="14479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1632" h="912">
                <a:moveTo>
                  <a:pt x="0" y="0"/>
                </a:moveTo>
                <a:cubicBezTo>
                  <a:pt x="272" y="456"/>
                  <a:pt x="544" y="912"/>
                  <a:pt x="816" y="912"/>
                </a:cubicBezTo>
                <a:cubicBezTo>
                  <a:pt x="1088" y="912"/>
                  <a:pt x="1528" y="112"/>
                  <a:pt x="16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8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s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Proyecto Inmobil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alumno</cp:lastModifiedBy>
  <dcterms:modified xsi:type="dcterms:W3CDTF">2010-10-04T21:49:03Z</dcterms:modified>
  <cp:revision>22</cp:revision>
  <dc:subject/>
  <dc:title>Diapositiva 1</dc:title>
</cp:coreProperties>
</file>