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D220C-9C73-4677-A69B-2054F8E5D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4EB9A-4A44-4511-A2CD-FAFEADAA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F99C1-BA8C-4393-B438-BE8CF0D9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7B674-8946-425C-80CF-708667513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336C9-B9B4-4371-A024-51EA86E1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9F23-BA45-4EE3-B0F9-76C644BA1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2AE9-37ED-4E96-8D59-4C26D4206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387D4-4A20-4FFF-B4D7-C50B97BC0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41B8C-7F2D-4578-9762-2741A684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1F008-0DD3-47C5-B20B-AF279C8A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33198-04B3-4DB3-97D7-76F513CB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45D4-1EF5-4E26-9D6E-540E979F2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7047-3334-4FF4-B2C5-F70EB0FEC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Claudio Jiménez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poco exigible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2640"/>
            <a:ext cx="7772400" cy="5257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se puede desarrollar manteniendo su estructura actual de AC y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533520"/>
            <a:ext cx="7772400" cy="4114800"/>
          </a:xfrm>
          <a:prstGeom prst="rect">
            <a:avLst/>
          </a:prstGeom>
          <a:noFill/>
          <a:ln w="0">
            <a:noFill/>
          </a:ln>
        </p:spPr>
        <p:txBody>
          <a:bodyPr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adecuada (pero cuidado con los morosos (12,3% del total de deudores funcionales)). En el año 5 los acreedores se encuentran flotando en el paraíso de la solvencia (sus deudas están más que cubiertas por el disponible y las cuentas por cobrar a clientes sin moroso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838080"/>
            <a:ext cx="7772400" cy="4114800"/>
          </a:xfrm>
          <a:prstGeom prst="rect">
            <a:avLst/>
          </a:prstGeom>
          <a:noFill/>
          <a:ln w="0">
            <a:noFill/>
          </a:ln>
        </p:spPr>
        <p:txBody>
          <a:bodyPr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6960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990720"/>
            <a:ext cx="7772400" cy="411480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37080" indent="-1872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Presupuesto de Tesorería)</a:t>
            </a: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1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990360"/>
            <a:ext cx="7924680" cy="510516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74240" indent="-214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22200" indent="-322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el tamaño de las cuentas</a:t>
            </a:r>
            <a:endParaRPr b="0" lang="en-US" sz="24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143000"/>
            <a:ext cx="7772400" cy="510552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21932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143000"/>
            <a:ext cx="7772400" cy="4114800"/>
          </a:xfrm>
          <a:prstGeom prst="rect">
            <a:avLst/>
          </a:prstGeom>
          <a:noFill/>
          <a:ln w="0">
            <a:noFill/>
          </a:ln>
        </p:spPr>
        <p:txBody>
          <a:bodyPr anchor="t">
            <a:normAutofit fontScale="83000"/>
          </a:bodyPr>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bjetivo: analizar el Estado de Resultados (EºRº) de la empresa</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Visión de Gestión del EºRº : Es la generación de valor agregado del negocio en un periodo determinado. Es un flujo y no un Stock como el Balance</a:t>
            </a:r>
            <a:endParaRPr b="0" lang="en-US" sz="2800" spc="-1" strike="noStrike">
              <a:solidFill>
                <a:srgbClr val="000000"/>
              </a:solidFill>
              <a:latin typeface="Times New Roman"/>
            </a:endParaRPr>
          </a:p>
          <a:p>
            <a:pPr marL="284400" indent="-2844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Ordenamiento del EºRº</a:t>
            </a:r>
            <a:endParaRPr b="0" lang="en-US" sz="2800" spc="-1" strike="noStrike">
              <a:solidFill>
                <a:srgbClr val="000000"/>
              </a:solidFill>
              <a:latin typeface="Times New Roman"/>
            </a:endParaRPr>
          </a:p>
          <a:p>
            <a:pPr lvl="2" marL="948600" indent="-1897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tilizamos el Sistema Marginalista: se ordena de acuerdo a los costos que genera la producción marginal y facilita el análisis global de la gestión. Permite conocer el desempeño de cada línea de productos.</a:t>
            </a:r>
            <a:endParaRPr b="0" lang="en-US" sz="2400" spc="-1" strike="noStrike">
              <a:solidFill>
                <a:srgbClr val="000000"/>
              </a:solidFill>
              <a:latin typeface="Times New Roman"/>
            </a:endParaRPr>
          </a:p>
          <a:p>
            <a:pPr marL="2844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7. Análisis Económico I...</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762120"/>
            <a:ext cx="7772400" cy="41148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Instrumentos de Análisis del EºRº</a:t>
            </a:r>
            <a:endParaRPr b="0" lang="en-US" sz="28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1. Estático: </a:t>
            </a:r>
            <a:r>
              <a:rPr b="0" lang="es-ES_tradnl" sz="2000" spc="-1" strike="noStrike">
                <a:solidFill>
                  <a:srgbClr val="000000"/>
                </a:solidFill>
                <a:latin typeface="Comic Sans MS"/>
              </a:rPr>
              <a:t>se asigna 100% al total de ventas y cada ítem de costo se expresa como % del valor de las ventas</a:t>
            </a:r>
            <a:endParaRPr b="0" lang="en-US" sz="2000" spc="-1" strike="noStrike">
              <a:solidFill>
                <a:srgbClr val="000000"/>
              </a:solidFill>
              <a:latin typeface="Times New Roman"/>
            </a:endParaRPr>
          </a:p>
          <a:p>
            <a:pPr lvl="2" marL="914400" indent="-182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2. Dinámico: </a:t>
            </a:r>
            <a:r>
              <a:rPr b="0" lang="es-ES_tradnl" sz="2000" spc="-1" strike="noStrike">
                <a:solidFill>
                  <a:srgbClr val="000000"/>
                </a:solidFill>
                <a:latin typeface="Comic Sans MS"/>
              </a:rPr>
              <a:t>Idem anterior y se comparan dos EºRº de distintos periodos. Analizar principales diferencias entre ellos, sus causas y plantear estrategias.</a:t>
            </a:r>
            <a:endParaRPr b="0" lang="en-US" sz="2000" spc="-1" strike="noStrike">
              <a:solidFill>
                <a:srgbClr val="000000"/>
              </a:solidFill>
              <a:latin typeface="Times New Roman"/>
            </a:endParaRPr>
          </a:p>
          <a:p>
            <a:pPr marL="274320" indent="-27432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 (ver página 5):</a:t>
            </a:r>
            <a:endParaRPr b="0" lang="en-US" sz="28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Estático (año 5): en clase auxiliar...</a:t>
            </a:r>
            <a:endParaRPr b="0" lang="en-US" sz="1700" spc="-1" strike="noStrike">
              <a:solidFill>
                <a:srgbClr val="000000"/>
              </a:solidFill>
              <a:latin typeface="Times New Roman"/>
            </a:endParaRPr>
          </a:p>
          <a:p>
            <a:pPr lvl="1" marL="594360" indent="-228600">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Comic Sans MS"/>
              </a:rPr>
              <a:t>Dinámico: Bajo crecimiento de las ventas entre ambos períodos (aunque es importante analizar P*Q), estructura de costos estable y sin preponderancia de los variables o de los fijos (imputables y no imputables) y el margen global neto casi se duplica llegando a un 6,4% de las ventas en el año 5 (para saber si su magnitud es alta, media o baja tendríamos que comparar con datos de su industria), lo que fue originado principalmente por los menores gastos financieros (recordar disminución de deuda).</a:t>
            </a:r>
            <a:endParaRPr b="0" lang="en-US" sz="1700" spc="-1" strike="noStrike">
              <a:solidFill>
                <a:srgbClr val="000000"/>
              </a:solidFill>
              <a:latin typeface="Times New Roman"/>
            </a:endParaRPr>
          </a:p>
          <a:p>
            <a:pPr marL="27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2" name="PlaceHolder 2"/>
          <p:cNvSpPr>
            <a:spLocks noGrp="1"/>
          </p:cNvSpPr>
          <p:nvPr>
            <p:ph/>
          </p:nvPr>
        </p:nvSpPr>
        <p:spPr>
          <a:xfrm>
            <a:off x="685800" y="1219320"/>
            <a:ext cx="7772400" cy="411480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determinar la rentabilidad del Capital Propio (y su origen)</a:t>
            </a:r>
            <a:endParaRPr b="0" lang="en-US" sz="24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dimiento del Activo (ROA)</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Global = (BAIT + Atípicos) / ATN </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Técnico = BAIT / Afunc.N</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A Global:</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BAIT + Atípicos) / Vtas. Netas * Vtas. Netas / ATN</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A = Márgen de (Explotación + Atípicos) * Rotación del Activo</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También se puede detallar el ROA técnico o específico</a:t>
            </a:r>
            <a:endParaRPr b="0" lang="en-US" sz="18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ntabilidad del Capital Propio (ROE)</a:t>
            </a:r>
            <a:endParaRPr b="0" lang="en-US" sz="24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BPT / CP</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 CP = Capital Propio </a:t>
            </a:r>
            <a:endParaRPr b="0" lang="en-US" sz="1800" spc="-1" strike="noStrike">
              <a:solidFill>
                <a:srgbClr val="000000"/>
              </a:solidFill>
              <a:latin typeface="Times New Roman"/>
            </a:endParaRPr>
          </a:p>
          <a:p>
            <a:pPr lvl="2" marL="10515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294920"/>
            <a:ext cx="7772400" cy="449604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alle del ROE</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BPT / Ventas Netas  *  Ventas Netas / CP</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E = Márgen global neto * Rotación de los CP</a:t>
            </a:r>
            <a:endParaRPr b="0" lang="en-US" sz="2200" spc="-1" strike="noStrike">
              <a:solidFill>
                <a:srgbClr val="000000"/>
              </a:solidFill>
              <a:latin typeface="Times New Roman"/>
            </a:endParaRPr>
          </a:p>
          <a:p>
            <a:pPr marL="308520" indent="-3085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alancamiento Financiero</a:t>
            </a:r>
            <a:endParaRPr b="0" lang="en-US" sz="24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Efecto de la deuda:</a:t>
            </a:r>
            <a:endParaRPr b="0" lang="en-US" sz="22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la rotación: si aumenta E y no varía el total de activos entonces aumenta Ventas Netas / CP</a:t>
            </a:r>
            <a:endParaRPr b="0" lang="en-US" sz="2000" spc="-1" strike="noStrike">
              <a:solidFill>
                <a:srgbClr val="000000"/>
              </a:solidFill>
              <a:latin typeface="Times New Roman"/>
            </a:endParaRPr>
          </a:p>
          <a:p>
            <a:pPr lvl="4" marL="1851480" indent="-205560">
              <a:lnSpc>
                <a:spcPct val="100000"/>
              </a:lnSpc>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fecto (-) en el márgen: si aumenta E y no varía el total de activos entonces disminuye BPT / Ventas</a:t>
            </a:r>
            <a:endParaRPr b="0" lang="en-US" sz="20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ayor que i entonces ROE mayor que ROA (apalancamiento financiero positivo)</a:t>
            </a:r>
            <a:endParaRPr b="0" lang="en-US" sz="2200" spc="-1" strike="noStrike">
              <a:solidFill>
                <a:srgbClr val="000000"/>
              </a:solidFill>
              <a:latin typeface="Times New Roman"/>
            </a:endParaRPr>
          </a:p>
          <a:p>
            <a:pPr lvl="2" marL="1028520" indent="-20556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ROA es menor que i entonces ROE es menor que ROA (apalancamiento financiero negativo)</a:t>
            </a:r>
            <a:endParaRPr b="0" lang="en-US" sz="2200" spc="-1" strike="noStrike">
              <a:solidFill>
                <a:srgbClr val="000000"/>
              </a:solidFill>
              <a:latin typeface="Times New Roman"/>
            </a:endParaRPr>
          </a:p>
          <a:p>
            <a:pPr lvl="4" marL="1851480" indent="0">
              <a:lnSpc>
                <a:spcPct val="10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371240"/>
            <a:ext cx="7772400" cy="472428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odelo ROE en función del ROA</a:t>
            </a:r>
            <a:endParaRPr b="0" lang="en-US" sz="2400" spc="-1" strike="noStrike">
              <a:solidFill>
                <a:srgbClr val="000000"/>
              </a:solidFill>
              <a:latin typeface="Times New Roman"/>
            </a:endParaRPr>
          </a:p>
          <a:p>
            <a:pPr lvl="2" marL="1005840" indent="-20088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OE = ROA Global* FAFF</a:t>
            </a:r>
            <a:endParaRPr b="0" lang="en-US" sz="1800" spc="-1" strike="noStrike">
              <a:solidFill>
                <a:srgbClr val="000000"/>
              </a:solidFill>
              <a:latin typeface="Times New Roman"/>
            </a:endParaRPr>
          </a:p>
          <a:p>
            <a:pPr lvl="2" marL="1005840" indent="-20088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FAFF = ATN / CP * BAT / (BAIT + Atípicos) * BPT / BAT</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lo tanto:  </a:t>
            </a:r>
            <a:endParaRPr b="0" lang="en-US" sz="24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ATN / CP * BAT / (BAIT + Atípicos) * BPT / BAT</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005840" indent="-200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OE = ROA Global * Endeudamiento * Incidencia Gastos Financieros * Impacto Fiscal</a:t>
            </a:r>
            <a:endParaRPr b="0" lang="en-US" sz="1600" spc="-1" strike="noStrike">
              <a:solidFill>
                <a:srgbClr val="000000"/>
              </a:solidFill>
              <a:latin typeface="Times New Roman"/>
            </a:endParaRPr>
          </a:p>
          <a:p>
            <a:pPr marL="301680" indent="-3016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irámide de Ratios... (ver páginas ...)</a:t>
            </a:r>
            <a:endParaRPr b="0" lang="en-US" sz="2400" spc="-1" strike="noStrike">
              <a:solidFill>
                <a:srgbClr val="000000"/>
              </a:solidFill>
              <a:latin typeface="Times New Roman"/>
            </a:endParaRPr>
          </a:p>
          <a:p>
            <a:pPr marL="30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a:t>
            </a:r>
            <a:r>
              <a:rPr b="0" lang="es-ES_tradnl" sz="2000" spc="-1" strike="noStrike">
                <a:solidFill>
                  <a:srgbClr val="000000"/>
                </a:solidFill>
                <a:latin typeface="Comic Sans MS"/>
              </a:rPr>
              <a:t>Alza del ROA (debido a una leve mejora del margen de explotación), disminución del ROE pero el factor de apalancamiento financiero aún tiene un efecto amplificador. Se obtendría un efecto más positivo con más deuda. La seguridad patrimonial se ha pagado con un pequeño descenso de la rentabilidad del Capital Propio.</a:t>
            </a:r>
            <a:endParaRPr b="0" lang="en-US" sz="2000" spc="-1" strike="noStrike">
              <a:solidFill>
                <a:srgbClr val="000000"/>
              </a:solidFill>
              <a:latin typeface="Times New Roman"/>
            </a:endParaRPr>
          </a:p>
        </p:txBody>
      </p:sp>
      <p:sp>
        <p:nvSpPr>
          <p:cNvPr id="87" name="Rectangle 4"/>
          <p:cNvSpPr/>
          <p:nvPr/>
        </p:nvSpPr>
        <p:spPr>
          <a:xfrm>
            <a:off x="1731240" y="533520"/>
            <a:ext cx="616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8. Análisis Económico I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9. Planificación Económico Financiera de Corto Plazo</a:t>
            </a:r>
            <a:endParaRPr b="0" lang="en-US" sz="3200" spc="-1" strike="noStrike">
              <a:solidFill>
                <a:srgbClr val="000000"/>
              </a:solidFill>
              <a:latin typeface="Times New Roman"/>
            </a:endParaRPr>
          </a:p>
        </p:txBody>
      </p:sp>
      <p:sp>
        <p:nvSpPr>
          <p:cNvPr id="89" name="PlaceHolder 2"/>
          <p:cNvSpPr>
            <a:spLocks noGrp="1"/>
          </p:cNvSpPr>
          <p:nvPr>
            <p:ph/>
          </p:nvPr>
        </p:nvSpPr>
        <p:spPr>
          <a:xfrm>
            <a:off x="685800" y="1371240"/>
            <a:ext cx="7772400" cy="518148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Objetivo: ¿de dónde obtener los recursos financieros necesarios para la operación del negocio en el próximo a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etodología de la Estrategia Financiera:</a:t>
            </a:r>
            <a:endParaRPr b="0" lang="en-US" sz="20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1. Determinar necesidad financiera máxima acumulada del presupuesto de tesorería</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2. Determinar el ROAp = (BAITp + ATIPp) / ATNp</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3. Analizar apalancamiento: comparar Roa con i</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a:t>
            </a:r>
            <a:r>
              <a:rPr b="0" lang="es-ES_tradnl" sz="1800" spc="-1" strike="noStrike">
                <a:solidFill>
                  <a:srgbClr val="000000"/>
                </a:solidFill>
                <a:latin typeface="Comic Sans MS"/>
              </a:rPr>
              <a:t>Si ROAp es mayor que i pensar en exigible, en caso </a:t>
            </a: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ontrario pensar en capital propi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4. Determinar el E histórico</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5. Calcular el cash flow libre para ver servicios de deuda a nuevos préstam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r>
              <a:rPr b="0" lang="es-ES_tradnl" sz="1800" spc="-1" strike="noStrike">
                <a:solidFill>
                  <a:srgbClr val="000000"/>
                </a:solidFill>
                <a:latin typeface="Comic Sans MS"/>
              </a:rPr>
              <a:t>CFL= BPTp + deprec. + provis. - amort. créd. actuales - inv. previstas - pagos divid. ya comprometidos</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Planificación</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91" name="PlaceHolder 2"/>
          <p:cNvSpPr>
            <a:spLocks noGrp="1"/>
          </p:cNvSpPr>
          <p:nvPr>
            <p:ph/>
          </p:nvPr>
        </p:nvSpPr>
        <p:spPr>
          <a:xfrm>
            <a:off x="609480" y="1447920"/>
            <a:ext cx="7772400" cy="44956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Análisis de las alternativas de recursos: acciones, créditos a corto, medio y largo plazo, proveedores, leasing, leaseback, descuento de documentos, factoring, exigibles automáticos (NF permanente), exigible expreso (NF transitoria), enajenación y gestión de activ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Si con todos estos pasos no se encuentran los recursos necesarios hay que modificar objetivos y volver a planifica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7.  Recalcular indicadores con el nuevo endeudamiento: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BPT(t+1) = (BATp - nuevos GF) * (1-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Capital Propio (t+1) = CPp + BPT (t+1) + ampliaciones de capital - dividendo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ROE (t+1) = BPT (t+1)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E = (Exigiblep + Nueva Deuda) / CP (t+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100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052640"/>
            <a:ext cx="7772400" cy="4114800"/>
          </a:xfrm>
          <a:prstGeom prst="rect">
            <a:avLst/>
          </a:prstGeom>
          <a:noFill/>
          <a:ln w="0">
            <a:noFill/>
          </a:ln>
        </p:spPr>
        <p:txBody>
          <a:bodyPr anchor="t">
            <a:normAutofit fontScale="76000"/>
          </a:bodyPr>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 (la fuerza interna a la liquidez del activo debe equilibrarse con la fuerza interna a la exigibilidad del pasiv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CP + LP) / Capital Propio)</a:t>
            </a:r>
            <a:endParaRPr b="0" lang="en-US" sz="2000" spc="-1" strike="noStrike">
              <a:solidFill>
                <a:srgbClr val="000000"/>
              </a:solidFill>
              <a:latin typeface="Times New Roman"/>
            </a:endParaRPr>
          </a:p>
          <a:p>
            <a:pPr marL="260640" indent="-260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es v/s extrafuncionales v/s interino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o normal: todo funcional</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ás de un 10% en extrafuncionales hay que investigar</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terinos: hasta un 5% no es preocupante</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 más de un 30% de inmateriales hay que investigar</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8686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type="subTitle"/>
          </p:nvPr>
        </p:nvSpPr>
        <p:spPr>
          <a:xfrm>
            <a:off x="755280" y="1413000"/>
            <a:ext cx="8064360" cy="5256000"/>
          </a:xfrm>
          <a:prstGeom prst="rect">
            <a:avLst/>
          </a:prstGeom>
          <a:noFill/>
          <a:ln w="0">
            <a:noFill/>
          </a:ln>
        </p:spPr>
        <p:txBody>
          <a:bodyPr anchor="t">
            <a:noAutofit/>
          </a:bodyPr>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propio: capital social pagado v/s reservas (autofinanciación)</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371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uál es el horizonte del LP?</a:t>
            </a:r>
            <a:endParaRPr b="0" lang="en-US" sz="2000" spc="-1" strike="noStrike">
              <a:solidFill>
                <a:srgbClr val="000000"/>
              </a:solidFill>
              <a:latin typeface="Times New Roman"/>
            </a:endParaRPr>
          </a:p>
          <a:p>
            <a:pPr lvl="3" marL="13716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CP: proporción de Recursos cíclicos v/s expresos</a:t>
            </a:r>
            <a:endParaRPr b="0" lang="en-US" sz="20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914400"/>
            <a:ext cx="7772400" cy="4114800"/>
          </a:xfrm>
          <a:prstGeom prst="rect">
            <a:avLst/>
          </a:prstGeom>
          <a:noFill/>
          <a:ln w="0">
            <a:noFill/>
          </a:ln>
        </p:spPr>
        <p:txBody>
          <a:bodyPr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6" name="PlaceHolder 2"/>
          <p:cNvSpPr>
            <a:spLocks noGrp="1"/>
          </p:cNvSpPr>
          <p:nvPr>
            <p:ph/>
          </p:nvPr>
        </p:nvSpPr>
        <p:spPr>
          <a:xfrm>
            <a:off x="762120" y="144792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15192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8" name="PlaceHolder 2"/>
          <p:cNvSpPr>
            <a:spLocks noGrp="1"/>
          </p:cNvSpPr>
          <p:nvPr>
            <p:ph/>
          </p:nvPr>
        </p:nvSpPr>
        <p:spPr>
          <a:xfrm>
            <a:off x="762120" y="838080"/>
            <a:ext cx="7772400" cy="4191120"/>
          </a:xfrm>
          <a:prstGeom prst="rect">
            <a:avLst/>
          </a:prstGeom>
          <a:noFill/>
          <a:ln w="0">
            <a:noFill/>
          </a:ln>
        </p:spPr>
        <p:txBody>
          <a:bodyPr anchor="t">
            <a:normAutofit fontScale="81000"/>
          </a:bodyPr>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l proceso 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1. Cuadro de diferencias contabl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2. Esquema de fuentes y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3. Análisis de uso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4. Análisis de fuentes</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5. Analizar Armonía de la evolución patrimonial</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6. Retroalimentar estrategia  </a:t>
            </a:r>
            <a:endParaRPr b="0" lang="en-US" sz="1800" spc="-1" strike="noStrike">
              <a:solidFill>
                <a:srgbClr val="000000"/>
              </a:solidFill>
              <a:latin typeface="Times New Roman"/>
            </a:endParaRPr>
          </a:p>
          <a:p>
            <a:pPr marL="277560" indent="-27756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clusiones: </a:t>
            </a:r>
            <a:endParaRPr b="0" lang="en-US" sz="1800" spc="-1" strike="noStrike">
              <a:solidFill>
                <a:srgbClr val="000000"/>
              </a:solidFill>
              <a:latin typeface="Times New Roman"/>
            </a:endParaRPr>
          </a:p>
          <a:p>
            <a:pPr lvl="2" marL="925560" indent="-185040">
              <a:lnSpc>
                <a:spcPct val="100000"/>
              </a:lnSpc>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1" lang="es-ES_tradnl" sz="1800" spc="-1" strike="noStrike">
                <a:solidFill>
                  <a:srgbClr val="000000"/>
                </a:solidFill>
                <a:latin typeface="Comic Sans MS"/>
              </a:rPr>
              <a:t>Inversiones</a:t>
            </a:r>
            <a:r>
              <a:rPr b="0" lang="es-ES_tradnl" sz="1800" spc="-1" strike="noStrike">
                <a:solidFill>
                  <a:srgbClr val="000000"/>
                </a:solidFill>
                <a:latin typeface="Comic Sans MS"/>
              </a:rPr>
              <a:t>: inversión en EC/P (objetivo disminuir nivel de endeudamiento de 2,29 a 0,81), no obstante ¿de qué se han desprendido: de una mayor proporción de cíclicos o de expresos?. Se observa un crecimiento del AFB de un 76% debido a inversiones en Act. Fijo Func. Mat. muy consolidados (terrenos, edificios e instalaciones industriales (modernización)). </a:t>
            </a:r>
            <a:endParaRPr b="0" lang="en-US" sz="1800" spc="-1" strike="noStrike">
              <a:solidFill>
                <a:srgbClr val="000000"/>
              </a:solidFill>
              <a:latin typeface="Times New Roman"/>
            </a:endParaRPr>
          </a:p>
          <a:p>
            <a:pPr lvl="2" marL="925560" indent="-18504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Financiamiento</a:t>
            </a:r>
            <a:r>
              <a:rPr b="0" lang="es-ES_tradnl" sz="1800" spc="-1" strike="noStrike">
                <a:solidFill>
                  <a:srgbClr val="000000"/>
                </a:solidFill>
                <a:latin typeface="Comic Sans MS"/>
              </a:rPr>
              <a:t>: el financiamiento de ambas inversiones ha sido básicamente con capitales propios 48% (del cual el 30,85% corresponde a reservas: “ha existido autofinanciación”), </a:t>
            </a:r>
            <a:r>
              <a:rPr b="0" lang="es-ES_tradnl" sz="1900" spc="-1" strike="noStrike">
                <a:solidFill>
                  <a:srgbClr val="000000"/>
                </a:solidFill>
                <a:latin typeface="Comic Sans MS"/>
              </a:rPr>
              <a:t>...</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alumno</cp:lastModifiedBy>
  <dcterms:modified xsi:type="dcterms:W3CDTF">2010-09-30T17:54:35Z</dcterms:modified>
  <cp:revision>73</cp:revision>
  <dc:subject/>
  <dc:title>Gestión Financiera I Caso Arosel</dc:title>
</cp:coreProperties>
</file>