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AA64B-C230-46D6-869C-1949431F6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4B68B-08CF-49E4-B448-B6704E456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273DC-B8C4-44CD-AABF-68E971EC4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E1ED7-48A0-4BF9-882E-2AD7B3051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4F69D-9582-43A0-BE7A-C0149C554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B1C93-CCC5-401E-A7BE-239D32C93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0E5B2-C092-431A-AE0D-9304B900F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D94DE-8CC1-40B3-9E9A-43E41BC6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6B6E1-48A6-46F1-8089-04744F0EE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D81B-0BDF-4C10-8961-7E0A82421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858C-9636-47EC-8E76-49F934A2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D20D4-EBF9-4E38-9A42-BB99A5E15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5E1E-231C-4D34-9169-EAFE1AEC4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676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Gestión Financiera I</a:t>
            </a:r>
            <a:br>
              <a:rPr sz="4400"/>
            </a:br>
            <a:r>
              <a:rPr b="1" lang="es-ES_tradnl" sz="4400" spc="-1" strike="noStrike">
                <a:solidFill>
                  <a:srgbClr val="000000"/>
                </a:solidFill>
                <a:latin typeface="Comic Sans MS"/>
              </a:rPr>
              <a:t>Caso Arosel S.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6000" y="4266720"/>
            <a:ext cx="6400800" cy="1752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rofesores: Eduardo Contreras V.</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r>
              <a:rPr b="1" lang="es-ES_tradnl" sz="2400" spc="-1" strike="noStrike">
                <a:solidFill>
                  <a:srgbClr val="000000"/>
                </a:solidFill>
                <a:latin typeface="Comic Sans MS"/>
              </a:rPr>
              <a:t>Claudio Jiménez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 una Amortización probablemente algo acelerada (recordar que Bru deseaba pagar menos dividendos) y algo de exig. de L/P y Capital Social.</a:t>
            </a:r>
            <a:endParaRPr b="0" lang="en-US" sz="1900" spc="-1" strike="noStrike">
              <a:solidFill>
                <a:srgbClr val="000000"/>
              </a:solidFill>
              <a:latin typeface="Times New Roman"/>
            </a:endParaRPr>
          </a:p>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omic Sans MS"/>
              </a:rPr>
              <a:t>Armonía</a:t>
            </a:r>
            <a:r>
              <a:rPr b="0" lang="es-ES_tradnl" sz="1900" spc="-1" strike="noStrike">
                <a:solidFill>
                  <a:srgbClr val="000000"/>
                </a:solidFill>
                <a:latin typeface="Comic Sans MS"/>
              </a:rPr>
              <a:t>: </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inversiones consolidadas y financiadas con sólidos recursos financieros (poco exigibles), una senda confortable para empresarios adversos al riesgo.</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La tendencia ha sido hacia la independencia financier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Se puede continuar con la estrategia utilizad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Por lo tanto, la evolución patrimonial ha sido armonios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profundizar el análisis patrimonial gener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conoce también como análisis de solvencia de capac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s centramos en las cuentas que se mueven con mayor rapidez (AC y PC) para determinar si la empresa se puede desarrollar manteniendo su estructura actual de AC y P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lases de solvencia de capacida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1. Solvencia Final: ATN - Exigible (situamos a la empresa en una perspectiva de liquidació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2. Solvencia Corriente: capacidad que tiene el AC para hacer frente al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5. Análisis del Circulante I</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533520"/>
            <a:ext cx="7772400" cy="4114800"/>
          </a:xfrm>
          <a:prstGeom prst="rect">
            <a:avLst/>
          </a:prstGeom>
          <a:noFill/>
          <a:ln w="0">
            <a:noFill/>
          </a:ln>
        </p:spPr>
        <p:txBody>
          <a:bodyPr anchor="t">
            <a:normAutofit fontScale="76000"/>
          </a:bodyPr>
          <a:p>
            <a:pPr marL="260640" indent="-260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Medidas de la solvencia corriente:</a:t>
            </a:r>
            <a:endParaRPr b="0" lang="en-US" sz="2800" spc="-1" strike="noStrike">
              <a:solidFill>
                <a:srgbClr val="000000"/>
              </a:solidFill>
              <a:latin typeface="Times New Roman"/>
            </a:endParaRPr>
          </a:p>
          <a:p>
            <a:pPr lvl="2" marL="868680" indent="-17352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Capital de Trabajo = AC - PC.</a:t>
            </a:r>
            <a:r>
              <a:rPr b="0" lang="es-ES_tradnl" sz="2200" spc="-1" strike="noStrike">
                <a:solidFill>
                  <a:srgbClr val="000000"/>
                </a:solidFill>
                <a:latin typeface="Comic Sans MS"/>
              </a:rPr>
              <a:t> </a:t>
            </a:r>
            <a:endParaRPr b="0" lang="en-US" sz="22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ayor que cero hay solvencia de capacidad</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enor que cero no implica que haya insolvencia, pero pondría un poco nerviosos a los acreedore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si sólo no dice nada, hay que analizar su estructura</a:t>
            </a:r>
            <a:endParaRPr b="0" lang="en-US" sz="2000" spc="-1" strike="noStrike">
              <a:solidFill>
                <a:srgbClr val="000000"/>
              </a:solidFill>
              <a:latin typeface="Times New Roman"/>
            </a:endParaRPr>
          </a:p>
          <a:p>
            <a:pPr lvl="2" marL="868680" indent="-17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Ratios: </a:t>
            </a:r>
            <a:endParaRPr b="0" lang="en-US" sz="24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General = AC / PC (adecuado mayor que 1) </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de Tesorería = (AC - stocks) / PC (sólo las partidas más líquidas del AC), si es = 1, excelente posición de tesorería (pero depende de la calidad de la cartera de clientes)</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Liquidez = (caja + bancos) / PC , sirve para determinar un saldo medio de seguridad</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Hay otras derivaciones: por ejemplo todos los ratios anteriores pero sólo con activos fun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ver página 3):</a:t>
            </a:r>
            <a:r>
              <a:rPr b="0" lang="es-ES_tradnl" sz="3200" spc="-1" strike="noStrike">
                <a:solidFill>
                  <a:srgbClr val="000000"/>
                </a:solidFill>
                <a:latin typeface="Times New Roman"/>
              </a:rPr>
              <a:t> </a:t>
            </a:r>
            <a:r>
              <a:rPr b="0" lang="es-ES_tradnl" sz="2000" spc="-1" strike="noStrike">
                <a:solidFill>
                  <a:srgbClr val="000000"/>
                </a:solidFill>
                <a:latin typeface="Comic Sans MS"/>
              </a:rPr>
              <a:t>En el año 1 la solvencia de capacidad de Arosel ya era adecuada (pero cuidado con los morosos (12,3% del total de deudores funcionales)). En el año 5 los acreedores se encuentran flotando en el paraíso de la solvencia (sus deudas están más que cubiertas por el disponible y las cuentas por cobrar a clientes sin morosos). Ojo: todo depende de la calidad de la cartera de clientes aunque nada nos dice que hay problemas en ella, ya que los morosos representan el 8,6% del total de deudores funcional y al mismo tiempo han disminuido respecto al año 1 tanto en monto como en su participación relativa en el total de deudores funcional (el cual ha aumentado).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838080"/>
            <a:ext cx="7772400" cy="4114800"/>
          </a:xfrm>
          <a:prstGeom prst="rect">
            <a:avLst/>
          </a:prstGeom>
          <a:noFill/>
          <a:ln w="0">
            <a:noFill/>
          </a:ln>
        </p:spPr>
        <p:txBody>
          <a:bodyPr anchor="t">
            <a:normAutofit fontScale="85000"/>
          </a:bodyPr>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Obj.: mismo análisis anterior</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También se conoce como análisis de solvencia de puntualidad</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No hay una medida de solvencia de puntualidad pero si 2 buenas aproximaciones: cash flow y las rotaciones o permanencias</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Cash flow = Util. Neta + Deprec. + Provisiones </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cash flow es mayor a dividendo + vencimientos de créditos de L/P, implica que hay puntualidad, pero cash flow es una estimación o proyección, por lo cual no es un evento 100% cierto.</a:t>
            </a:r>
            <a:endParaRPr b="0" lang="en-US" sz="2200" spc="-1" strike="noStrike">
              <a:solidFill>
                <a:srgbClr val="000000"/>
              </a:solidFill>
              <a:latin typeface="Times New Roman"/>
            </a:endParaRPr>
          </a:p>
          <a:p>
            <a:pPr marL="291600" indent="-2916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Financiamiento recomendado: recursos cíclicos, exigible de L/P o autofinanciación (reservas), pero para atender (cumplir) a estos 2 últimos es necesario generar cash flow</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990720"/>
            <a:ext cx="7772400" cy="411480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ón = Ventas / Activo</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s: medida de la actividad de la empres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ctivo: medida del tamaño de la inversión</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uenas ideas: </a:t>
            </a:r>
            <a:endParaRPr b="0" lang="en-US" sz="24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pérdidas de rotación del activo (disminuir permanencias)</a:t>
            </a:r>
            <a:endParaRPr b="0" lang="en-US" sz="20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aumentos de rotación del pasivo (aumentar permanencias)</a:t>
            </a:r>
            <a:endParaRPr b="0" lang="en-US" sz="20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anencia Media = 365 días / rotación (este indicador miente en empresas con estacionalidad muy acentuad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manencias son sumables, las rotaciones directamente No. </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jo con el IVA: EºRº, Balance y Cash flow, (Presupuesto de Tesorería)</a:t>
            </a: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990360"/>
            <a:ext cx="7924680" cy="510516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ones del AC y PC</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Stocks (detalle MP, PC, PA)</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Clientes</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Proveedores</a:t>
            </a:r>
            <a:endParaRPr b="0" lang="en-US" sz="2200" spc="-1" strike="noStrike">
              <a:solidFill>
                <a:srgbClr val="000000"/>
              </a:solidFill>
              <a:latin typeface="Times New Roman"/>
            </a:endParaRPr>
          </a:p>
          <a:p>
            <a:pPr marL="322200" indent="-322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ólo hay que analizar las rotaciones o permanencias sino que también el tamaño de las cuentas</a:t>
            </a:r>
            <a:endParaRPr b="0" lang="en-US" sz="24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a:t>
            </a:r>
            <a:r>
              <a:rPr b="0" lang="es-ES_tradnl" sz="2000" spc="-1" strike="noStrike">
                <a:solidFill>
                  <a:srgbClr val="000000"/>
                </a:solidFill>
                <a:latin typeface="Comic Sans MS"/>
              </a:rPr>
              <a:t>ha habido una buena progresión hacia la puntualidad de pago que se ha manifestado en la reducción del plazo de pago a proveedores gracias a la racionalización de los niveles de stocks. Actualmente, de deudores funcional se recuperan (es decir, se hacen líquidos) M$4.056 (clientes / permanencia) y se pagan a proveedores M$1.291 (proveedores / permanencia) por día en promedio en ambos cas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4" name="PlaceHolder 2"/>
          <p:cNvSpPr>
            <a:spLocks noGrp="1"/>
          </p:cNvSpPr>
          <p:nvPr>
            <p:ph/>
          </p:nvPr>
        </p:nvSpPr>
        <p:spPr>
          <a:xfrm>
            <a:off x="609480" y="1143000"/>
            <a:ext cx="7772400" cy="510552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tinuación conclusiones: </a:t>
            </a:r>
            <a:r>
              <a:rPr b="0" lang="es-ES_tradnl" sz="2000" spc="-1" strike="noStrike">
                <a:solidFill>
                  <a:srgbClr val="000000"/>
                </a:solidFill>
                <a:latin typeface="Comic Sans MS"/>
              </a:rPr>
              <a:t>lo que nos da un saldo neto diario de entrada a la caja en promedio de M$2.765. En cambio en el año 1, la recuperación de deudores funcional ascendía a M$3.860 y el pago a proveedores a M$1.378 diarios en promedio en ambos casos, lo que nos da un saldo neto diario de entrada promedio a caja de M$ 2.482 ($283 menos que en el año 5). Todo lo anterior nos dice que estamos progresando en la puntualidad de pago, aunque en ambos años no debiésemos haber presentado inconvenientes de puntualidad, salvo algún inconveniente especial como por ejemplo que se atrase en sus pagos un cliente importante de la cartera de Arosel.</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otro lado, la conversión de stocks a deudores funcional también a mejorado pasando de M$1.274 en promedio diario en el año 1 a M$1.302 en promedio diario en el año 5, lo que también ayudaría a mejorar la puntualidad en consideración a lo ya explicado en el párrafo anterior.</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21932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ambién es importante reconocer la estacionalidad de las ventas y por ende de estas cuentas (stocks, deudores funcional y proveedores), por lo cual tales cifras no serían representativas de todo el año y en este sentido sería recomendable analizar por ejemplo a mediados de año para contar con una visión más general de la puntualidad de Arosel.</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pregunta: ¿Cuál es el costo económico de la política de Bru en relación a las existencias?</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mejor aproximación de puntualidad se obtendría realizando el mismo análisis de permanencias en conjunto con el tamaño de las cuentas si consideramos por el lado del activo sólo el realizable funcional y el disponible, y por el lado del pasivo todo el exigible de corto plazo.</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último y de acuerdo a todo el análisis realizado previamente, podemos concluir que se prevé puntualidad y que ésta ha mejorado al comparar ambos años ( 1 y 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143000"/>
            <a:ext cx="7772400" cy="4114800"/>
          </a:xfrm>
          <a:prstGeom prst="rect">
            <a:avLst/>
          </a:prstGeom>
          <a:noFill/>
          <a:ln w="0">
            <a:noFill/>
          </a:ln>
        </p:spPr>
        <p:txBody>
          <a:bodyPr anchor="t">
            <a:normAutofit fontScale="83000"/>
          </a:bodyPr>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bjetivo: analizar el Estado de Resultados (EºRº) de la empresa</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Visión de Gestión del EºRº : Es la generación de valor agregado del negocio en un periodo determinado. Es un flujo y no un Stock como el Balance</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rdenamiento del EºRº</a:t>
            </a:r>
            <a:endParaRPr b="0" lang="en-US" sz="2800" spc="-1" strike="noStrike">
              <a:solidFill>
                <a:srgbClr val="000000"/>
              </a:solidFill>
              <a:latin typeface="Times New Roman"/>
            </a:endParaRPr>
          </a:p>
          <a:p>
            <a:pPr lvl="2" marL="948600" indent="-1897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mos el Sistema Marginalista: se ordena de acuerdo a los costos que genera la producción marginal y facilita el análisis global de la gestión. Permite conocer el desempeño de cada línea de productos.</a:t>
            </a:r>
            <a:endParaRPr b="0" lang="en-US" sz="24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Metodología de Análisis y Planificación</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05120"/>
            <a:ext cx="7772400" cy="411480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Un poco de historia</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Ordenamiento del Balance de Gestión</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Análisis Patrimonial Estát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Análisis Patrimonial Dinám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Análisis Circulante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Análisis Circulante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7. Análisis Económico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 Análisis Económico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9. Planificación Económica Financiera de Cort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762120"/>
            <a:ext cx="7772400" cy="4114800"/>
          </a:xfrm>
          <a:prstGeom prst="rect">
            <a:avLst/>
          </a:prstGeom>
          <a:noFill/>
          <a:ln w="0">
            <a:noFill/>
          </a:ln>
        </p:spPr>
        <p:txBody>
          <a:bodyPr anchor="t">
            <a:normAutofit fontScale="80000"/>
          </a:bodyPr>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Instrumentos de Análisis del EºRº</a:t>
            </a:r>
            <a:endParaRPr b="0" lang="en-US" sz="28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1. Estático: </a:t>
            </a:r>
            <a:r>
              <a:rPr b="0" lang="es-ES_tradnl" sz="2000" spc="-1" strike="noStrike">
                <a:solidFill>
                  <a:srgbClr val="000000"/>
                </a:solidFill>
                <a:latin typeface="Comic Sans MS"/>
              </a:rPr>
              <a:t>se asigna 100% al total de ventas y cada ítem de costo se expresa como % del valor de las ventas</a:t>
            </a:r>
            <a:endParaRPr b="0" lang="en-US" sz="20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2. Dinámico: </a:t>
            </a:r>
            <a:r>
              <a:rPr b="0" lang="es-ES_tradnl" sz="2000" spc="-1" strike="noStrike">
                <a:solidFill>
                  <a:srgbClr val="000000"/>
                </a:solidFill>
                <a:latin typeface="Comic Sans MS"/>
              </a:rPr>
              <a:t>Idem anterior y se comparan dos EºRº de distintos periodos. Analizar principales diferencias entre ellos, sus causas y plantear estrategias.</a:t>
            </a:r>
            <a:endParaRPr b="0" lang="en-US" sz="2000" spc="-1" strike="noStrike">
              <a:solidFill>
                <a:srgbClr val="000000"/>
              </a:solidFill>
              <a:latin typeface="Times New Roman"/>
            </a:endParaRPr>
          </a:p>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 (ver página 5):</a:t>
            </a:r>
            <a:endParaRPr b="0" lang="en-US" sz="28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Estático (año 5): en clase auxiliar...</a:t>
            </a:r>
            <a:endParaRPr b="0" lang="en-US" sz="17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Dinámico: Bajo crecimiento de las ventas entre ambos períodos (aunque es importante analizar P*Q), estructura de costos estable y sin preponderancia de los variables o de los fijos (imputables y no imputables) y el margen global neto casi se duplica llegando a un 6,4% de las ventas en el año 5 (para saber si su magnitud es alta, media o baja tendríamos que comparar con datos de su industria), lo que fue originado principalmente por los menores gastos financieros (recordar disminución de deuda).</a:t>
            </a:r>
            <a:endParaRPr b="0" lang="en-US" sz="1700" spc="-1" strike="noStrike">
              <a:solidFill>
                <a:srgbClr val="000000"/>
              </a:solidFill>
              <a:latin typeface="Times New Roman"/>
            </a:endParaRPr>
          </a:p>
          <a:p>
            <a:pPr marL="27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219320"/>
            <a:ext cx="7772400" cy="411480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determinar la rentabilidad del Capital Propio (y su origen)</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dimiento del Activo (ROA)</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Global = (BAIT + Atípicos) / ATN </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Técnico = BAIT / Afunc.N</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A Global:</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BAIT + Atípicos) / Vtas. Netas * Vtas. Netas / ATN</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Márgen de (Explotación + Atípicos) * Rotación del Activo</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ambién se puede detallar el ROA técnico o específico</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tabilidad del Capital Propio (ROE)</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BPT / CP</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 CP = Capital Propio </a:t>
            </a:r>
            <a:endParaRPr b="0" lang="en-US" sz="1800" spc="-1" strike="noStrike">
              <a:solidFill>
                <a:srgbClr val="000000"/>
              </a:solidFill>
              <a:latin typeface="Times New Roman"/>
            </a:endParaRPr>
          </a:p>
          <a:p>
            <a:pPr lvl="2" marL="10515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294920"/>
            <a:ext cx="7772400" cy="449604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E</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BPT / Ventas Netas  *  Ventas Netas / CP</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Márgen global neto * Rotación de los CP</a:t>
            </a:r>
            <a:endParaRPr b="0" lang="en-US" sz="2200" spc="-1" strike="noStrike">
              <a:solidFill>
                <a:srgbClr val="000000"/>
              </a:solidFill>
              <a:latin typeface="Times New Roman"/>
            </a:endParaRPr>
          </a:p>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alancamiento Financiero</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Efecto de la deuda:</a:t>
            </a:r>
            <a:endParaRPr b="0" lang="en-US" sz="22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la rotación: si aumenta E y no varía el total de activos entonces aumenta Ventas Netas / CP</a:t>
            </a:r>
            <a:endParaRPr b="0" lang="en-US" sz="20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el márgen: si aumenta E y no varía el total de activos entonces disminuye BPT / Ventas</a:t>
            </a:r>
            <a:endParaRPr b="0" lang="en-US" sz="20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ayor que i entonces ROE mayor que ROA (apalancamiento financiero positivo)</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enor que i entonces ROE es menor que ROA (apalancamiento financiero negativo)</a:t>
            </a:r>
            <a:endParaRPr b="0" lang="en-US" sz="2200" spc="-1" strike="noStrike">
              <a:solidFill>
                <a:srgbClr val="000000"/>
              </a:solidFill>
              <a:latin typeface="Times New Roman"/>
            </a:endParaRPr>
          </a:p>
          <a:p>
            <a:pPr lvl="4" marL="1851480" indent="0">
              <a:lnSpc>
                <a:spcPct val="10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371240"/>
            <a:ext cx="7772400" cy="472428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odelo ROE en función del ROA</a:t>
            </a:r>
            <a:endParaRPr b="0" lang="en-US" sz="2400" spc="-1" strike="noStrike">
              <a:solidFill>
                <a:srgbClr val="000000"/>
              </a:solidFill>
              <a:latin typeface="Times New Roman"/>
            </a:endParaRPr>
          </a:p>
          <a:p>
            <a:pPr lvl="2" marL="1005840" indent="-20088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ROA Global* FAFF</a:t>
            </a:r>
            <a:endParaRPr b="0" lang="en-US" sz="1800" spc="-1" strike="noStrike">
              <a:solidFill>
                <a:srgbClr val="000000"/>
              </a:solidFill>
              <a:latin typeface="Times New Roman"/>
            </a:endParaRPr>
          </a:p>
          <a:p>
            <a:pPr lvl="2" marL="1005840" indent="-200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FAFF = ATN / CP * BAT / (BAIT + Atípicos) * BPT / BAT</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lo tanto:  </a:t>
            </a:r>
            <a:endParaRPr b="0" lang="en-US" sz="24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ATN / CP * BAT / (BAIT + Atípicos) * BPT / BAT</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Endeudamiento * Incidencia Gastos Financieros * Impacto Fiscal</a:t>
            </a:r>
            <a:endParaRPr b="0" lang="en-US" sz="16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irámide de Ratios... (ver páginas ...)</a:t>
            </a:r>
            <a:endParaRPr b="0" lang="en-US" sz="2400" spc="-1" strike="noStrike">
              <a:solidFill>
                <a:srgbClr val="000000"/>
              </a:solidFill>
              <a:latin typeface="Times New Roman"/>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clusiones: </a:t>
            </a:r>
            <a:r>
              <a:rPr b="0" lang="es-ES_tradnl" sz="2000" spc="-1" strike="noStrike">
                <a:solidFill>
                  <a:srgbClr val="000000"/>
                </a:solidFill>
                <a:latin typeface="Comic Sans MS"/>
              </a:rPr>
              <a:t>Alza del ROA (debido a una leve mejora del margen de explotación), disminución del ROE pero el factor de apalancamiento financiero aún tiene un efecto amplificador. Se obtendría un efecto más positivo con más deuda. La seguridad patrimonial se ha pagado con un pequeño descenso de la rentabilidad del Capital Propio.</a:t>
            </a:r>
            <a:endParaRPr b="0" lang="en-US" sz="2000" spc="-1" strike="noStrike">
              <a:solidFill>
                <a:srgbClr val="000000"/>
              </a:solidFill>
              <a:latin typeface="Times New Roman"/>
            </a:endParaRPr>
          </a:p>
        </p:txBody>
      </p:sp>
      <p:sp>
        <p:nvSpPr>
          <p:cNvPr id="87" name="Rectangle 4"/>
          <p:cNvSpPr/>
          <p:nvPr/>
        </p:nvSpPr>
        <p:spPr>
          <a:xfrm>
            <a:off x="1731240" y="533520"/>
            <a:ext cx="616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9. Planificación Económico Financiera de Corto Plazo</a:t>
            </a:r>
            <a:endParaRPr b="0" lang="en-US" sz="3200" spc="-1" strike="noStrike">
              <a:solidFill>
                <a:srgbClr val="000000"/>
              </a:solidFill>
              <a:latin typeface="Times New Roman"/>
            </a:endParaRPr>
          </a:p>
        </p:txBody>
      </p:sp>
      <p:sp>
        <p:nvSpPr>
          <p:cNvPr id="89" name="PlaceHolder 2"/>
          <p:cNvSpPr>
            <a:spLocks noGrp="1"/>
          </p:cNvSpPr>
          <p:nvPr>
            <p:ph/>
          </p:nvPr>
        </p:nvSpPr>
        <p:spPr>
          <a:xfrm>
            <a:off x="685800" y="1371240"/>
            <a:ext cx="7772400" cy="518148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Objetivo: ¿de dónde obtener los recursos financieros necesarios para la operación del negocio en el próximo a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etodología de la Estrategia Financiera:</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1. Determinar necesidad financiera máxima acumulada del presupuesto de tesorería</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2. Determinar el ROAp = (BAITp + ATIPp) / ATNp</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3. Analizar apalancamiento: comparar Roa con i</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a:t>
            </a:r>
            <a:r>
              <a:rPr b="0" lang="es-ES_tradnl" sz="1800" spc="-1" strike="noStrike">
                <a:solidFill>
                  <a:srgbClr val="000000"/>
                </a:solidFill>
                <a:latin typeface="Comic Sans MS"/>
              </a:rPr>
              <a:t>Si ROAp es mayor que i pensar en exigible, en caso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ontrario pensar en capital propi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4. Determinar el E históric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5. Calcular el cash flow libre para ver servicios de deuda a nuevos préstam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FL= BPTp + deprec. + provis. - amort. créd. actuales - inv. previstas - pagos divid. ya comprometid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Planificación</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91" name="PlaceHolder 2"/>
          <p:cNvSpPr>
            <a:spLocks noGrp="1"/>
          </p:cNvSpPr>
          <p:nvPr>
            <p:ph/>
          </p:nvPr>
        </p:nvSpPr>
        <p:spPr>
          <a:xfrm>
            <a:off x="609480" y="1447920"/>
            <a:ext cx="7772400" cy="4495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Análisis de las alternativas de recursos: acciones, créditos a corto, medio y largo plazo, proveedores, leasing, leaseback, descuento de documentos, factoring, exigibles automáticos (NF permanente), exigible expreso (NF transitoria), enajenación y gestión de activ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Si con todos estos pasos no se encuentran los recursos necesarios hay que modificar objetivos y volver a planifica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7.  Recalcular indicadores con el nuevo endeudamiento: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BPT(t+1) = (BATp - nuevos GF) * (1-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Capital Propio (t+1) = CPp + BPT (t+1) + ampliaciones de capital - dividend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ROE (t+1) = BPT (t+1)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E = (Exigiblep + Nueva Deuda)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2. Ordenamiento del Balance de Gestión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qué orden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sas Patrimoniales (definición económica y financiera, característica y principio de ordenamiento)</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cuadro Arose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00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48" name="PlaceHolder 2"/>
          <p:cNvSpPr>
            <a:spLocks noGrp="1"/>
          </p:cNvSpPr>
          <p:nvPr>
            <p:ph/>
          </p:nvPr>
        </p:nvSpPr>
        <p:spPr>
          <a:xfrm>
            <a:off x="762120" y="1052640"/>
            <a:ext cx="7772400" cy="4114800"/>
          </a:xfrm>
          <a:prstGeom prst="rect">
            <a:avLst/>
          </a:prstGeom>
          <a:noFill/>
          <a:ln w="0">
            <a:noFill/>
          </a:ln>
        </p:spPr>
        <p:txBody>
          <a:bodyPr anchor="t">
            <a:normAutofit fontScale="76000"/>
          </a:bodyPr>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Análisis de la Solidez Patrimonial:</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quilibrio Financiero (la fuerza interna a la liquidez del activo debe equilibrarse con la fuerza interna a la exigibilidad del pasiv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deudamiento ((Exigible CP + LP) / Capital Propio)</a:t>
            </a:r>
            <a:endParaRPr b="0" lang="en-US" sz="2000" spc="-1" strike="noStrike">
              <a:solidFill>
                <a:srgbClr val="000000"/>
              </a:solidFill>
              <a:latin typeface="Times New Roman"/>
            </a:endParaRPr>
          </a:p>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Activo:</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C v/s AF (depende del gir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Funcionales v/s extrafuncionales v/s interino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o normal: todo funcional</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ás de un 10% en extrafuncionales hay que investigar</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terinos: hasta un 5% no es preocupante</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ateriales: más de un 30% de inmateriales hay que investigar</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solidación del AF (AF no líquido / AFB)</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Grado de Obsolescencia (Deprec. Acum. / AFB)</a:t>
            </a:r>
            <a:endParaRPr b="0" lang="en-US" sz="2000" spc="-1" strike="noStrike">
              <a:solidFill>
                <a:srgbClr val="000000"/>
              </a:solidFill>
              <a:latin typeface="Times New Roman"/>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755280" y="1413000"/>
            <a:ext cx="8064360" cy="5256000"/>
          </a:xfrm>
          <a:prstGeom prst="rect">
            <a:avLst/>
          </a:prstGeom>
          <a:noFill/>
          <a:ln w="0">
            <a:noFill/>
          </a:ln>
        </p:spPr>
        <p:txBody>
          <a:bodyPr anchor="t">
            <a:noAutofit/>
          </a:bodyPr>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Pasivo:</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Endeudamiento: exigible v/s capital propio </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propio: capital social pagado v/s reservas (autofinanciació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ajeno: “calidad de la deuda” </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rgo Plazo v/s Corto Plazo</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uál es el horizonte del LP?</a:t>
            </a:r>
            <a:endParaRPr b="0" lang="en-US" sz="2000" spc="-1" strike="noStrike">
              <a:solidFill>
                <a:srgbClr val="000000"/>
              </a:solidFill>
              <a:latin typeface="Times New Roman"/>
            </a:endParaRPr>
          </a:p>
          <a:p>
            <a:pPr lvl="3"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CP: proporción de Recursos cíclicos v/s expresos</a:t>
            </a:r>
            <a:endParaRPr b="0" lang="en-US" sz="20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91440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a:t>
            </a:r>
            <a:r>
              <a:rPr b="0" lang="es-ES_tradnl" sz="3200" spc="-1" strike="noStrike">
                <a:solidFill>
                  <a:srgbClr val="000000"/>
                </a:solidFill>
                <a:latin typeface="Comic Sans MS"/>
              </a:rPr>
              <a:t> </a:t>
            </a:r>
            <a:r>
              <a:rPr b="0" lang="es-ES_tradnl" sz="2000" spc="-1" strike="noStrike">
                <a:solidFill>
                  <a:srgbClr val="000000"/>
                </a:solidFill>
                <a:latin typeface="Comic Sans MS"/>
              </a:rPr>
              <a:t>proporción preponderante del activo circulante sobre el activo fijo, enorme volumen de clientes, colchón de stocks pequeño, grado de amortización del activo fijo algo elevado sin ser desventaja competitiva, grado de consolidación elevado, ¿interinos cuándo entrarán en funcionamiento?, alto grado de materialidad (poco volátil y garantía crediticia), activos principalmente funcionales, predominan capitales propios sobre ajenos, exigible concentrado en el corto plazo con preponderancia de cíclicos, bajísimo ratio de endeudamiento, equilibrio financiero conservador: el capital propio (lo menos exigible) financian la totalidad del AFN (lo menos liquido) y además un 38% del circulante (activos ya más líquidos: 100% stocks + un % de deudores funcional). Si profundizamos el análisis vemos que los capitales permanentes (capital propio + Exig. de largo plazo) financian un 54% del AC... más claro el equilibrio financiero conserv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miendo: Arosel presenta en el año 5 una elevada solidez patrimonial originada por un equilibrio financiero claramente (bastante) conservador y un endeudamiento muy 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4. Análisis Patrimonial Dinámico</a:t>
            </a:r>
            <a:endParaRPr b="0" lang="en-US" sz="4000" spc="-1" strike="noStrike">
              <a:solidFill>
                <a:srgbClr val="000000"/>
              </a:solidFill>
              <a:latin typeface="Times New Roman"/>
            </a:endParaRPr>
          </a:p>
        </p:txBody>
      </p:sp>
      <p:sp>
        <p:nvSpPr>
          <p:cNvPr id="56" name="PlaceHolder 2"/>
          <p:cNvSpPr>
            <a:spLocks noGrp="1"/>
          </p:cNvSpPr>
          <p:nvPr>
            <p:ph/>
          </p:nvPr>
        </p:nvSpPr>
        <p:spPr>
          <a:xfrm>
            <a:off x="762120" y="144792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conocer la evolución del patrimonio de la empresa en el tiempo</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PD es un instrumento de planificación</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guntas a responder:</a:t>
            </a:r>
            <a:endParaRPr b="0" lang="en-US" sz="24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que se ha invertido? (Uso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ómo se ha financiado esta inversión? (fuente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Ha sido armoniosa la evolución patrimonial?. Aquí hay que analizar 3 puntos:</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sos más consolidados piden recursos poco exigibles</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 tendencia ha sido hacia el endeudamiento o a la independencia financiera</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nalizar si se puede continuar con la estrategia utilizada</a:t>
            </a:r>
            <a:endParaRPr b="0" lang="en-US" sz="2000" spc="-1" strike="noStrike">
              <a:solidFill>
                <a:srgbClr val="000000"/>
              </a:solidFill>
              <a:latin typeface="Times New Roman"/>
            </a:endParaRPr>
          </a:p>
          <a:p>
            <a:pPr lvl="3" marL="14241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 </a:t>
            </a:r>
            <a:endParaRPr b="0" lang="en-US" sz="3200" spc="-1" strike="noStrike">
              <a:solidFill>
                <a:srgbClr val="000000"/>
              </a:solidFill>
              <a:latin typeface="Times New Roman"/>
            </a:endParaRPr>
          </a:p>
        </p:txBody>
      </p:sp>
      <p:sp>
        <p:nvSpPr>
          <p:cNvPr id="58" name="PlaceHolder 2"/>
          <p:cNvSpPr>
            <a:spLocks noGrp="1"/>
          </p:cNvSpPr>
          <p:nvPr>
            <p:ph/>
          </p:nvPr>
        </p:nvSpPr>
        <p:spPr>
          <a:xfrm>
            <a:off x="762120" y="838080"/>
            <a:ext cx="7772400" cy="419112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l proceso 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1. Cuadro de diferencias contabl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2. Esquema de fuentes y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3. Análisis de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4. Análisis de fuente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5. Analizar Armonía de la evolución patrimonial</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Retroalimentar estrategia  </a:t>
            </a:r>
            <a:endParaRPr b="0" lang="en-US" sz="1800" spc="-1" strike="noStrike">
              <a:solidFill>
                <a:srgbClr val="000000"/>
              </a:solidFill>
              <a:latin typeface="Times New Roman"/>
            </a:endParaRPr>
          </a:p>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clusion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1" lang="es-ES_tradnl" sz="1800" spc="-1" strike="noStrike">
                <a:solidFill>
                  <a:srgbClr val="000000"/>
                </a:solidFill>
                <a:latin typeface="Comic Sans MS"/>
              </a:rPr>
              <a:t>Inversiones</a:t>
            </a:r>
            <a:r>
              <a:rPr b="0" lang="es-ES_tradnl" sz="1800" spc="-1" strike="noStrike">
                <a:solidFill>
                  <a:srgbClr val="000000"/>
                </a:solidFill>
                <a:latin typeface="Comic Sans MS"/>
              </a:rPr>
              <a:t>: inversión en EC/P (objetivo disminuir nivel de endeudamiento de 2,29 a 0,81), no obstante ¿de qué se han desprendido: de una mayor proporción de cíclicos o de expresos?. Se observa un crecimiento del AFB de un 76% debido a inversiones en Act. Fijo Func. Mat. muy consolidados (terrenos, edificios e instalaciones industriales (modernización)). </a:t>
            </a:r>
            <a:endParaRPr b="0" lang="en-US" sz="1800" spc="-1" strike="noStrike">
              <a:solidFill>
                <a:srgbClr val="000000"/>
              </a:solidFill>
              <a:latin typeface="Times New Roman"/>
            </a:endParaRPr>
          </a:p>
          <a:p>
            <a:pPr lvl="2" marL="925560" indent="-18504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Financiamiento</a:t>
            </a:r>
            <a:r>
              <a:rPr b="0" lang="es-ES_tradnl" sz="1800" spc="-1" strike="noStrike">
                <a:solidFill>
                  <a:srgbClr val="000000"/>
                </a:solidFill>
                <a:latin typeface="Comic Sans MS"/>
              </a:rPr>
              <a:t>: el financiamiento de ambas inversiones ha sido básicamente con capitales propios 48% (del cual el 30,85% corresponde a reservas: “ha existido autofinanciación”), </a:t>
            </a:r>
            <a:r>
              <a:rPr b="0" lang="es-ES_tradnl" sz="1900" spc="-1" strike="noStrike">
                <a:solidFill>
                  <a:srgbClr val="000000"/>
                </a:solidFill>
                <a:latin typeface="Comic Sans MS"/>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6:53:25Z</dcterms:created>
  <dc:creator>Alejandro Jiménez Carvajal.</dc:creator>
  <dc:description/>
  <dc:language>en-US</dc:language>
  <cp:lastModifiedBy>alumno</cp:lastModifiedBy>
  <dcterms:modified xsi:type="dcterms:W3CDTF">2010-09-30T17:54:35Z</dcterms:modified>
  <cp:revision>73</cp:revision>
  <dc:subject/>
  <dc:title>Gestión Financiera I Caso Arosel</dc:title>
</cp:coreProperties>
</file>