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C8410-60FE-47E3-AF91-E752968C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172BA-B7DF-4CA5-96EB-74769FC5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DC11B-D5D9-454D-A1F9-66A93D3E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C730E-3E17-4BB2-93BB-2FC97630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E68AA-C306-44A8-BE43-31519589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44B6B-3853-455C-BB10-DA3D3EF8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BDB74-01D2-461E-98D3-4A04C4C9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FC413-081A-4013-A97B-416D561C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E242A-06B2-458C-8098-047895B7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F2110-5DC1-45E0-AA13-3B0092CA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0CE71-7963-45E2-9B49-6371394D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E93F2-5674-4CB0-950E-A49FB2CD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C549-5BD5-40AC-9275-8439AA2DB43D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esupuesto Ordinario (Current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r relacionados con la explotación (funcionales). Ej.:Movim. relacionados con ventas, compras,y  producción. El pasivo NO ya que su estructura no determina el nivel de explotación-oper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habituales, rutina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traordinario (Capital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pertenecer al ámbito de explot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inhabitu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4358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bro a Clientes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entas a Clientes:NADA, no es mov. de dine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a Proveedores de M.P.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Proveedores Industriales: Ppto. Extraordinario (no se compran máquinas habitualmente, es una inversión en A.F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Publicidad: Si es habitual será Ppto Ordinario, si es ocasional será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un crédito:Pago Pasivo =&gt;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1028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1295280"/>
            <a:ext cx="8569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136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financiero del IV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63160" indent="-126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puede calcular a partir del Estado de Resulta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ueva norma de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empresa trabajaba con un saldo X de Caja y Bancos, y se decide para el futuro trabajar con Y =&gt; Nueva Norma de Liquidez = Y-X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gt; 0 =&gt; Aumenta Nec. Financiera Tot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lt; 0 =&gt; Disminuye Necesidad Fin. Tot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ECESIDAD FINANCIERA TOTAL = PRESUPUESTO ORDINARIO + PRESUPUESTO EXTRAORDINARIO + EFECTO FINANCIERO DEL IVA +    NUEVA NORMA DE LIQUIDEZ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e le llama Necesidad Financiera pero no necesariamente es negativo , puede ser excedente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 el último de los tres documentos previsionales que debería elaborar la Gerencia de Finanzas (los otros dos: Estado Previsional (o Proforma) de Resultados, y Presupuesto de Tesorerí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Fijo Previsional = A.F. actual + Plan de Inversiones - Enajenaciones de A.F. prev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Circulant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Stock de M.P., el Stock de P.C., el Stock de P.A. y Clientes salen de los cuadros de Movimientos Previsional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ponible sale del Presupuesto de Tesorería (Nueva Norma de Liquidez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ayoría de los ítems no se modifican respecto a lo actual, ya que las nuevas fuentes de financiamiento se analizarán en el tema de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: El act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: Idem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.P.= Exig LP actual - Vencimientos próximo añ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.P = Exig CP actual - Vencimientos + Pasos de LP a C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Nuevos créditos? NO, es parte de la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: Sale del Mov. Previsional del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videndos a pagar = 0 (la Estrategia Financiera determinará si se paga o n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ncos por descuentos = 0 (Idem anteri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 acumulada = La actual + La del Estado Previsional de Resultados - Enajenaciones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7720" y="304920"/>
            <a:ext cx="5308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2692440" y="1417680"/>
            <a:ext cx="382896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63480" y="1413000"/>
            <a:ext cx="81680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eneficio Previsto =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del Estado de Resultado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revisional Acumulad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987560" y="4197240"/>
            <a:ext cx="3111480" cy="1359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0360" y="455148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lm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505320" y="4281480"/>
            <a:ext cx="0" cy="12682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2065680" y="424656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: Act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13600" y="432288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PT: Pa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511240" y="4017960"/>
            <a:ext cx="2694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DEBE CUMPLI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 - PPT = 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 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(La del Presupues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: Ver cuadro “Análisis de Estados Previsionales Mensuales”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FASE FINANCIERO PROFUNDO = NECESIDAD FINANCIERA TOTAL + CASH-FLOW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= BPT + DEPRECIACION + PREVISIONE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500 ¿Motivos para brindar? NO, es lo lógico y normal. Si todos los pagos y cobros fueran al contado cash flow = Necesidad Financiera del Presupuesto de Tesorer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Presupuesto de Tesorería es el “afloramiento” del beneficio del cash flo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+ 300 (Excedente Financiero en este caso) =&gt; Desfase de 200, i.e., Hay 200 que no están aflorando en el  presupues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Si CF =500 y Necesidad Financiera = - 100 =&gt; Desfase Financiero = 600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que debemos cubrir con la Estrategia Financiera es la Necesidad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 que cuantificamos el desfase financier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or que nos sirve para identificar problemas en las proyecciones de gestión del circulante, políticas de cobros y pagos que pudieran estar entorpeciendo la tendencia a la liquidez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es desglosar las componentes de la Necesidad Financie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Financiero Ordinario = Necesidad/Excedente Presupuesto Ordinario + C.F. de Expl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 Explotación = BAIT (sin atípicos) + Depreciación de Funciona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2952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desfase en el Ordinario debemos analizar los plazos de cobros y pag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analizar con más detalle podemos usar el esquema de Origen y Aplicación comparando el Balance Previsional con el 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Extraordinar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24240" indent="-348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Extraordinario = Nec. Fin. Ppto. Extraordinario + Gastos Financieros + Atípic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rentesis: Equivalencias con otros estados financier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flujo de efec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quivalencia: Estado de flujo de efectivo = Presupuesto de Tesorería (O simplemente Tesorerí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única posible diferencia, es que se le suele denominar presupuesto a la predicción de flujo de efectivo para el siguiente año, mientras que el estado de flujo de efectivo es la contabilización de flujos ya generados en el último ejercic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ordenar y agrupar de distintas form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excluímos el efecto del IVA  de los flujos “ordinarios” o de operación, en Chile se presenta como parte del flujo operacio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incluímos dentro del flujo o presupuesto extraordinario los originados en actividades de financiamiento y los relacionados con inversiones, estos se suelen presentar por separad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3167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o Flujo de Caja: ¡Distinto al estado de flujo de efectivo!, ¿Porqué?. El cash flow se deriva del estado de Resultados como CF = Utilidad + Depreciación + Provisiones + Otros Gastos del Estado de Resultados que no generan salidas de caja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Utilidad (primer término de la ecuación) es la del Estado de Resultados, por lo tanto se calcula a partir de ingresos y gastos determinados con el principio del devengo, no necesariamente cobros y pagos que entran o salen de caja, estos últimos son los considerados en el estado de flujo de efectivo (Presupuesto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Cash Flow es el potencial de incremento de riqueza, el Presupuesto o estado de flujo es el incremento real de riqueza. La diferencia (desfase financiero) es el monto de recursos que no se reflejan aun en caja debido a las politicas de cobros y pagos de la empres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Desarrollo del esquema de planificación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Estructura del Presupuesto de Tesorerí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Balance Previsiona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Clases de necesidades financier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6.Estrategia Financiera: Recursos para atender 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lanificar: Determinar metas, objetivos y formas de alcanzarl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Comercial: Previsiones de ventas =&gt; Presupuesto de ventas, Condiciones de pago de clientes =&gt; Efectos en Estado de Resultados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Operaciones: Planes de producción y de Compras de Materias Primas y formas de pago =&gt; Efectos en Balance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Finanzas:Debe generar el Estado de Resultados Previsional (proforma), el Balance Proforma y el Presupuesto de Tesorería Proform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La diferencia entre el Estado de Resultados y el Presupuesto de Tesorería está dado por la diferencia entre ventas y cobros y entre compras y pag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1700280" y="356076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st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sulta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1812960" y="4022640"/>
            <a:ext cx="18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4323960" y="3803760"/>
            <a:ext cx="705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=&gt;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033"/>
          <p:cNvSpPr/>
          <p:nvPr/>
        </p:nvSpPr>
        <p:spPr>
          <a:xfrm>
            <a:off x="1576440" y="5013360"/>
            <a:ext cx="187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034"/>
          <p:cNvSpPr/>
          <p:nvPr/>
        </p:nvSpPr>
        <p:spPr>
          <a:xfrm>
            <a:off x="1401840" y="5084640"/>
            <a:ext cx="210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supue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035"/>
          <p:cNvSpPr/>
          <p:nvPr/>
        </p:nvSpPr>
        <p:spPr>
          <a:xfrm>
            <a:off x="3736800" y="5241960"/>
            <a:ext cx="395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036"/>
          <p:cNvSpPr/>
          <p:nvPr/>
        </p:nvSpPr>
        <p:spPr>
          <a:xfrm>
            <a:off x="5264280" y="3511440"/>
            <a:ext cx="227304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037"/>
          <p:cNvSpPr/>
          <p:nvPr/>
        </p:nvSpPr>
        <p:spPr>
          <a:xfrm>
            <a:off x="5558040" y="348444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ov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038"/>
          <p:cNvSpPr/>
          <p:nvPr/>
        </p:nvSpPr>
        <p:spPr>
          <a:xfrm flipH="1">
            <a:off x="3722760" y="4815000"/>
            <a:ext cx="1319040" cy="5061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039"/>
          <p:cNvSpPr/>
          <p:nvPr/>
        </p:nvSpPr>
        <p:spPr>
          <a:xfrm>
            <a:off x="5264280" y="5035680"/>
            <a:ext cx="2273040" cy="9014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1040"/>
          <p:cNvSpPr/>
          <p:nvPr/>
        </p:nvSpPr>
        <p:spPr>
          <a:xfrm>
            <a:off x="5494680" y="5084640"/>
            <a:ext cx="135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1041"/>
          <p:cNvSpPr/>
          <p:nvPr/>
        </p:nvSpPr>
        <p:spPr>
          <a:xfrm>
            <a:off x="6400800" y="4738680"/>
            <a:ext cx="0" cy="20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42"/>
          <p:cNvSpPr/>
          <p:nvPr/>
        </p:nvSpPr>
        <p:spPr>
          <a:xfrm>
            <a:off x="160560" y="3789360"/>
            <a:ext cx="105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er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43"/>
          <p:cNvSpPr/>
          <p:nvPr/>
        </p:nvSpPr>
        <p:spPr>
          <a:xfrm>
            <a:off x="7612200" y="3408480"/>
            <a:ext cx="1388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44"/>
          <p:cNvSpPr/>
          <p:nvPr/>
        </p:nvSpPr>
        <p:spPr>
          <a:xfrm>
            <a:off x="3747960" y="5791320"/>
            <a:ext cx="13446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45"/>
          <p:cNvSpPr/>
          <p:nvPr/>
        </p:nvSpPr>
        <p:spPr>
          <a:xfrm>
            <a:off x="3769560" y="5770440"/>
            <a:ext cx="130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Previsional de Resultados: Se hace considerando el nivel de deuda y gastos financieros actuales =&gt; Necesidad Financiera a cubrir. En ese momento se determinan los nuevos niveles de deuda requeridos  y los gastos financieros previsionales para el Estado Previsional de Resultados defini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300600" indent="-300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Ordinario (corriente o circula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Extraordinario ( de Capital o fij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nanciero del IVA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de cambios en las políticas (normas) de liquidez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Existen criterios distintos para ordenar el presupues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0-09-26T21:52:09Z</dcterms:modified>
  <cp:revision>374</cp:revision>
  <dc:subject/>
  <dc:title>Análisis Financiero</dc:title>
</cp:coreProperties>
</file>