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28B09-F2EC-4F76-B712-205317EB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614BF-32D6-4AEC-80CC-7178B817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CDB18-595C-43D1-AEF3-A6CBE455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B92DF-8D11-42BE-B93A-F14BD171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BAF6E-583B-4275-A53F-F09787F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E826E-D0CB-422A-8C3C-0C1DCEFE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B6D24-A5B3-4631-BB44-4FA58B1C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11D87-960C-4EE1-8407-A2C84923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2A21B-7512-48ED-926A-5440A28B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D4584-6C6B-4820-A1F8-DE967FA9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F077E-84AF-4B90-A15C-2613EDAF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AFE20-7AD2-488E-9309-F24C93B0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3C95-5407-47FB-A766-650D7158D835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esupuesto Ordinario (Current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ar relacionados con la explotación (funcionales). Ej.:Movim. relacionados con ventas, compras,y  producción. El pasivo NO ya que su estructura no determina el nivel de explotación-oper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habituales, rutina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Estructura del Presupuesto de Tesorería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traordinario (Capital Budget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vimientos de cobro y pago que cumpl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pertenecer al ámbito de explotación de la Eª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r inhabitu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4358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24876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80960" indent="-2311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bro a Clientes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entas a Clientes:NADA, no es mov. de diner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a Proveedores de M.P.: Ppto.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Proveedores Industriales: Ppto. Extraordinario (no se compran máquinas habitualmente, es una inversión en A.F.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Publicidad: Si es habitual será Ppto Ordinario, si es ocasional será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91560" indent="-2091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go de un crédito:Pago Pasivo =&gt; extra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1028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1295280"/>
            <a:ext cx="85690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9000"/>
          </a:bodyPr>
          <a:p>
            <a:pPr marL="136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financiero del IV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63160" indent="-126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puede calcular a partir del Estado de Resulta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36080" indent="-136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ueva norma de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empresa trabajaba con un saldo X de Caja y Bancos, y se decide para el futuro trabajar con Y =&gt; Nueva Norma de Liquidez = Y-X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gt; 0 =&gt; Aumenta Nec. Financiera Tot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378360" indent="-114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Y-X &lt; 0 =&gt; Disminuye Necesidad Fin. Tot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ECESIDAD FINANCIERA TOTAL = PRESUPUESTO ORDINARIO + PRESUPUESTO EXTRAORDINARIO + EFECTO FINANCIERO DEL IVA +    NUEVA NORMA DE LIQUIDEZ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e le llama Necesidad Financiera pero no necesariamente es negativo , puede ser excedente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 el último de los tres documentos previsionales que debería elaborar la Gerencia de Finanzas (los otros dos: Estado Previsional (o Proforma) de Resultados, y Presupuesto de Tesorerí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Fijo Previsional = A.F. actual + Plan de Inversiones - Enajenaciones de A.F. prev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Stock de M.P., el Stock de P.C., el Stock de P.A. y Clientes salen de los cuadros de Movimientos Previsional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13560" indent="-3675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sponible sale del Presupuesto de Tesorería (Nueva Norma de Liquidez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Balance Prevision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ayoría de los ítems no se modifican respecto a lo actual, ya que las nuevas fuentes de financiamiento se analizarán en el tema de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: El act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: Idem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.P.= Exig LP actual - Vencimientos próximo añ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.P = Exig CP actual - Vencimientos + Pasos de LP a C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Nuevos créditos? NO, es parte de la Estrategia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: Sale del Mov. Previsional del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videndos a pagar = 0 (la Estrategia Financiera determinará si se paga o n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ncos por descuentos = 0 (Idem anteri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 acumulada = La actual + La del Estado Previsional de Resultados - Enajenaciones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53085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2692440" y="1417680"/>
            <a:ext cx="382896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63480" y="1413000"/>
            <a:ext cx="81680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3. Balance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Verdana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4d4d4d"/>
                </a:solidFill>
                <a:latin typeface="Verdana"/>
              </a:rPr>
              <a:t>Pasivo Previsional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eneficio Previsto =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del Estado de Resultado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revisional Acumulad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987560" y="4197240"/>
            <a:ext cx="3111480" cy="13590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360" y="455148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lm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505320" y="4281480"/>
            <a:ext cx="0" cy="12682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065680" y="424656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: Act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13600" y="4322880"/>
            <a:ext cx="1356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PT: Pas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511240" y="4017960"/>
            <a:ext cx="269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E DEBE CUMPL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T - PPT = 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 TOT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(La del Presupues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: Ver cuadro “Análisis de Estados Previsionales Mensuales”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FASE FINANCIERO PROFUNDO = NECESIDAD FINANCIERA TOTAL + CASH-FLOW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91680" indent="-3913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= BPT + DEPRECIACION + PREVISIONE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tificación del problem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500 ¿Motivos para brindar? NO, es lo lógico y normal. Si todos los pagos y cobros fueran al contado cash flow = Necesidad Financiera del Presupuesto de Tesorerí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Presupuesto de Tesorería es el “afloramiento” del beneficio del cash flo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Si cash flow = 500 y Necesidad Financiera = + 300 (Excedente Financiero en este caso) =&gt; Desfase de 200, i.e., Hay 200 que no están aflorando en el  presupues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Si CF =500 y Necesidad Financiera = - 100 =&gt; Desfase Financiero = 600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que debemos cubrir con la Estrategia Financiera es la Necesidad Financie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 que cuantificamos el desfase financier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or que nos sirve para identificar problemas en las proyecciones de gestión del circulante, políticas de cobros y pagos que pudieran estar entorpeciendo la tendencia a la liquidez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es desglosar las componentes de la Necesidad Financier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Ordin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Financiero Ordinario = Necesidad/Excedente Presupuesto Ordinario + C.F. de Expl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558080" indent="-3560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F Explotación = BAIT (sin atípicos) + Depreciación de Funcional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2952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ocimiento del origen de la Necesidad Financier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desfase en el Ordinario debemos analizar los plazos de cobros y pag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analizar con más detalle podemos usar el esquema de Origen y Aplicación comparando el Balance Previsional con el 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74320" indent="-355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nálisis del Presupuesto Extraordinar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524240" indent="-348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esfase Extraordinario = Nec. Fin. Ppto. Extraordinario + Gastos Financieros + Atípic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rentesis: Equivalencias con otros estados financier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de flujo de efec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quivalencia: Estado de flujo de efectivo = Presupuesto de Tesorería (O simplemente Tesorerí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única posible diferencia, es que se le suele denominar presupuesto a la predicción de flujo de efectivo para el siguiente año, mientras que el estado de flujo de efectivo es la contabilización de flujos ya generados en el último ejercic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puede ordenar y agrupar de distintas form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excluímos el efecto del IVA  de los flujos “ordinarios” o de operación, en Chile se presenta como parte del flujo operacional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 el curso incluímos dentro del flujo o presupuesto extraordinario los originados en actividades de financiamiento y los relacionados con inversiones, estos se suelen presentar por separad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316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sh Flow o Flujo de Caja: ¡Distinto al estado de flujo de efectivo!, ¿Porqué?. El cash flow se deriva del estado de Resultados como CF = Utilidad + Depreciación + Provisiones + Otros Gastos del Estado de Resultados que no generan salidas de caja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Utilidad (primer término de la ecuación) es la del Estado de Resultados, por lo tanto se calcula a partir de ingresos y gastos determinados con el principio del devengo, no necesariamente cobros y pagos que entran o salen de caja, estos últimos son los considerados en el estado de flujo de efectivo (Presupuesto)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Cash Flow es el potencial de incremento de riqueza, el Presupuesto o estado de flujo es el incremento real de riqueza. La diferencia (desfase financiero) es el monto de recursos que no se reflejan aun en caja debido a las politicas de cobros y pagos de la empres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1.Desarrollo del esquema de planificación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Estructura del Presupuesto de Tesorerí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3.Balance Previsional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4.Cuantía y origen d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5.Clases de necesidades financier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6.Estrategia Financiera: Recursos para atender el problema financier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lanificar: Determinar metas, objetivos y formas de alcanzarl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Comercial: Previsiones de ventas =&gt; Presupuesto de ventas, Condiciones de pago de clientes =&gt; Efectos en Estado de Resultados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Operaciones: Planes de producción y de Compras de Materias Primas y formas de pago =&gt; Efectos en Balance Previsional y en Presupuesto de Tesorerí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rente de Finanzas:Debe generar el Estado de Resultados Previsional (proforma), el Balance Proforma y el Presupuesto de Tesorería Proform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La diferencia entre el Estado de Resultados y el Presupuesto de Tesorería está dado por la diferencia entre ventas y cobros y entre compras y pag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1700280" y="356076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1812960" y="4022640"/>
            <a:ext cx="18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4323960" y="3803760"/>
            <a:ext cx="705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=&gt;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1576440" y="5013360"/>
            <a:ext cx="187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4"/>
          <p:cNvSpPr/>
          <p:nvPr/>
        </p:nvSpPr>
        <p:spPr>
          <a:xfrm>
            <a:off x="1401840" y="5084640"/>
            <a:ext cx="210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supue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Tesorerí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3736800" y="5241960"/>
            <a:ext cx="395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6"/>
          <p:cNvSpPr/>
          <p:nvPr/>
        </p:nvSpPr>
        <p:spPr>
          <a:xfrm>
            <a:off x="5264280" y="3511440"/>
            <a:ext cx="227304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1037"/>
          <p:cNvSpPr/>
          <p:nvPr/>
        </p:nvSpPr>
        <p:spPr>
          <a:xfrm>
            <a:off x="5558040" y="3484440"/>
            <a:ext cx="168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ov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038"/>
          <p:cNvSpPr/>
          <p:nvPr/>
        </p:nvSpPr>
        <p:spPr>
          <a:xfrm flipH="1">
            <a:off x="3722760" y="4815000"/>
            <a:ext cx="1319040" cy="5061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039"/>
          <p:cNvSpPr/>
          <p:nvPr/>
        </p:nvSpPr>
        <p:spPr>
          <a:xfrm>
            <a:off x="5264280" y="5035680"/>
            <a:ext cx="2273040" cy="9014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1040"/>
          <p:cNvSpPr/>
          <p:nvPr/>
        </p:nvSpPr>
        <p:spPr>
          <a:xfrm>
            <a:off x="5494680" y="5084640"/>
            <a:ext cx="135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evis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1041"/>
          <p:cNvSpPr/>
          <p:nvPr/>
        </p:nvSpPr>
        <p:spPr>
          <a:xfrm>
            <a:off x="6400800" y="4738680"/>
            <a:ext cx="0" cy="201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42"/>
          <p:cNvSpPr/>
          <p:nvPr/>
        </p:nvSpPr>
        <p:spPr>
          <a:xfrm>
            <a:off x="160560" y="3789360"/>
            <a:ext cx="105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er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43"/>
          <p:cNvSpPr/>
          <p:nvPr/>
        </p:nvSpPr>
        <p:spPr>
          <a:xfrm>
            <a:off x="7612200" y="3408480"/>
            <a:ext cx="1388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ter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44"/>
          <p:cNvSpPr/>
          <p:nvPr/>
        </p:nvSpPr>
        <p:spPr>
          <a:xfrm>
            <a:off x="3747960" y="5791320"/>
            <a:ext cx="13446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45"/>
          <p:cNvSpPr/>
          <p:nvPr/>
        </p:nvSpPr>
        <p:spPr>
          <a:xfrm>
            <a:off x="3769560" y="5770440"/>
            <a:ext cx="130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cesidad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Desarrollo del esquema de planific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do Previsional de Resultados: Se hace considerando el nivel de deuda y gastos financieros actuales =&gt; Necesidad Financiera a cubrir. En ese momento se determinan los nuevos niveles de deuda requeridos  y los gastos financieros previsionales para el Estado Previsional de Resultados definitiv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300600" indent="-300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tructura del Presupuesto de Tesorer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Ordinario (corriente o circula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supuesto Financiero Extraordinario ( de Capital o fij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nanciero del IVA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de cambios en las políticas (normas) de liquidez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81040" indent="-279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A: Existen criterios distintos para ordenar el presupues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209680" y="-360"/>
            <a:ext cx="47246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PLANIFICACION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FINANCIER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0-09-26T21:52:09Z</dcterms:modified>
  <cp:revision>374</cp:revision>
  <dc:subject/>
  <dc:title>Análisis Financiero</dc:title>
</cp:coreProperties>
</file>