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BE0F6-C3AE-4299-975D-B60C7E8A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E016B-AF49-4C5F-97B6-2257637E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B62F0-6D0E-4683-8A0F-3D0EC5DB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7EFCC-CE43-420E-9836-E438AE36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539A0-477A-4825-B478-50D74EAC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C0228-0EF5-45A0-B04D-7537A609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25B4A-11B1-4DE6-A78E-FB15004A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52A9C-B018-42E0-8072-AA4364E8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78A38-3EBB-42E6-A634-B3C7C5A4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17F20-89B3-480A-814E-8626F81A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FE560-C5C5-4C0E-A1D4-F84527EA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E7240-B3A6-45FD-97D7-C5927232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2909-619E-49DE-B45E-600CE88C0954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corporateinformation.com/" TargetMode="External"/><Relationship Id="rId2" Type="http://schemas.openxmlformats.org/officeDocument/2006/relationships/hyperlink" Target="http://www.riskamerica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 (Patrimoni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E = BPT / FP = BPT/ Vtas * Vtas/ FP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rgen global neto = BPT / Vtas. Ne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Patrimonio= Vtas / F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Rectangle 1028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4000" indent="-324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24000" indent="-324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rotación de FP depende del grado de aversión al riesg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Incremento de FP =&gt; Menor rentabilidad (RO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aumentamos “E” (deuda) =&gt; Aumenta rotación de FP pero cae el BPT. Por lo tanto el resultado no es cla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0000"/>
          </a:bodyPr>
          <a:p>
            <a:pPr marL="1879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87920" indent="-187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ausencia de endeudamiento y de impuest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IT = BPT =&gt; ROA =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.: BAIT=BPT=20 y FP=Act.Total Neto = 10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Hay otro supuesto: No existe Resultado no Opera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187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Act Total Neto = 100, FP = 50 y Deuda = 5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és 10%/año=&gt; Gts. Financ.= 5 =&gt; BPT=1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 = 20% y ROE = 15/50 =30 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viene endeudarse (en este caso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7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Hasta donde 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pongamos ahora Interés de 25% an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= 20%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E = (20-12,5)/50 =15% .....¡Disminuye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conviene si i &gt; ROA &lt;=&gt; ROA &gt;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104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 Lo que determina que el apalancamiento sea positivo es el tipo de interés (i). Recordem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ando i &gt; ROA, el “efecto gasto financiero” sobre el margen anula el efecto rotación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149480" y="2901960"/>
            <a:ext cx="4940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301840" y="3186000"/>
            <a:ext cx="256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gt; i =&gt; ROE &gt; RO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03760" y="31100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149480" y="4425840"/>
            <a:ext cx="4940280" cy="978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482560" y="47862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lt; i =&gt; ROA &gt; RO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6656040" y="44816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1752480" y="6326280"/>
            <a:ext cx="710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6905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(Descomposición de Rentabilidad de F.P.)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delo ROE = f(RO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PT/FP = (BAIT + Atípicos)/ Act.T.N. * FAF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onde FAFF: Factor de apalancamiento Financiero-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1028"/>
          <p:cNvSpPr/>
          <p:nvPr/>
        </p:nvSpPr>
        <p:spPr>
          <a:xfrm>
            <a:off x="2057400" y="5396040"/>
            <a:ext cx="48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 =------------------ * --------------- * ---------------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Rectangle 1029"/>
          <p:cNvSpPr/>
          <p:nvPr/>
        </p:nvSpPr>
        <p:spPr>
          <a:xfrm>
            <a:off x="2687400" y="5091120"/>
            <a:ext cx="407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Tot. Neto         BAT                  BP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1030"/>
          <p:cNvSpPr/>
          <p:nvPr/>
        </p:nvSpPr>
        <p:spPr>
          <a:xfrm>
            <a:off x="2867040" y="5700600"/>
            <a:ext cx="401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s P.         BAIT + Atíp.          BA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1031"/>
          <p:cNvSpPr/>
          <p:nvPr/>
        </p:nvSpPr>
        <p:spPr>
          <a:xfrm>
            <a:off x="920880" y="5035680"/>
            <a:ext cx="7073640" cy="13586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composición del FAF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F = FAF * Efecto 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FAF = (Act. T. N.)/ FP * BAT / (BAIT+Atíp.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: Factor de apalancamient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 = Endeudamiento *Efecto Gts.Financier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rdar E`= Activo/FP = 1 + 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fecto Gastos Fin. = BAT / (BAIT + Atípic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scal = BPT / BAT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67" name="Group 1039"/>
          <p:cNvGrpSpPr/>
          <p:nvPr/>
        </p:nvGrpSpPr>
        <p:grpSpPr>
          <a:xfrm>
            <a:off x="235080" y="3435480"/>
            <a:ext cx="8445240" cy="2133000"/>
            <a:chOff x="235080" y="3435480"/>
            <a:chExt cx="8445240" cy="2133000"/>
          </a:xfrm>
        </p:grpSpPr>
        <p:sp>
          <p:nvSpPr>
            <p:cNvPr id="168" name="Rectangle 1028"/>
            <p:cNvSpPr/>
            <p:nvPr/>
          </p:nvSpPr>
          <p:spPr>
            <a:xfrm>
              <a:off x="1319040" y="3643200"/>
              <a:ext cx="6204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OE = ROA * ENDEUDAMIENTO * IMPACTO   * IMPA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                                                          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INANCIERO      FISC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1029"/>
            <p:cNvSpPr/>
            <p:nvPr/>
          </p:nvSpPr>
          <p:spPr>
            <a:xfrm>
              <a:off x="235080" y="3435480"/>
              <a:ext cx="8445240" cy="12063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Line 1030"/>
            <p:cNvSpPr/>
            <p:nvPr/>
          </p:nvSpPr>
          <p:spPr>
            <a:xfrm>
              <a:off x="2895480" y="4502160"/>
              <a:ext cx="0" cy="5205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Line 1031"/>
            <p:cNvSpPr/>
            <p:nvPr/>
          </p:nvSpPr>
          <p:spPr>
            <a:xfrm>
              <a:off x="2901960" y="5029200"/>
              <a:ext cx="37209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Line 1032"/>
            <p:cNvSpPr/>
            <p:nvPr/>
          </p:nvSpPr>
          <p:spPr>
            <a:xfrm flipV="1">
              <a:off x="6629400" y="4489200"/>
              <a:ext cx="0" cy="546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1033"/>
            <p:cNvSpPr/>
            <p:nvPr/>
          </p:nvSpPr>
          <p:spPr>
            <a:xfrm>
              <a:off x="3908880" y="5091120"/>
              <a:ext cx="56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F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Line 1034"/>
            <p:cNvSpPr/>
            <p:nvPr/>
          </p:nvSpPr>
          <p:spPr>
            <a:xfrm>
              <a:off x="2286000" y="4349880"/>
              <a:ext cx="0" cy="12063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Line 1035"/>
            <p:cNvSpPr/>
            <p:nvPr/>
          </p:nvSpPr>
          <p:spPr>
            <a:xfrm>
              <a:off x="2292480" y="5562720"/>
              <a:ext cx="5854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Line 1036"/>
            <p:cNvSpPr/>
            <p:nvPr/>
          </p:nvSpPr>
          <p:spPr>
            <a:xfrm flipV="1">
              <a:off x="8153280" y="4565160"/>
              <a:ext cx="0" cy="10033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77" name="Rectangle 1037"/>
          <p:cNvSpPr/>
          <p:nvPr/>
        </p:nvSpPr>
        <p:spPr>
          <a:xfrm>
            <a:off x="4534560" y="5700600"/>
            <a:ext cx="68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1038"/>
          <p:cNvSpPr/>
          <p:nvPr/>
        </p:nvSpPr>
        <p:spPr>
          <a:xfrm>
            <a:off x="918720" y="6005520"/>
            <a:ext cx="73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La Empresa sólo puede influir en el FAF, el FAFF es exógen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9560" y="304920"/>
            <a:ext cx="5384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295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gulación del FAF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ón de los ejecutivos de operaciones, marketing, finazas, et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Políticas de crédito a clientes, innovaciones tecnológic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` y Gastos Financier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ructura de pas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cisiones de propietarios y aversión al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po de interé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26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5562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27"/>
          <p:cNvSpPr/>
          <p:nvPr/>
        </p:nvSpPr>
        <p:spPr>
          <a:xfrm>
            <a:off x="1990800" y="228600"/>
            <a:ext cx="516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CASO BESTPHARMA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8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</a:rPr>
              <a:t>Aná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4d4d4d"/>
                </a:solidFill>
                <a:latin typeface="Verdana"/>
              </a:rPr>
              <a:t>Estát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332080" y="5232240"/>
            <a:ext cx="44910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5560" y="1219320"/>
            <a:ext cx="9057960" cy="1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5560" y="1593720"/>
            <a:ext cx="9057960" cy="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5560" y="4032360"/>
            <a:ext cx="9057960" cy="1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5560" y="4406760"/>
            <a:ext cx="9057960" cy="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5560" y="5905440"/>
            <a:ext cx="9057960" cy="15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91" name="Group 9" descr=""/>
          <p:cNvPicPr/>
          <p:nvPr/>
        </p:nvPicPr>
        <p:blipFill>
          <a:blip r:embed="rId1"/>
          <a:stretch/>
        </p:blipFill>
        <p:spPr>
          <a:xfrm>
            <a:off x="-12600" y="1195560"/>
            <a:ext cx="916308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2360" y="304920"/>
            <a:ext cx="6299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4d4d4d"/>
                </a:solidFill>
                <a:latin typeface="Verdana"/>
              </a:rPr>
              <a:t>Análisis Económico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93" name="Group 4" descr=""/>
          <p:cNvPicPr/>
          <p:nvPr/>
        </p:nvPicPr>
        <p:blipFill>
          <a:blip r:embed="rId1"/>
          <a:stretch/>
        </p:blipFill>
        <p:spPr>
          <a:xfrm>
            <a:off x="523800" y="1847880"/>
            <a:ext cx="8334360" cy="4784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0"/>
          <p:cNvSpPr/>
          <p:nvPr/>
        </p:nvSpPr>
        <p:spPr>
          <a:xfrm>
            <a:off x="5149440" y="2349360"/>
            <a:ext cx="26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31680" y="1828800"/>
            <a:ext cx="1540080" cy="205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1680" y="2349360"/>
            <a:ext cx="1582920" cy="2088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131840" y="2376360"/>
            <a:ext cx="7707240" cy="2088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14400" y="3935520"/>
            <a:ext cx="8824680" cy="205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-732600" y="1841400"/>
            <a:ext cx="9648000" cy="4254480"/>
            <a:chOff x="-732600" y="1841400"/>
            <a:chExt cx="9648000" cy="4254480"/>
          </a:xfrm>
        </p:grpSpPr>
        <p:sp>
          <p:nvSpPr>
            <p:cNvPr id="201" name="AutoShape 3"/>
            <p:cNvSpPr/>
            <p:nvPr/>
          </p:nvSpPr>
          <p:spPr>
            <a:xfrm>
              <a:off x="0" y="1841400"/>
              <a:ext cx="8915400" cy="42544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5"/>
            <p:cNvSpPr/>
            <p:nvPr/>
          </p:nvSpPr>
          <p:spPr>
            <a:xfrm>
              <a:off x="50760" y="1871640"/>
              <a:ext cx="1609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-297720" y="1887480"/>
              <a:ext cx="232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ANALISIS ECONOMICO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50760" y="2389320"/>
              <a:ext cx="164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8"/>
            <p:cNvSpPr/>
            <p:nvPr/>
          </p:nvSpPr>
          <p:spPr>
            <a:xfrm>
              <a:off x="-302760" y="2405160"/>
              <a:ext cx="238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Global (ROA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"/>
            <p:cNvSpPr/>
            <p:nvPr/>
          </p:nvSpPr>
          <p:spPr>
            <a:xfrm>
              <a:off x="1193760" y="2647800"/>
              <a:ext cx="6913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1240920" y="2664000"/>
              <a:ext cx="731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(BAIT+Atípics)/(Avtivo total bruto)=                             Margen                      +    Rotación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7216920" y="266400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>
              <a:off x="7419960" y="266400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5"/>
            <p:cNvSpPr/>
            <p:nvPr/>
          </p:nvSpPr>
          <p:spPr>
            <a:xfrm>
              <a:off x="50760" y="2908440"/>
              <a:ext cx="5875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6"/>
            <p:cNvSpPr/>
            <p:nvPr/>
          </p:nvSpPr>
          <p:spPr>
            <a:xfrm>
              <a:off x="82440" y="292248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7"/>
            <p:cNvSpPr/>
            <p:nvPr/>
          </p:nvSpPr>
          <p:spPr>
            <a:xfrm>
              <a:off x="2327400" y="2908440"/>
              <a:ext cx="40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8"/>
            <p:cNvSpPr/>
            <p:nvPr/>
          </p:nvSpPr>
          <p:spPr>
            <a:xfrm>
              <a:off x="2292480" y="292248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2,6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9"/>
            <p:cNvSpPr/>
            <p:nvPr/>
          </p:nvSpPr>
          <p:spPr>
            <a:xfrm>
              <a:off x="6164280" y="2908440"/>
              <a:ext cx="404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20"/>
            <p:cNvSpPr/>
            <p:nvPr/>
          </p:nvSpPr>
          <p:spPr>
            <a:xfrm>
              <a:off x="6127920" y="292248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3,4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21"/>
            <p:cNvSpPr/>
            <p:nvPr/>
          </p:nvSpPr>
          <p:spPr>
            <a:xfrm>
              <a:off x="7875720" y="2908440"/>
              <a:ext cx="2826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22"/>
            <p:cNvSpPr/>
            <p:nvPr/>
          </p:nvSpPr>
          <p:spPr>
            <a:xfrm>
              <a:off x="7868160" y="29224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93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23"/>
            <p:cNvSpPr/>
            <p:nvPr/>
          </p:nvSpPr>
          <p:spPr>
            <a:xfrm>
              <a:off x="8158320" y="2908440"/>
              <a:ext cx="1411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24"/>
            <p:cNvSpPr/>
            <p:nvPr/>
          </p:nvSpPr>
          <p:spPr>
            <a:xfrm>
              <a:off x="8190720" y="29224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25"/>
            <p:cNvSpPr/>
            <p:nvPr/>
          </p:nvSpPr>
          <p:spPr>
            <a:xfrm>
              <a:off x="50760" y="3166920"/>
              <a:ext cx="5875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82440" y="318132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27"/>
            <p:cNvSpPr/>
            <p:nvPr/>
          </p:nvSpPr>
          <p:spPr>
            <a:xfrm>
              <a:off x="2266920" y="3166920"/>
              <a:ext cx="4669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28"/>
            <p:cNvSpPr/>
            <p:nvPr/>
          </p:nvSpPr>
          <p:spPr>
            <a:xfrm>
              <a:off x="2210760" y="31813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6,37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29"/>
            <p:cNvSpPr/>
            <p:nvPr/>
          </p:nvSpPr>
          <p:spPr>
            <a:xfrm>
              <a:off x="6164280" y="3166920"/>
              <a:ext cx="4046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30"/>
            <p:cNvSpPr/>
            <p:nvPr/>
          </p:nvSpPr>
          <p:spPr>
            <a:xfrm>
              <a:off x="6127920" y="318132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4,5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31"/>
            <p:cNvSpPr/>
            <p:nvPr/>
          </p:nvSpPr>
          <p:spPr>
            <a:xfrm>
              <a:off x="7875720" y="3166920"/>
              <a:ext cx="282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32"/>
            <p:cNvSpPr/>
            <p:nvPr/>
          </p:nvSpPr>
          <p:spPr>
            <a:xfrm>
              <a:off x="7868160" y="318132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66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33"/>
            <p:cNvSpPr/>
            <p:nvPr/>
          </p:nvSpPr>
          <p:spPr>
            <a:xfrm>
              <a:off x="8158320" y="3166920"/>
              <a:ext cx="141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34"/>
            <p:cNvSpPr/>
            <p:nvPr/>
          </p:nvSpPr>
          <p:spPr>
            <a:xfrm>
              <a:off x="8190720" y="31813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35"/>
            <p:cNvSpPr/>
            <p:nvPr/>
          </p:nvSpPr>
          <p:spPr>
            <a:xfrm>
              <a:off x="50760" y="3684600"/>
              <a:ext cx="328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36"/>
            <p:cNvSpPr/>
            <p:nvPr/>
          </p:nvSpPr>
          <p:spPr>
            <a:xfrm>
              <a:off x="-732600" y="3700440"/>
              <a:ext cx="485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Técnico o de Explotación (ROA específico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37"/>
            <p:cNvSpPr/>
            <p:nvPr/>
          </p:nvSpPr>
          <p:spPr>
            <a:xfrm>
              <a:off x="50760" y="3897360"/>
              <a:ext cx="3218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38"/>
            <p:cNvSpPr/>
            <p:nvPr/>
          </p:nvSpPr>
          <p:spPr>
            <a:xfrm>
              <a:off x="1193760" y="3943440"/>
              <a:ext cx="70866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39"/>
            <p:cNvSpPr/>
            <p:nvPr/>
          </p:nvSpPr>
          <p:spPr>
            <a:xfrm>
              <a:off x="1113120" y="3959280"/>
              <a:ext cx="59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BAIT/(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40"/>
            <p:cNvSpPr/>
            <p:nvPr/>
          </p:nvSpPr>
          <p:spPr>
            <a:xfrm>
              <a:off x="1584720" y="3959280"/>
              <a:ext cx="80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        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41"/>
            <p:cNvSpPr/>
            <p:nvPr/>
          </p:nvSpPr>
          <p:spPr>
            <a:xfrm>
              <a:off x="1967400" y="3959280"/>
              <a:ext cx="19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Funcional Bruto) N./A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43"/>
            <p:cNvSpPr/>
            <p:nvPr/>
          </p:nvSpPr>
          <p:spPr>
            <a:xfrm>
              <a:off x="7935840" y="395928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44"/>
            <p:cNvSpPr/>
            <p:nvPr/>
          </p:nvSpPr>
          <p:spPr>
            <a:xfrm>
              <a:off x="50760" y="4202280"/>
              <a:ext cx="5875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45"/>
            <p:cNvSpPr/>
            <p:nvPr/>
          </p:nvSpPr>
          <p:spPr>
            <a:xfrm>
              <a:off x="82440" y="421812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46"/>
            <p:cNvSpPr/>
            <p:nvPr/>
          </p:nvSpPr>
          <p:spPr>
            <a:xfrm>
              <a:off x="2266920" y="4202280"/>
              <a:ext cx="466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47"/>
            <p:cNvSpPr/>
            <p:nvPr/>
          </p:nvSpPr>
          <p:spPr>
            <a:xfrm>
              <a:off x="2210760" y="42181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6,02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48"/>
            <p:cNvSpPr/>
            <p:nvPr/>
          </p:nvSpPr>
          <p:spPr>
            <a:xfrm>
              <a:off x="6103800" y="4202280"/>
              <a:ext cx="4651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49"/>
            <p:cNvSpPr/>
            <p:nvPr/>
          </p:nvSpPr>
          <p:spPr>
            <a:xfrm>
              <a:off x="6047640" y="42181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7,06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50"/>
            <p:cNvSpPr/>
            <p:nvPr/>
          </p:nvSpPr>
          <p:spPr>
            <a:xfrm>
              <a:off x="7875720" y="4202280"/>
              <a:ext cx="2826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51"/>
            <p:cNvSpPr/>
            <p:nvPr/>
          </p:nvSpPr>
          <p:spPr>
            <a:xfrm>
              <a:off x="7868160" y="421812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93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52"/>
            <p:cNvSpPr/>
            <p:nvPr/>
          </p:nvSpPr>
          <p:spPr>
            <a:xfrm>
              <a:off x="8158320" y="4202280"/>
              <a:ext cx="1411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53"/>
            <p:cNvSpPr/>
            <p:nvPr/>
          </p:nvSpPr>
          <p:spPr>
            <a:xfrm>
              <a:off x="8190720" y="42181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54"/>
            <p:cNvSpPr/>
            <p:nvPr/>
          </p:nvSpPr>
          <p:spPr>
            <a:xfrm>
              <a:off x="50760" y="4476600"/>
              <a:ext cx="5875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55"/>
            <p:cNvSpPr/>
            <p:nvPr/>
          </p:nvSpPr>
          <p:spPr>
            <a:xfrm>
              <a:off x="82440" y="447660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56"/>
            <p:cNvSpPr/>
            <p:nvPr/>
          </p:nvSpPr>
          <p:spPr>
            <a:xfrm>
              <a:off x="2327400" y="4476600"/>
              <a:ext cx="406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57"/>
            <p:cNvSpPr/>
            <p:nvPr/>
          </p:nvSpPr>
          <p:spPr>
            <a:xfrm>
              <a:off x="2292480" y="447660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7,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58"/>
            <p:cNvSpPr/>
            <p:nvPr/>
          </p:nvSpPr>
          <p:spPr>
            <a:xfrm>
              <a:off x="6103800" y="4476600"/>
              <a:ext cx="465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59"/>
            <p:cNvSpPr/>
            <p:nvPr/>
          </p:nvSpPr>
          <p:spPr>
            <a:xfrm>
              <a:off x="6047640" y="44766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6,01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60"/>
            <p:cNvSpPr/>
            <p:nvPr/>
          </p:nvSpPr>
          <p:spPr>
            <a:xfrm>
              <a:off x="7875720" y="4476600"/>
              <a:ext cx="282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61"/>
            <p:cNvSpPr/>
            <p:nvPr/>
          </p:nvSpPr>
          <p:spPr>
            <a:xfrm>
              <a:off x="7868160" y="447660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66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62"/>
            <p:cNvSpPr/>
            <p:nvPr/>
          </p:nvSpPr>
          <p:spPr>
            <a:xfrm>
              <a:off x="8158320" y="4476600"/>
              <a:ext cx="141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63"/>
            <p:cNvSpPr/>
            <p:nvPr/>
          </p:nvSpPr>
          <p:spPr>
            <a:xfrm>
              <a:off x="8190720" y="44766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64"/>
            <p:cNvSpPr/>
            <p:nvPr/>
          </p:nvSpPr>
          <p:spPr>
            <a:xfrm>
              <a:off x="50760" y="4978440"/>
              <a:ext cx="23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65"/>
            <p:cNvSpPr/>
            <p:nvPr/>
          </p:nvSpPr>
          <p:spPr>
            <a:xfrm>
              <a:off x="-475200" y="4994280"/>
              <a:ext cx="337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del Capital Propio (ROE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66"/>
            <p:cNvSpPr/>
            <p:nvPr/>
          </p:nvSpPr>
          <p:spPr>
            <a:xfrm>
              <a:off x="50760" y="5192640"/>
              <a:ext cx="223668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67"/>
            <p:cNvSpPr/>
            <p:nvPr/>
          </p:nvSpPr>
          <p:spPr>
            <a:xfrm>
              <a:off x="1204920" y="5253120"/>
              <a:ext cx="69944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68"/>
            <p:cNvSpPr/>
            <p:nvPr/>
          </p:nvSpPr>
          <p:spPr>
            <a:xfrm>
              <a:off x="1337400" y="5268960"/>
              <a:ext cx="642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BPT/(Capital Propio)                                =         BPT/(Ventas )      x     Ventas /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69"/>
            <p:cNvSpPr/>
            <p:nvPr/>
          </p:nvSpPr>
          <p:spPr>
            <a:xfrm>
              <a:off x="7629840" y="526896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Cap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70"/>
            <p:cNvSpPr/>
            <p:nvPr/>
          </p:nvSpPr>
          <p:spPr>
            <a:xfrm>
              <a:off x="7890480" y="52689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71"/>
            <p:cNvSpPr/>
            <p:nvPr/>
          </p:nvSpPr>
          <p:spPr>
            <a:xfrm>
              <a:off x="8044560" y="526896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Prop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72"/>
            <p:cNvSpPr/>
            <p:nvPr/>
          </p:nvSpPr>
          <p:spPr>
            <a:xfrm>
              <a:off x="8393760" y="52689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73"/>
            <p:cNvSpPr/>
            <p:nvPr/>
          </p:nvSpPr>
          <p:spPr>
            <a:xfrm>
              <a:off x="50760" y="5511960"/>
              <a:ext cx="587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74"/>
            <p:cNvSpPr/>
            <p:nvPr/>
          </p:nvSpPr>
          <p:spPr>
            <a:xfrm>
              <a:off x="82440" y="552780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75"/>
            <p:cNvSpPr/>
            <p:nvPr/>
          </p:nvSpPr>
          <p:spPr>
            <a:xfrm>
              <a:off x="2266920" y="5511960"/>
              <a:ext cx="4669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76"/>
            <p:cNvSpPr/>
            <p:nvPr/>
          </p:nvSpPr>
          <p:spPr>
            <a:xfrm>
              <a:off x="2210760" y="55278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5.4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77"/>
            <p:cNvSpPr/>
            <p:nvPr/>
          </p:nvSpPr>
          <p:spPr>
            <a:xfrm>
              <a:off x="6103800" y="5511960"/>
              <a:ext cx="465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78"/>
            <p:cNvSpPr/>
            <p:nvPr/>
          </p:nvSpPr>
          <p:spPr>
            <a:xfrm>
              <a:off x="6047640" y="55278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0.21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79"/>
            <p:cNvSpPr/>
            <p:nvPr/>
          </p:nvSpPr>
          <p:spPr>
            <a:xfrm>
              <a:off x="7824960" y="5511960"/>
              <a:ext cx="293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80"/>
            <p:cNvSpPr/>
            <p:nvPr/>
          </p:nvSpPr>
          <p:spPr>
            <a:xfrm>
              <a:off x="7817400" y="552780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.7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81"/>
            <p:cNvSpPr/>
            <p:nvPr/>
          </p:nvSpPr>
          <p:spPr>
            <a:xfrm>
              <a:off x="8158320" y="5511960"/>
              <a:ext cx="141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82"/>
            <p:cNvSpPr/>
            <p:nvPr/>
          </p:nvSpPr>
          <p:spPr>
            <a:xfrm>
              <a:off x="8190720" y="55278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83"/>
            <p:cNvSpPr/>
            <p:nvPr/>
          </p:nvSpPr>
          <p:spPr>
            <a:xfrm>
              <a:off x="50760" y="5770440"/>
              <a:ext cx="58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84"/>
            <p:cNvSpPr/>
            <p:nvPr/>
          </p:nvSpPr>
          <p:spPr>
            <a:xfrm>
              <a:off x="82440" y="578628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85"/>
            <p:cNvSpPr/>
            <p:nvPr/>
          </p:nvSpPr>
          <p:spPr>
            <a:xfrm>
              <a:off x="2266920" y="5770440"/>
              <a:ext cx="46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86"/>
            <p:cNvSpPr/>
            <p:nvPr/>
          </p:nvSpPr>
          <p:spPr>
            <a:xfrm>
              <a:off x="2210760" y="578628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3.87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87"/>
            <p:cNvSpPr/>
            <p:nvPr/>
          </p:nvSpPr>
          <p:spPr>
            <a:xfrm>
              <a:off x="6103800" y="5770440"/>
              <a:ext cx="46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88"/>
            <p:cNvSpPr/>
            <p:nvPr/>
          </p:nvSpPr>
          <p:spPr>
            <a:xfrm>
              <a:off x="6047640" y="578628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8.8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89"/>
            <p:cNvSpPr/>
            <p:nvPr/>
          </p:nvSpPr>
          <p:spPr>
            <a:xfrm>
              <a:off x="7824960" y="57704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Rectangle 90"/>
            <p:cNvSpPr/>
            <p:nvPr/>
          </p:nvSpPr>
          <p:spPr>
            <a:xfrm>
              <a:off x="7817400" y="57862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.87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5" name="Rectangle 91"/>
            <p:cNvSpPr/>
            <p:nvPr/>
          </p:nvSpPr>
          <p:spPr>
            <a:xfrm>
              <a:off x="8158320" y="5770440"/>
              <a:ext cx="14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6" name="Rectangle 92"/>
            <p:cNvSpPr/>
            <p:nvPr/>
          </p:nvSpPr>
          <p:spPr>
            <a:xfrm>
              <a:off x="8190720" y="5786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7" name="Line 93"/>
            <p:cNvSpPr/>
            <p:nvPr/>
          </p:nvSpPr>
          <p:spPr>
            <a:xfrm>
              <a:off x="1133640" y="2617920"/>
              <a:ext cx="9360" cy="80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8" name="Rectangle 94"/>
            <p:cNvSpPr/>
            <p:nvPr/>
          </p:nvSpPr>
          <p:spPr>
            <a:xfrm>
              <a:off x="1143000" y="2617920"/>
              <a:ext cx="11160" cy="807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9" name="Line 95"/>
            <p:cNvSpPr/>
            <p:nvPr/>
          </p:nvSpPr>
          <p:spPr>
            <a:xfrm>
              <a:off x="8847000" y="2633760"/>
              <a:ext cx="1800" cy="792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0" name="Rectangle 96"/>
            <p:cNvSpPr/>
            <p:nvPr/>
          </p:nvSpPr>
          <p:spPr>
            <a:xfrm>
              <a:off x="8847000" y="2647800"/>
              <a:ext cx="9720" cy="777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1" name="Line 97"/>
            <p:cNvSpPr/>
            <p:nvPr/>
          </p:nvSpPr>
          <p:spPr>
            <a:xfrm>
              <a:off x="20520" y="2876400"/>
              <a:ext cx="1800" cy="5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2" name="Rectangle 98"/>
            <p:cNvSpPr/>
            <p:nvPr/>
          </p:nvSpPr>
          <p:spPr>
            <a:xfrm>
              <a:off x="20520" y="2876400"/>
              <a:ext cx="9720" cy="549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3" name="Line 99"/>
            <p:cNvSpPr/>
            <p:nvPr/>
          </p:nvSpPr>
          <p:spPr>
            <a:xfrm>
              <a:off x="1133640" y="3913200"/>
              <a:ext cx="9360" cy="806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4" name="Rectangle 100"/>
            <p:cNvSpPr/>
            <p:nvPr/>
          </p:nvSpPr>
          <p:spPr>
            <a:xfrm>
              <a:off x="1143000" y="3927600"/>
              <a:ext cx="1116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5" name="Line 101"/>
            <p:cNvSpPr/>
            <p:nvPr/>
          </p:nvSpPr>
          <p:spPr>
            <a:xfrm>
              <a:off x="8847000" y="3943440"/>
              <a:ext cx="1800" cy="776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6" name="Rectangle 102"/>
            <p:cNvSpPr/>
            <p:nvPr/>
          </p:nvSpPr>
          <p:spPr>
            <a:xfrm>
              <a:off x="8847000" y="3943440"/>
              <a:ext cx="9720" cy="776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7" name="Line 103"/>
            <p:cNvSpPr/>
            <p:nvPr/>
          </p:nvSpPr>
          <p:spPr>
            <a:xfrm>
              <a:off x="20520" y="4172040"/>
              <a:ext cx="1800" cy="54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8" name="Rectangle 104"/>
            <p:cNvSpPr/>
            <p:nvPr/>
          </p:nvSpPr>
          <p:spPr>
            <a:xfrm>
              <a:off x="20520" y="4186080"/>
              <a:ext cx="9720" cy="5335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9" name="Line 105"/>
            <p:cNvSpPr/>
            <p:nvPr/>
          </p:nvSpPr>
          <p:spPr>
            <a:xfrm>
              <a:off x="1133640" y="5222880"/>
              <a:ext cx="9360" cy="792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0" name="Rectangle 106"/>
            <p:cNvSpPr/>
            <p:nvPr/>
          </p:nvSpPr>
          <p:spPr>
            <a:xfrm>
              <a:off x="1143000" y="5222880"/>
              <a:ext cx="11160" cy="7920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1" name="Line 107"/>
            <p:cNvSpPr/>
            <p:nvPr/>
          </p:nvSpPr>
          <p:spPr>
            <a:xfrm>
              <a:off x="8847000" y="5237280"/>
              <a:ext cx="1800" cy="777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2" name="Rectangle 108"/>
            <p:cNvSpPr/>
            <p:nvPr/>
          </p:nvSpPr>
          <p:spPr>
            <a:xfrm>
              <a:off x="8847000" y="5237280"/>
              <a:ext cx="9720" cy="777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3" name="Line 109"/>
            <p:cNvSpPr/>
            <p:nvPr/>
          </p:nvSpPr>
          <p:spPr>
            <a:xfrm>
              <a:off x="20520" y="5481720"/>
              <a:ext cx="1800" cy="533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4" name="Rectangle 110"/>
            <p:cNvSpPr/>
            <p:nvPr/>
          </p:nvSpPr>
          <p:spPr>
            <a:xfrm>
              <a:off x="20520" y="5481720"/>
              <a:ext cx="9720" cy="533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5" name="Line 111"/>
            <p:cNvSpPr/>
            <p:nvPr/>
          </p:nvSpPr>
          <p:spPr>
            <a:xfrm>
              <a:off x="1154160" y="2617920"/>
              <a:ext cx="7702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6" name="Line 112"/>
            <p:cNvSpPr/>
            <p:nvPr/>
          </p:nvSpPr>
          <p:spPr>
            <a:xfrm>
              <a:off x="30240" y="287640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7" name="Rectangle 113"/>
            <p:cNvSpPr/>
            <p:nvPr/>
          </p:nvSpPr>
          <p:spPr>
            <a:xfrm>
              <a:off x="30240" y="2876400"/>
              <a:ext cx="8826480" cy="32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8" name="Line 114"/>
            <p:cNvSpPr/>
            <p:nvPr/>
          </p:nvSpPr>
          <p:spPr>
            <a:xfrm>
              <a:off x="20520" y="3395520"/>
              <a:ext cx="883620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9" name="Rectangle 115"/>
            <p:cNvSpPr/>
            <p:nvPr/>
          </p:nvSpPr>
          <p:spPr>
            <a:xfrm>
              <a:off x="30240" y="3395520"/>
              <a:ext cx="8826480" cy="30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0" name="Line 116"/>
            <p:cNvSpPr/>
            <p:nvPr/>
          </p:nvSpPr>
          <p:spPr>
            <a:xfrm>
              <a:off x="1154160" y="3913200"/>
              <a:ext cx="7702560" cy="14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1" name="Rectangle 117"/>
            <p:cNvSpPr/>
            <p:nvPr/>
          </p:nvSpPr>
          <p:spPr>
            <a:xfrm>
              <a:off x="1154160" y="3927600"/>
              <a:ext cx="770256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2" name="Line 118"/>
            <p:cNvSpPr/>
            <p:nvPr/>
          </p:nvSpPr>
          <p:spPr>
            <a:xfrm>
              <a:off x="30240" y="4172040"/>
              <a:ext cx="882648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3" name="Line 119"/>
            <p:cNvSpPr/>
            <p:nvPr/>
          </p:nvSpPr>
          <p:spPr>
            <a:xfrm>
              <a:off x="30240" y="470520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4" name="Rectangle 120"/>
            <p:cNvSpPr/>
            <p:nvPr/>
          </p:nvSpPr>
          <p:spPr>
            <a:xfrm>
              <a:off x="30240" y="4705200"/>
              <a:ext cx="882648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5" name="Line 121"/>
            <p:cNvSpPr/>
            <p:nvPr/>
          </p:nvSpPr>
          <p:spPr>
            <a:xfrm>
              <a:off x="1154160" y="5222880"/>
              <a:ext cx="770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6" name="Rectangle 122"/>
            <p:cNvSpPr/>
            <p:nvPr/>
          </p:nvSpPr>
          <p:spPr>
            <a:xfrm>
              <a:off x="1154160" y="5222880"/>
              <a:ext cx="770256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7" name="Line 123"/>
            <p:cNvSpPr/>
            <p:nvPr/>
          </p:nvSpPr>
          <p:spPr>
            <a:xfrm>
              <a:off x="30240" y="5481720"/>
              <a:ext cx="8826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8" name="Rectangle 124"/>
            <p:cNvSpPr/>
            <p:nvPr/>
          </p:nvSpPr>
          <p:spPr>
            <a:xfrm>
              <a:off x="66600" y="5481720"/>
              <a:ext cx="8826480" cy="15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9" name="Line 125"/>
            <p:cNvSpPr/>
            <p:nvPr/>
          </p:nvSpPr>
          <p:spPr>
            <a:xfrm>
              <a:off x="30240" y="599904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0" name="Rectangle 126"/>
            <p:cNvSpPr/>
            <p:nvPr/>
          </p:nvSpPr>
          <p:spPr>
            <a:xfrm>
              <a:off x="30240" y="5999040"/>
              <a:ext cx="88264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08240" y="228600"/>
            <a:ext cx="652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ST de alternativa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siderando los resultados anteriores podemos afirmar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-El apalancamiento era negativo en el añ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-El apalancamiento era positivo en el 1 pero negativo en el 5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-El apalancamiento era positivo en ambos añ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27280" y="0"/>
            <a:ext cx="56894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jercicio Propues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componer la rentabilidad patrimonial (ROE) de acuerdo al esquema analizado en clase en el punto 6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235080" y="3733920"/>
            <a:ext cx="8445240" cy="2133000"/>
            <a:chOff x="235080" y="3733920"/>
            <a:chExt cx="8445240" cy="2133000"/>
          </a:xfrm>
        </p:grpSpPr>
        <p:sp>
          <p:nvSpPr>
            <p:cNvPr id="326" name="Rectangle 5"/>
            <p:cNvSpPr/>
            <p:nvPr/>
          </p:nvSpPr>
          <p:spPr>
            <a:xfrm>
              <a:off x="1319040" y="3941640"/>
              <a:ext cx="6204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OE = ROA * ENDEUDAMIENTO * IMPACTO   * IMPA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                                                          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INANCIERO      FISC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7" name="Rectangle 6"/>
            <p:cNvSpPr/>
            <p:nvPr/>
          </p:nvSpPr>
          <p:spPr>
            <a:xfrm>
              <a:off x="235080" y="3733920"/>
              <a:ext cx="8445240" cy="12063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8" name="Line 7"/>
            <p:cNvSpPr/>
            <p:nvPr/>
          </p:nvSpPr>
          <p:spPr>
            <a:xfrm>
              <a:off x="2895480" y="4800600"/>
              <a:ext cx="0" cy="5205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9" name="Line 8"/>
            <p:cNvSpPr/>
            <p:nvPr/>
          </p:nvSpPr>
          <p:spPr>
            <a:xfrm>
              <a:off x="2901960" y="5327640"/>
              <a:ext cx="37209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 flipV="1">
              <a:off x="6629400" y="4787640"/>
              <a:ext cx="0" cy="546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1" name="Rectangle 10"/>
            <p:cNvSpPr/>
            <p:nvPr/>
          </p:nvSpPr>
          <p:spPr>
            <a:xfrm>
              <a:off x="3908880" y="5389560"/>
              <a:ext cx="56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F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2" name="Line 11"/>
            <p:cNvSpPr/>
            <p:nvPr/>
          </p:nvSpPr>
          <p:spPr>
            <a:xfrm>
              <a:off x="2286000" y="4648320"/>
              <a:ext cx="0" cy="12063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3" name="Line 12"/>
            <p:cNvSpPr/>
            <p:nvPr/>
          </p:nvSpPr>
          <p:spPr>
            <a:xfrm>
              <a:off x="2292480" y="5861160"/>
              <a:ext cx="5854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4" name="Line 13"/>
            <p:cNvSpPr/>
            <p:nvPr/>
          </p:nvSpPr>
          <p:spPr>
            <a:xfrm flipV="1">
              <a:off x="8153280" y="4863600"/>
              <a:ext cx="0" cy="10033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gulación del FAF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ón de los ejecutivos de operaciones, marketing, finazas, et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Políticas de crédito a clientes, innovaciones tecnológic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` y Gastos Financier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ructura de pas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cisiones de propietarios y aversión al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po de interé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 .Pirámide de rat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Ver esquema de la página 19 del Caso PRONAS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71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n modelo simplificado (No en funcion del ROA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(BPT/Vtas)*(Vtas/Act.)*(Act./FP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margen*rotacion*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m*r*e = r*m*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ROE/ROE=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)(dr/r) +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)(dm/m) +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)(de/e) donde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 y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 son coeficientes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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) estimables por regresiones de minimos cuadr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Detalle de rendimiento de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El 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(ROEB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mode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ROE/ROE= Cte.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r/r)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m/m)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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e/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 los estados financieros de varios años se pueden calcular las tres series de incrementos porcentua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uego se hace la regresion y se estiman los coeficient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clusiones: determinar que politicas inciden en forma mas determinante sobre la rentabilidad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Ver datos en EERR del cas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JO: Método de análisis, válido para análisis patrimonial, circulante y económic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tuación general: ratios altos o bajo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endencia (evolución temporal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A = (BAIT + Atípicos) / AT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(36+4)/274=14,6% ; Año 5: 15,2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Bueno o malo? Bien comparado con el costo del exigibl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tendencia? Mejo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A específico: (BAIT/ Act. Func. Net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 36 /(274,4-11)=13,7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: 120,4/(813,6-10,8-5,6)=15,1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o extrafuncional no es relevante =&gt; Variaciones mínim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Si extrafunc. son altos podríamos pasar a rendimientos negativos (menores que el tipo de interé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talle del ROA específic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         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árgen     Rotación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Márgen         Rot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36/825=4,4% 825/263=3,13 120/1351=8,9%    1351/798=1,7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pecto al año 1 mejoró mucho el márgen, pero empeoró la rotación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isminuyó rotación por aumento de 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Inversión en Fijo impactó en el margen aunque no tanto en las ventas (más eficienci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ja rotación podría mejorar si se contraresta tendencia a aumento de clientes por cobrar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BPT / FP (puede ser BAT/FP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2,6/143=15,8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31,4/233=13,5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Bueno o malo? Depende de otras rentabilidades de ese merc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volución : Empeo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talle del RO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         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árgen     Rotación FP Márgen         Rot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23/825=2,7% 825/143=5,8R 31/1351=2,3% 1351/233=5,9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menor rentabilidad es básicamente por reducción del márgen global (Rotación casi no varí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secuencia del aumento del endeudamiento (impacto de gastos financieros en el BPT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cordar análisis patrimonial estático y dinámico: Pronasa no practica autofinanciam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palancamiento financier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E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5,8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3,5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4,6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5,2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 ROE &gt; ROA Efecto posi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: ROE &lt; ROA Efecto negativ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r EERR, gastos financieros pasan de 1,36% de las ventas a 6,13% de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puesto: Analizar evoluciones porcentuales de la página 17, por ejempl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menta el BAIT de 4,37% a 8,91% ¿Porqué?, ¿Cómo inciden los gastos fijos imputables y no imputables?, ¿y los costos variables comerciales y de fabricación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Cómo evolucionan los márgenes de fabricación, el bruto y el de contribución (comercial) 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según productos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ONASA está potenciando los congelados ¿Es unabuena decisión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Indicadores intern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distribución de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re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autofinanciamiento y otr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Ratios de Valor de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ice Earning Ratio (PE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ntabilidad por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 de Mercado - Valor Lib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q de Tobi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0948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Tasa de distribución de dividend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X=Dividendos por acción = Dividendos/N°acción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Y=Beneficio por acción = BPT/ N°acción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sa de distribución= X / Y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Tasa de reinversión (TR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1 - Tasa de distribu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1- Dividendos/ BPT= (BPT- Dividendos)/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Capitalización de Utilidades (a Reservas)/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Utilidades retenidas / 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analizar la cuenta de resultados una vez ordenada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Rectangle 1029"/>
          <p:cNvSpPr/>
          <p:nvPr/>
        </p:nvSpPr>
        <p:spPr>
          <a:xfrm>
            <a:off x="1959840" y="3567240"/>
            <a:ext cx="150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1030"/>
          <p:cNvSpPr/>
          <p:nvPr/>
        </p:nvSpPr>
        <p:spPr>
          <a:xfrm>
            <a:off x="1963800" y="4024440"/>
            <a:ext cx="153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1031"/>
          <p:cNvSpPr/>
          <p:nvPr/>
        </p:nvSpPr>
        <p:spPr>
          <a:xfrm>
            <a:off x="4541400" y="3809880"/>
            <a:ext cx="4185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Resultado 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Operacional (BAIT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1033"/>
          <p:cNvSpPr/>
          <p:nvPr/>
        </p:nvSpPr>
        <p:spPr>
          <a:xfrm>
            <a:off x="1717560" y="5014800"/>
            <a:ext cx="1594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1034"/>
          <p:cNvSpPr/>
          <p:nvPr/>
        </p:nvSpPr>
        <p:spPr>
          <a:xfrm>
            <a:off x="1407960" y="5396040"/>
            <a:ext cx="209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35"/>
          <p:cNvSpPr/>
          <p:nvPr/>
        </p:nvSpPr>
        <p:spPr>
          <a:xfrm>
            <a:off x="3733920" y="5243400"/>
            <a:ext cx="502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&gt; Ingresos o Gastos  No Operacion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 Atí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Tasa de autofinanciamiento (TA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Utilidades Retenidas (Reservas) / Fondos Propi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Capitalización Utilidades / Patrimon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(Utilidades Retenidas/BPT)*(BPT/Patrimoni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TR * RO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emplo: Si una empresa solo distribuye el mínimo legal (30%) y sus reservas son un 20% del Patrimonio. Determinar el RO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OE = 0,2 / 0,7 = 28,6%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7480" indent="-2674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Financiación Extern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uevas Inversiones = Activos Iniciales * Tasa de creci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ación Externa = Nuevas Inversiones - Utilidades Retenidas = Activos Iniciales * Tasa de crecimiento - Utilidades retenid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Interna de Crecimiento (TIC, no confundir con TIR): Tasa de crec. Posible sin acudir a fuentes externas. Imponemos Fin. Externa = 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0 = Activos Iniciales * TIC - Utilidades retenid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C = Utilidades Retenidas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ultiplicando por 1 (2 veces) a la ecuación anterior (Aplicando N-N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Utilidades retenidas/BPT * BPT/Patrimonio * Patrimonio/Activ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 Patrimonio / Activ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(1 / (Activos./Patrimonio.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 (1/ E´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sa de crecimiento sostenible: La que mantiene constante la razón D/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-360" y="83628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25812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sa de crecimiento sostenible (TCS): En lugar de imponer “Fuentes Externas = 0”, siendo menos restrictivos imponemos “Ampliación de capital = 0 con razón D/Cap = constante”. Luego, considerando que Fuentes Externas = Ampliación de Capital + Nueva Deud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ueva Deuda = Tasa de Crecimiento Sostenible * Activos - Utilidades retenid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 + Nueva Deuda)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 + Util. Ret*(D/C))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*(1+D/C)) / (D + C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*(1+D/C)) / (C*(1 +D/ C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3352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1000"/>
          </a:bodyPr>
          <a:p>
            <a:pPr marL="1454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 (Util. Retenidas) / 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Util. Retenidas/BPT * BPT/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TR * ROE = Tasa de autofinanciamiento!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do la TCS (o TA) se hace igual a la TIC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o se cumple si 1 / (Activos/Patrimonio) = 1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 decir, cuando la empresa no tiene deuda (Activos = Patrimonio), la tasa interna de crecimiento es igual a la tasa de crecimiento sostenibl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atios de Valor de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Price Earning Ratio (PER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 = Precio de la acción / BPT por ac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ltos ratios PER signific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los inversores esperan altos crecimientos del dividendo (Crecimientos de la empresa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la acción tiene bajo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se espera un crecimiento de la tasa de distribución de dividend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Ratio Valor de Mercado / Valor Libr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mbién llamado Ratio Cotización / Valor Contabl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M / VL = Precio acción / Valor Contable ac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emos que al dividir VM / VL por el PER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) / PER = (Precio acción / valor contable de  la acción) * (BPT por acción / Precio ac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)/PER =(BPT/acción)/(V.Contable/ac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ultiplicando por el numero de acciones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 ) / PER = BPT / Patrimon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OE = (VM / VL) / PER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Q de Tobi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 = VM de activos / Costo de reposición d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diferencia del ratio VM / VL e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numerador incluye todos los títulos de deuda y acciones de la empresa, no solo las accion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denominador incluye todos los activos, no solo el capital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os activos no están valorados contablemente, sino por lo que costaría reponerlos (precios de mercado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obin sostiene que las empresas tienen incentivos a invertir Si q es mayor que 1, es decir, invierten cuando el valor de los activos es mayor que lo que cuestan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to se asocia a empresas con fuertes ventajas competitivas en sus sectores industrial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odos los indicadores vistos hasta ahora en el curso son ùtiles para el análisis bursátil: análisis fundament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mbién existe la escuela de análisis técn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na ayuda a decidir que comprar, la otra cuando entrar y cuando salir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del activo = Return on Assets (RO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844560" y="3054240"/>
            <a:ext cx="5931000" cy="15112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097280" y="3567240"/>
            <a:ext cx="85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205720" y="3567240"/>
            <a:ext cx="31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2825640" y="38098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3294720" y="3262320"/>
            <a:ext cx="194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 + ATI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567160" y="39481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431000" y="5091120"/>
            <a:ext cx="4910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DENOMINADOR “NETO” SE REFIERE A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TO DE DEPRECIA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95280" y="3538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17884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tios de interé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quote.bloomberg.com/analytics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yahoo.marketguide.com/MGI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tockselector.com/industry.asp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cbs.marketwatch.com/tools/stockresearch/default.asp?siteid=mktw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tern.nyu.edu/~adamodar/New_Home_Page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financewise.com/public/unregistered/riskm.ht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corporateinformation.com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alafinanciera.com/chile (análisis técnico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riskamerica.co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economatica.com/index_fla.ht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Específico (o técnico)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1028"/>
          <p:cNvSpPr/>
          <p:nvPr/>
        </p:nvSpPr>
        <p:spPr>
          <a:xfrm>
            <a:off x="844560" y="2673360"/>
            <a:ext cx="5931000" cy="1587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1029"/>
          <p:cNvSpPr/>
          <p:nvPr/>
        </p:nvSpPr>
        <p:spPr>
          <a:xfrm>
            <a:off x="905040" y="3110040"/>
            <a:ext cx="108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1030"/>
          <p:cNvSpPr/>
          <p:nvPr/>
        </p:nvSpPr>
        <p:spPr>
          <a:xfrm>
            <a:off x="1957320" y="3110040"/>
            <a:ext cx="352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1031"/>
          <p:cNvSpPr/>
          <p:nvPr/>
        </p:nvSpPr>
        <p:spPr>
          <a:xfrm>
            <a:off x="2825640" y="33526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32"/>
          <p:cNvSpPr/>
          <p:nvPr/>
        </p:nvSpPr>
        <p:spPr>
          <a:xfrm>
            <a:off x="3926160" y="288144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33"/>
          <p:cNvSpPr/>
          <p:nvPr/>
        </p:nvSpPr>
        <p:spPr>
          <a:xfrm>
            <a:off x="2238480" y="34909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UNCION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034"/>
          <p:cNvSpPr/>
          <p:nvPr/>
        </p:nvSpPr>
        <p:spPr>
          <a:xfrm>
            <a:off x="1050120" y="4495680"/>
            <a:ext cx="2514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AF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Ac.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035"/>
          <p:cNvSpPr/>
          <p:nvPr/>
        </p:nvSpPr>
        <p:spPr>
          <a:xfrm>
            <a:off x="844560" y="4349880"/>
            <a:ext cx="31114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Line 1036"/>
          <p:cNvSpPr/>
          <p:nvPr/>
        </p:nvSpPr>
        <p:spPr>
          <a:xfrm>
            <a:off x="4648320" y="3968640"/>
            <a:ext cx="0" cy="1359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1037"/>
          <p:cNvSpPr/>
          <p:nvPr/>
        </p:nvSpPr>
        <p:spPr>
          <a:xfrm>
            <a:off x="3968640" y="5334120"/>
            <a:ext cx="6732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395360" y="2530440"/>
            <a:ext cx="6780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A  =  --------------  =  --------- * ---------------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112840" y="222552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27800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703760" y="214956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4658040" y="291132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706800" y="214956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631656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1599480" y="4100400"/>
            <a:ext cx="625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= MARGEN DE VENTAS (%) * ROTACION DEL 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312920" y="4710240"/>
            <a:ext cx="5908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l ROA es el rendimiento que debería cubrir el co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medio  ponderado  del  capital (WACC), es decir,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bería cubrir el costo del capital propio y el costo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deuda.                                                           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9960" indent="-309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ROA que calculemos son buenos o malos en término relativos (comparados con otros del sect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analizar las diferencias intersectoriales en la  descomposición del rendimiento (márgen y rot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1: Venta de antiguedades de colección; Alto Márgen y Baja Rotación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2: Bombas de Bencina; Bajo Márgen y Altísima R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los fondos propios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tdad. F.P. = Return on Equity (RO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BPT /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usa BPT porque es lo que realmente interesa a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De que depende la rentabi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ende del mercado específico y sus riesgos, a mayor riesgo mayor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 ROA y ROE son aproximaciones del corto plazo a los retornos del CAPM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9-16T21:45:48Z</dcterms:modified>
  <cp:revision>379</cp:revision>
  <dc:subject/>
  <dc:title>Análisis Financiero</dc:title>
</cp:coreProperties>
</file>