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5DCA-4E54-4E73-BF22-35A3976E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01557-E238-4865-9F9F-35FD2B08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87AF-63F4-4A30-A25B-385BE5E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F9D8-C4D5-46CF-9743-62DA48D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509E2-C0D1-4608-BFAD-56B19E7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59D0-A6B5-4EAA-975E-90F3E6F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22388-6186-434B-ACC4-254820A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EB14-1C1F-4DFA-A16B-9D223F1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89ED-0529-4B7B-BCE3-47DBFF6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B9318-5533-4527-B097-4F5B7915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5621A-7187-4FE7-8454-01B8CAE7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2547-74D9-4A52-8F64-FCEF81CF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5BC-7ECF-4E34-B43B-7882436DDC2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2T15:41:33Z</dcterms:modified>
  <cp:revision>372</cp:revision>
  <dc:subject/>
  <dc:title>Análisis Financiero</dc:title>
</cp:coreProperties>
</file>