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6BFD7-A698-49B0-B86E-323F6F1B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2AD64-0030-4C75-911F-B2095FF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0198E-F4A1-4286-B156-FA6486DA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07932-A041-4AB3-8BD8-43ECC768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469E-EF31-4F03-8062-6B3AADD5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C9486-E209-427C-AFED-3C5D807C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8D967-F854-4011-89C0-84C7A39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F6328-624E-4A33-B71A-EFD9F45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F83ED-74A6-45DA-8F70-3AFA34DE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B7E15-2108-45AB-A539-F8F0F206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B4CD0-6F60-4C59-A86D-8B333628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60DAD-A9F8-481E-BFBA-B9F6A913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410-BB23-48A5-A2E8-01DF24BE102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9040" y="228240"/>
            <a:ext cx="41659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Otro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Proveedores / Compras * 365 aumenta de 60 a 210 días ¿es necesariamente bueno?. Contestar Y o 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88840" y="-36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: cálculo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lujos para Rotacion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552680" y="1886040"/>
          <a:ext cx="5987880" cy="41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1886040"/>
                    <a:ext cx="59878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es (ver enunciado del Caso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      AÑO 5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MP*365/Sal.Alm. 8,2*365/693,5=4,32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4,7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C*365/Fab.Acab29*365/700,3=15,1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19,4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PA*365/ Ventas  5,4*365/701=2,5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TOTAL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22,33 días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7,9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mpeoró rotación de stocks en un 22%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JO con el producto en curso (aumenta en 26%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Client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AÑO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*365/Vtas.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21,2*365/874,1=50,6  98,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xcluyeron los morosos y se incluyeron los descont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con el IVA, incluírlo o excluirlo en el numerador y el denominad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La rotación empeora en un 95%, ¡Peligroso! Empeoró la calidad de la cartera de clientes, ¿Devoluciones de productos? (disminuyen ventas) 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sto hay que unirlo con que la solvencia de capacidad también había empeorado (AC/PC de 1,6 a 1,22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tal stocks más clientes (Período de maduración del activo circulant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2,29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25,7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mpeora un 7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Proveedores? Proveedores*365/Comp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2,4*365/(692,8*1,06)=21,1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3,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mentó un 10%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ecesidad de Fondo de Maniobra aumenta en 63%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términos absolutos FM = AC - PC aumentó al doble en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ómo se financia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imos en análisis dinámico: Con deu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erminación de la sobreinversió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atos: AC pasó de 72, 8 días a 125,7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alizable + Stocks 164,4 M$ a 471,4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sin IV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824    a       1350     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se mantuviera rotación en 72, 29, el AC serí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 72,8*1350,6/365 = 269,4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471,4-269,4 = 202 es la sobreinvers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 lo financiamos con deuda al 15%, podemos decir que la mala gestión del circulante está costando 30 mill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066680" y="-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ANÁLISIS DE CIRCULANTE II </a:t>
            </a:r>
            <a:br>
              <a:rPr sz="3200"/>
            </a:br>
            <a:r>
              <a:rPr b="1" lang="es-ES_tradnl" sz="32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biera financiarse con cíclicos o con exigible CP expres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P y autofinanciación: mi activo debe generar cash flow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7854840" y="4038480"/>
            <a:ext cx="36828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Line 32"/>
          <p:cNvSpPr/>
          <p:nvPr/>
        </p:nvSpPr>
        <p:spPr>
          <a:xfrm>
            <a:off x="8229600" y="404496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33"/>
          <p:cNvSpPr/>
          <p:nvPr/>
        </p:nvSpPr>
        <p:spPr>
          <a:xfrm flipV="1">
            <a:off x="8229600" y="4032360"/>
            <a:ext cx="0" cy="164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6656040" y="5425920"/>
            <a:ext cx="2234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EDUCCIO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DE A.C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01T21:39:51Z</dcterms:modified>
  <cp:revision>369</cp:revision>
  <dc:subject/>
  <dc:title>Análisis Financiero</dc:title>
</cp:coreProperties>
</file>