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78ED0-8E3D-4F15-BE82-450C8346E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9E46C-BCB0-41B8-8E51-C8949E21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A15C0-3990-4B58-AB00-B9472D1B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3019A-9F3F-44AA-AD69-202EA941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66878-857E-41DE-BE44-7EE8E63E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3308E-24B1-4751-B93C-E19C968C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618A1-8B8D-421D-9BC5-82B8EE30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1CA7F-6FA6-4E8A-A0BC-680ACDBA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4DA70-ACAA-4FE3-9AAA-09DD33A1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9A1C1-9565-4BB6-8661-A1C7FEC2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CC77E-6CF7-48FB-9449-8CA39A63E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1D1B2-BB91-4AE5-8CFD-3DAFFE2B7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B0E7-BA9C-4FBF-ABAA-DCCEA638B862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ON DE STOCKS, CLIENTES Y PROVEEDOR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VENTAS / STOCKS: Cuántas veces da vuelta el stock en el ciclo stock -&gt; Producto -&gt; Vent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.: 10.000 / 1000 = 10 R &lt;=&gt; Rotó 10 vec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odemos calcular 1000 / 10.000 * 365 = 36,5 días: Permanencia media del stock en la empres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OJO : El indicador “miente” en empresas con estacionalidades (stocks muy altos o muy bajos al momento de medir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6858000" y="3587760"/>
            <a:ext cx="0" cy="2160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7" name="Line 5"/>
          <p:cNvSpPr/>
          <p:nvPr/>
        </p:nvSpPr>
        <p:spPr>
          <a:xfrm flipH="1">
            <a:off x="4336560" y="3809880"/>
            <a:ext cx="25275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4343400" y="3657600"/>
            <a:ext cx="0" cy="144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9" name="Line 7"/>
          <p:cNvSpPr/>
          <p:nvPr/>
        </p:nvSpPr>
        <p:spPr>
          <a:xfrm flipV="1">
            <a:off x="4343400" y="3498840"/>
            <a:ext cx="0" cy="3175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LIENTE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 / Client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.: 2500 / 10.000 * 365 = 91 dí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to =&gt; Vigilar que no aument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OJO: Nuevamente el ratio puede mentir en empresas con estacionalidad en los períodos de cobro a clientes. En ciertos períodos frente a altas compras pueden flexibilizar el plazo. Ej.: Ventas de cuadernos a tiendas en febr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89040" y="228600"/>
            <a:ext cx="416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JO: TEST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OVEEDOR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PRAS / PROVEEDOR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veedores es cuenta de pasivo ¿Conviene que disminuya la rotación medida en vueltas? ( es decir que aumente en número de día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89040" y="228240"/>
            <a:ext cx="416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JO: Otro Test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Proveedores / Compras * 365 aumenta de 60 a 210 días ¿es necesariamente bueno?. Contestar Y o 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ON DETALLADA DE STOCK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 MP / Utilización de M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 PC / Fabric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 PA / Ven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da masa patrimonial se compara c/r al flujo de salida hacia el que tiende en el ciclo de madur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85800" y="2666880"/>
            <a:ext cx="2209680" cy="2895840"/>
          </a:xfrm>
          <a:prstGeom prst="rect">
            <a:avLst/>
          </a:prstGeom>
          <a:solidFill>
            <a:srgbClr val="00b0f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ateri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im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505320" y="2666880"/>
            <a:ext cx="2209680" cy="2895840"/>
          </a:xfrm>
          <a:prstGeom prst="rect">
            <a:avLst/>
          </a:prstGeom>
          <a:solidFill>
            <a:srgbClr val="00b0f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duc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Curs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6324480" y="2666880"/>
            <a:ext cx="2210040" cy="2895840"/>
          </a:xfrm>
          <a:prstGeom prst="rect">
            <a:avLst/>
          </a:prstGeom>
          <a:solidFill>
            <a:srgbClr val="00b0f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duc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erminad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Line 5"/>
          <p:cNvSpPr/>
          <p:nvPr/>
        </p:nvSpPr>
        <p:spPr>
          <a:xfrm>
            <a:off x="304920" y="2514600"/>
            <a:ext cx="685800" cy="9144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3" name="Line 6"/>
          <p:cNvSpPr/>
          <p:nvPr/>
        </p:nvSpPr>
        <p:spPr>
          <a:xfrm flipV="1">
            <a:off x="2590920" y="3048120"/>
            <a:ext cx="1143000" cy="22860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Line 7"/>
          <p:cNvSpPr/>
          <p:nvPr/>
        </p:nvSpPr>
        <p:spPr>
          <a:xfrm>
            <a:off x="2971800" y="2133720"/>
            <a:ext cx="762120" cy="7617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5" name="Line 8"/>
          <p:cNvSpPr/>
          <p:nvPr/>
        </p:nvSpPr>
        <p:spPr>
          <a:xfrm flipV="1">
            <a:off x="5334120" y="2971800"/>
            <a:ext cx="1218960" cy="23623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7848720" y="5257800"/>
            <a:ext cx="9903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685800" y="2209680"/>
            <a:ext cx="2209680" cy="457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3505320" y="2209680"/>
            <a:ext cx="2209680" cy="457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6324480" y="2209680"/>
            <a:ext cx="2210040" cy="457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129240" y="1752480"/>
            <a:ext cx="15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ompras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M. Prim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1884960" y="5146560"/>
            <a:ext cx="15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Utiliz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M. Prim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2088360" y="179388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tros Insum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Text Box 22"/>
          <p:cNvSpPr/>
          <p:nvPr/>
        </p:nvSpPr>
        <p:spPr>
          <a:xfrm>
            <a:off x="4787280" y="491796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abric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Text Box 23"/>
          <p:cNvSpPr/>
          <p:nvPr/>
        </p:nvSpPr>
        <p:spPr>
          <a:xfrm>
            <a:off x="7778880" y="522288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740880" y="6137280"/>
            <a:ext cx="76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OTA: Utilización M. Primas + Otros Insumos = Entradas a Fabric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jempl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2216160" y="2521080"/>
            <a:ext cx="4021200" cy="35733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Line 5"/>
          <p:cNvSpPr/>
          <p:nvPr/>
        </p:nvSpPr>
        <p:spPr>
          <a:xfrm>
            <a:off x="4205160" y="2521080"/>
            <a:ext cx="0" cy="36226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650120" y="2697120"/>
            <a:ext cx="125820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xigible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/P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2468520" y="2687760"/>
            <a:ext cx="113976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LIENT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Line 8"/>
          <p:cNvSpPr/>
          <p:nvPr/>
        </p:nvSpPr>
        <p:spPr>
          <a:xfrm>
            <a:off x="4267080" y="3429000"/>
            <a:ext cx="20304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Line 9"/>
          <p:cNvSpPr/>
          <p:nvPr/>
        </p:nvSpPr>
        <p:spPr>
          <a:xfrm>
            <a:off x="4267080" y="4419720"/>
            <a:ext cx="20304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4749840" y="4648320"/>
            <a:ext cx="1282680" cy="14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Permanen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4" name="Line 11"/>
          <p:cNvSpPr/>
          <p:nvPr/>
        </p:nvSpPr>
        <p:spPr>
          <a:xfrm>
            <a:off x="2292480" y="3505320"/>
            <a:ext cx="18921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2829240" y="3567240"/>
            <a:ext cx="591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P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2216160" y="4038480"/>
            <a:ext cx="19684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2829240" y="4100400"/>
            <a:ext cx="590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PC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8" name="Line 15"/>
          <p:cNvSpPr/>
          <p:nvPr/>
        </p:nvSpPr>
        <p:spPr>
          <a:xfrm>
            <a:off x="2216160" y="4572000"/>
            <a:ext cx="19684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9" name="Line 16"/>
          <p:cNvSpPr/>
          <p:nvPr/>
        </p:nvSpPr>
        <p:spPr>
          <a:xfrm>
            <a:off x="2216160" y="5105520"/>
            <a:ext cx="20448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0" name="Rectangle 17"/>
          <p:cNvSpPr/>
          <p:nvPr/>
        </p:nvSpPr>
        <p:spPr>
          <a:xfrm>
            <a:off x="902160" y="3490920"/>
            <a:ext cx="94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1" name="Rectangle 18"/>
          <p:cNvSpPr/>
          <p:nvPr/>
        </p:nvSpPr>
        <p:spPr>
          <a:xfrm>
            <a:off x="902160" y="3948120"/>
            <a:ext cx="94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825840" y="4481640"/>
            <a:ext cx="94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3" name="Rectangle 20"/>
          <p:cNvSpPr/>
          <p:nvPr/>
        </p:nvSpPr>
        <p:spPr>
          <a:xfrm>
            <a:off x="6256440" y="2590920"/>
            <a:ext cx="2574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vencimiento med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nderado : 5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4" name="Rectangle 21"/>
          <p:cNvSpPr/>
          <p:nvPr/>
        </p:nvSpPr>
        <p:spPr>
          <a:xfrm>
            <a:off x="2743200" y="5105520"/>
            <a:ext cx="163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5" name="Rectangle 22"/>
          <p:cNvSpPr/>
          <p:nvPr/>
        </p:nvSpPr>
        <p:spPr>
          <a:xfrm>
            <a:off x="2819520" y="4648320"/>
            <a:ext cx="79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M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Rectangle 23"/>
          <p:cNvSpPr/>
          <p:nvPr/>
        </p:nvSpPr>
        <p:spPr>
          <a:xfrm>
            <a:off x="983160" y="259092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7" name="Rectangle 24"/>
          <p:cNvSpPr/>
          <p:nvPr/>
        </p:nvSpPr>
        <p:spPr>
          <a:xfrm>
            <a:off x="4495680" y="373536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xigible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/P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iende a la liquidez en 160 día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iende a la exigibilidad en 50 dí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Tiende a la impuntualidad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necesariamente, hay que analizar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uánto de clientes se puede cobrar en los próximos 50 dí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uánto de la deuda vence en los próximos 50 dí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upongamos qu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lientes deben 100 Millones para los próximos 100 dí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 Millón de “$ diarios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deudamos 50 para los próximos 50 dí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 Millón de “$ diarios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alogía: Es una empresa de alta capacidad  (solvencia de capacidad) y baja rotación &lt;=&gt; Río ancho y poco caud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us problemas no son de puntualidad si no de crecimiento ¿Cómo aumentar ventas sin que se afecten las rotaciones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49276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</a:t>
            </a: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on sumables en dí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I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ermanencia media de activo=(Act./V)*365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./V = (S+C+D+AF)/V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uego Act./V*365= Permanencia media de stocks+plazo de cobro a clientes+ días-venta de saldo de caja+ permanencia media del Activo Fij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88840" y="-360"/>
            <a:ext cx="7366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: cálcul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lujos para Rotacion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graphicFrame>
        <p:nvGraphicFramePr>
          <p:cNvPr id="198" name="Object 2"/>
          <p:cNvGraphicFramePr/>
          <p:nvPr/>
        </p:nvGraphicFramePr>
        <p:xfrm>
          <a:off x="1552680" y="1886040"/>
          <a:ext cx="5987880" cy="417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2680" y="1886040"/>
                    <a:ext cx="598788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ANÁLISIS DE CIRCULANTE II </a:t>
            </a:r>
            <a:br>
              <a:rPr sz="3200"/>
            </a:b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ones (ver enunciado del Caso)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              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ÑO 1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       AÑO 5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MP*365/Sal.Alm. 8,2*365/693,5=4,32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4,79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PC*365/Fab.Acab29*365/700,3=15,11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19,4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PA*365/ Ventas  5,4*365/701=2,5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TOTAL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22,33 días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27,9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mpeoró rotación de stocks en un 22%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OJO con el producto en curso (aumenta en 26%)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ón de Client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                       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ÑO 1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   AÑO5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ientes*365/Vtas.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21,2*365/874,1=50,6  98,5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excluyeron los morosos y se incluyeron los descontad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OJO con el IVA, incluírlo o excluirlo en el numerador y el denominado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La rotación empeora en un 95%, ¡Peligroso! Empeoró la calidad de la cartera de clientes, ¿Devoluciones de productos? (disminuyen ventas)  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sto hay que unirlo con que la solvencia de capacidad también había empeorado (AC/PC de 1,6 a 1,22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066680" y="-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ANÁLISIS DE CIRCULANTE II </a:t>
            </a:r>
            <a:br>
              <a:rPr sz="3200"/>
            </a:b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otal stocks más clientes (Período de maduración del activo circulant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72,29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25,7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mpeora un 73%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Proveedores? Proveedores*365/Compr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42,4*365/(692,8*1,06)=21,1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23,2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umentó un 10%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ecesidad de Fondo de Maniobra aumenta en 63%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066680" y="-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ANÁLISIS DE CIRCULANTE II </a:t>
            </a:r>
            <a:br>
              <a:rPr sz="3200"/>
            </a:b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n términos absolutos FM = AC - PC aumentó al doble en dí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Cómo se financia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o vimos en análisis dinámico: Con deud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eterminación de la sobreinversión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atos: AC pasó de 72, 8 días a 125,7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alizable + Stocks 164,4 M$ a 471,4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 sin IVA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824    a       1350     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066680" y="-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ANÁLISIS DE CIRCULANTE II </a:t>
            </a:r>
            <a:br>
              <a:rPr sz="3200"/>
            </a:b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i se mantuviera rotación en 72, 29, el AC sería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X= 72,8*1350,6/365 = 269,4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uego 471,4-269,4 = 202 es la sobreinvers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i lo financiamos con deuda al 15%, podemos decir que la mala gestión del circulante está costando 30 millon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1066680" y="-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ANÁLISIS DE CIRCULANTE II </a:t>
            </a:r>
            <a:br>
              <a:rPr sz="3200"/>
            </a:b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a medida de la solvencia como puntual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 concepto de rot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ón del Activo Fijo y Circulant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ón de Stocks, Clientes y Proveedor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a medida de la solvencia de puntual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hay ratios para medirl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recimiento comercial y mantención de niveles =&gt; Aumento del activo circula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no se logra mantener la velocidad de rotación del AC ( mantener su tendencia a la liquidez) =&gt;  Aumento del AC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a medida de la solvencia de puntual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biera financiarse con cíclicos o con exigible CP expres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LP y autofinanciación: mi activo debe generar cash flow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853560" y="1585800"/>
            <a:ext cx="1190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vers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3279600" y="1585800"/>
            <a:ext cx="1518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ci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Line 5"/>
          <p:cNvSpPr/>
          <p:nvPr/>
        </p:nvSpPr>
        <p:spPr>
          <a:xfrm flipH="1">
            <a:off x="755280" y="2063880"/>
            <a:ext cx="469800" cy="82548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Line 6"/>
          <p:cNvSpPr/>
          <p:nvPr/>
        </p:nvSpPr>
        <p:spPr>
          <a:xfrm>
            <a:off x="1530360" y="2063880"/>
            <a:ext cx="368280" cy="82548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Line 7"/>
          <p:cNvSpPr/>
          <p:nvPr/>
        </p:nvSpPr>
        <p:spPr>
          <a:xfrm flipH="1">
            <a:off x="3346200" y="2063880"/>
            <a:ext cx="393480" cy="9777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Line 8"/>
          <p:cNvSpPr/>
          <p:nvPr/>
        </p:nvSpPr>
        <p:spPr>
          <a:xfrm>
            <a:off x="4044960" y="2063880"/>
            <a:ext cx="368280" cy="9777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153000" y="3186000"/>
            <a:ext cx="760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.F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1330200" y="3110040"/>
            <a:ext cx="846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. 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Line 11"/>
          <p:cNvSpPr/>
          <p:nvPr/>
        </p:nvSpPr>
        <p:spPr>
          <a:xfrm flipH="1">
            <a:off x="374760" y="3740040"/>
            <a:ext cx="164880" cy="5209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1987560" y="3664080"/>
            <a:ext cx="368280" cy="67284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-92160" y="4603680"/>
            <a:ext cx="94644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em-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laz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635040" y="4832280"/>
            <a:ext cx="1627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recimien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1104840" y="4222800"/>
            <a:ext cx="224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Meno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otac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Line 16"/>
          <p:cNvSpPr/>
          <p:nvPr/>
        </p:nvSpPr>
        <p:spPr>
          <a:xfrm>
            <a:off x="768240" y="3740040"/>
            <a:ext cx="292320" cy="9781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Line 17"/>
          <p:cNvSpPr/>
          <p:nvPr/>
        </p:nvSpPr>
        <p:spPr>
          <a:xfrm>
            <a:off x="1371600" y="3587760"/>
            <a:ext cx="0" cy="11304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Line 18"/>
          <p:cNvSpPr/>
          <p:nvPr/>
        </p:nvSpPr>
        <p:spPr>
          <a:xfrm>
            <a:off x="2292480" y="1828800"/>
            <a:ext cx="672840" cy="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2456640" y="3110040"/>
            <a:ext cx="1182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 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Rectangle 20"/>
          <p:cNvSpPr/>
          <p:nvPr/>
        </p:nvSpPr>
        <p:spPr>
          <a:xfrm>
            <a:off x="3988080" y="3110040"/>
            <a:ext cx="101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Line 21"/>
          <p:cNvSpPr/>
          <p:nvPr/>
        </p:nvSpPr>
        <p:spPr>
          <a:xfrm>
            <a:off x="4419720" y="3587760"/>
            <a:ext cx="0" cy="4446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Line 22"/>
          <p:cNvSpPr/>
          <p:nvPr/>
        </p:nvSpPr>
        <p:spPr>
          <a:xfrm>
            <a:off x="4730760" y="3511440"/>
            <a:ext cx="444600" cy="5209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Rectangle 23"/>
          <p:cNvSpPr/>
          <p:nvPr/>
        </p:nvSpPr>
        <p:spPr>
          <a:xfrm>
            <a:off x="3807720" y="4100400"/>
            <a:ext cx="91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L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Rectangle 24"/>
          <p:cNvSpPr/>
          <p:nvPr/>
        </p:nvSpPr>
        <p:spPr>
          <a:xfrm>
            <a:off x="4862880" y="4100400"/>
            <a:ext cx="94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C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Line 25"/>
          <p:cNvSpPr/>
          <p:nvPr/>
        </p:nvSpPr>
        <p:spPr>
          <a:xfrm>
            <a:off x="4343400" y="4578480"/>
            <a:ext cx="0" cy="36828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Rectangle 26"/>
          <p:cNvSpPr/>
          <p:nvPr/>
        </p:nvSpPr>
        <p:spPr>
          <a:xfrm>
            <a:off x="2500920" y="5273640"/>
            <a:ext cx="2162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CASH FLOW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Line 27"/>
          <p:cNvSpPr/>
          <p:nvPr/>
        </p:nvSpPr>
        <p:spPr>
          <a:xfrm flipV="1">
            <a:off x="5797440" y="3879720"/>
            <a:ext cx="596880" cy="3175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Line 28"/>
          <p:cNvSpPr/>
          <p:nvPr/>
        </p:nvSpPr>
        <p:spPr>
          <a:xfrm>
            <a:off x="5797440" y="4425840"/>
            <a:ext cx="520920" cy="36828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Rectangle 29"/>
          <p:cNvSpPr/>
          <p:nvPr/>
        </p:nvSpPr>
        <p:spPr>
          <a:xfrm>
            <a:off x="6248160" y="3490920"/>
            <a:ext cx="15242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Venci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pres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Rectangle 30"/>
          <p:cNvSpPr/>
          <p:nvPr/>
        </p:nvSpPr>
        <p:spPr>
          <a:xfrm>
            <a:off x="6295320" y="4862520"/>
            <a:ext cx="97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íclic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Line 31"/>
          <p:cNvSpPr/>
          <p:nvPr/>
        </p:nvSpPr>
        <p:spPr>
          <a:xfrm>
            <a:off x="7854840" y="4038480"/>
            <a:ext cx="368280" cy="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Line 32"/>
          <p:cNvSpPr/>
          <p:nvPr/>
        </p:nvSpPr>
        <p:spPr>
          <a:xfrm>
            <a:off x="8229600" y="4044960"/>
            <a:ext cx="0" cy="13590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Line 33"/>
          <p:cNvSpPr/>
          <p:nvPr/>
        </p:nvSpPr>
        <p:spPr>
          <a:xfrm flipV="1">
            <a:off x="8229600" y="4032360"/>
            <a:ext cx="0" cy="1648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6656040" y="5425920"/>
            <a:ext cx="22341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REDUCCION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DE A.C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5" name="Rectangle 35"/>
          <p:cNvSpPr/>
          <p:nvPr/>
        </p:nvSpPr>
        <p:spPr>
          <a:xfrm>
            <a:off x="2356920" y="3719520"/>
            <a:ext cx="1383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vidend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Line 36"/>
          <p:cNvSpPr/>
          <p:nvPr/>
        </p:nvSpPr>
        <p:spPr>
          <a:xfrm>
            <a:off x="3124080" y="3511440"/>
            <a:ext cx="0" cy="21600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Line 37"/>
          <p:cNvSpPr/>
          <p:nvPr/>
        </p:nvSpPr>
        <p:spPr>
          <a:xfrm>
            <a:off x="3124080" y="4197240"/>
            <a:ext cx="0" cy="74952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ASH FLOW = BENEFICIO(Utilidad) + DEPRECIACION + PREVISION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INDICADOR DE PUNTUALIDAD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SH FLOW &gt; Dividendos + Vencimientos de Exigibles de L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ITAR PERDIDA DE ROTACION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(Concepto de rotación se ve más adelante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ITAR AUMENTAR EXPRESOS VS CICLIC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 CONCEPTO DE ROTACIO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 VENTAS/ACTIV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: Medida de la actividad de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: Medida del tamaño, de la invers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uego es una 1ª proxy a medir eficienci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unidad es “Rotaciones” (R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pretación: Cuantas veces “da vuelta” el activo.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 : 5R ----&gt; Año 2 : 3R ¡ARGGG!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ON DE AF VS AC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paro el ratio anterior en : Ventas / AF y Ventas / AC (porque AF y AC no necesariamente se mueven junto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 / AF es una  relación más bien técnica de dimensionamien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 / AC depende de la gestión del circulante y en particular de los client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rabajaremos más con V / AC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Eduardo Contreras Villablanca</cp:lastModifiedBy>
  <cp:lastPrinted>2002-11-13T13:47:55Z</cp:lastPrinted>
  <dcterms:modified xsi:type="dcterms:W3CDTF">2010-09-01T21:39:51Z</dcterms:modified>
  <cp:revision>369</cp:revision>
  <dc:subject/>
  <dc:title>Análisis Financiero</dc:title>
</cp:coreProperties>
</file>